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02F-C148-4ECF-B22B-173CE95B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3E1-AEE0-47FD-A14B-36CF4B54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9D7-4C08-4186-BAE4-0B3CAE93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1D10-E6D0-4350-906A-04CDCFE7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7CB0-9415-47A8-8515-27CE0A0A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ED1C-636F-4637-811E-F4CF067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E635-A6FA-4175-B19C-1E1447E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F888-90D6-488B-A0A5-1C9A2476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8093-8628-42FE-9665-4FFAE213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1E23-3109-4FC9-8332-4E48A789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9656-9441-4490-B356-162B25C1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138-5507-40FA-AA45-2E68F02B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119-6C2D-45EE-85F3-5A6064DC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86F5-076A-4B37-996B-2677A2B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FCAF-ADB1-4F1E-9122-ED4CFE4A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8837-ECEB-4226-B64C-4689D20E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7587-A013-440D-A5B0-0E2242B5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8FB-4865-49CC-AD90-D494D406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971-DD21-4E1C-8138-04AC88CD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206B-1057-484B-B877-7F61C0D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073-99CE-48BE-A1E5-623CCAB3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787B-29D3-4413-9B1C-D6EBA7AD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335-C34A-4064-895C-8EC618AF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EFF-A97D-4DAE-86BD-87D968A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57B-5179-472C-B937-3CF1BA4CBB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9DC1-F342-49A9-9AF1-2E4826C2DA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are you?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 am…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y name is…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Tag 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llo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Na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rvu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914400"/>
            <a:ext cx="1974960" cy="169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429000" y="106668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04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Formal or inf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trans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reetings/ goodbyes/ formal or inform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Wie geht’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Questions or answ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1523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72400" y="2590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3581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77240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5791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029760" y="446400"/>
            <a:ext cx="2981520" cy="2087280"/>
            <a:chOff x="3029760" y="446400"/>
            <a:chExt cx="2981520" cy="2087280"/>
          </a:xfrm>
        </p:grpSpPr>
        <p:sp>
          <p:nvSpPr>
            <p:cNvPr id="245" name=""/>
            <p:cNvSpPr/>
            <p:nvPr/>
          </p:nvSpPr>
          <p:spPr>
            <a:xfrm>
              <a:off x="5060880" y="1189800"/>
              <a:ext cx="550440" cy="521640"/>
            </a:xfrm>
            <a:custGeom>
              <a:avLst/>
              <a:gdLst/>
              <a:ahLst/>
              <a:rect l="l" t="t" r="r" b="b"/>
              <a:pathLst>
                <a:path w="656" h="540">
                  <a:moveTo>
                    <a:pt x="433" y="0"/>
                  </a:moveTo>
                  <a:lnTo>
                    <a:pt x="433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03" y="10"/>
                  </a:lnTo>
                  <a:lnTo>
                    <a:pt x="394" y="29"/>
                  </a:lnTo>
                  <a:lnTo>
                    <a:pt x="384" y="58"/>
                  </a:lnTo>
                  <a:lnTo>
                    <a:pt x="360" y="141"/>
                  </a:lnTo>
                  <a:lnTo>
                    <a:pt x="326" y="243"/>
                  </a:lnTo>
                  <a:lnTo>
                    <a:pt x="326" y="243"/>
                  </a:lnTo>
                  <a:lnTo>
                    <a:pt x="311" y="277"/>
                  </a:lnTo>
                  <a:lnTo>
                    <a:pt x="287" y="307"/>
                  </a:lnTo>
                  <a:lnTo>
                    <a:pt x="253" y="331"/>
                  </a:lnTo>
                  <a:lnTo>
                    <a:pt x="219" y="350"/>
                  </a:lnTo>
                  <a:lnTo>
                    <a:pt x="185" y="365"/>
                  </a:lnTo>
                  <a:lnTo>
                    <a:pt x="146" y="375"/>
                  </a:lnTo>
                  <a:lnTo>
                    <a:pt x="112" y="375"/>
                  </a:lnTo>
                  <a:lnTo>
                    <a:pt x="77" y="370"/>
                  </a:lnTo>
                  <a:lnTo>
                    <a:pt x="77" y="370"/>
                  </a:lnTo>
                  <a:lnTo>
                    <a:pt x="68" y="365"/>
                  </a:lnTo>
                  <a:lnTo>
                    <a:pt x="58" y="370"/>
                  </a:lnTo>
                  <a:lnTo>
                    <a:pt x="43" y="389"/>
                  </a:lnTo>
                  <a:lnTo>
                    <a:pt x="29" y="414"/>
                  </a:lnTo>
                  <a:lnTo>
                    <a:pt x="19" y="448"/>
                  </a:lnTo>
                  <a:lnTo>
                    <a:pt x="5" y="511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34" y="540"/>
                  </a:lnTo>
                  <a:lnTo>
                    <a:pt x="116" y="535"/>
                  </a:lnTo>
                  <a:lnTo>
                    <a:pt x="170" y="530"/>
                  </a:lnTo>
                  <a:lnTo>
                    <a:pt x="228" y="521"/>
                  </a:lnTo>
                  <a:lnTo>
                    <a:pt x="287" y="506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5" y="472"/>
                  </a:lnTo>
                  <a:lnTo>
                    <a:pt x="389" y="452"/>
                  </a:lnTo>
                  <a:lnTo>
                    <a:pt x="438" y="404"/>
                  </a:lnTo>
                  <a:lnTo>
                    <a:pt x="481" y="345"/>
                  </a:lnTo>
                  <a:lnTo>
                    <a:pt x="530" y="277"/>
                  </a:lnTo>
                  <a:lnTo>
                    <a:pt x="569" y="209"/>
                  </a:lnTo>
                  <a:lnTo>
                    <a:pt x="608" y="141"/>
                  </a:lnTo>
                  <a:lnTo>
                    <a:pt x="656" y="29"/>
                  </a:lnTo>
                  <a:lnTo>
                    <a:pt x="656" y="29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37" y="19"/>
                  </a:lnTo>
                  <a:lnTo>
                    <a:pt x="583" y="19"/>
                  </a:lnTo>
                  <a:lnTo>
                    <a:pt x="506" y="29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78760" y="115200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62920" y="1133640"/>
              <a:ext cx="269280" cy="225000"/>
            </a:xfrm>
            <a:custGeom>
              <a:avLst/>
              <a:gdLst/>
              <a:ahLst/>
              <a:rect l="l" t="t" r="r" b="b"/>
              <a:pathLst>
                <a:path w="321" h="233">
                  <a:moveTo>
                    <a:pt x="5" y="48"/>
                  </a:moveTo>
                  <a:lnTo>
                    <a:pt x="5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0" y="9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9" y="136"/>
                  </a:lnTo>
                  <a:lnTo>
                    <a:pt x="43" y="165"/>
                  </a:lnTo>
                  <a:lnTo>
                    <a:pt x="78" y="189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51" y="223"/>
                  </a:lnTo>
                  <a:lnTo>
                    <a:pt x="180" y="233"/>
                  </a:lnTo>
                  <a:lnTo>
                    <a:pt x="209" y="233"/>
                  </a:lnTo>
                  <a:lnTo>
                    <a:pt x="238" y="233"/>
                  </a:lnTo>
                  <a:lnTo>
                    <a:pt x="262" y="228"/>
                  </a:lnTo>
                  <a:lnTo>
                    <a:pt x="287" y="219"/>
                  </a:lnTo>
                  <a:lnTo>
                    <a:pt x="301" y="204"/>
                  </a:lnTo>
                  <a:lnTo>
                    <a:pt x="316" y="189"/>
                  </a:lnTo>
                  <a:lnTo>
                    <a:pt x="316" y="189"/>
                  </a:lnTo>
                  <a:lnTo>
                    <a:pt x="321" y="175"/>
                  </a:lnTo>
                  <a:lnTo>
                    <a:pt x="321" y="160"/>
                  </a:lnTo>
                  <a:lnTo>
                    <a:pt x="321" y="146"/>
                  </a:lnTo>
                  <a:lnTo>
                    <a:pt x="316" y="126"/>
                  </a:lnTo>
                  <a:lnTo>
                    <a:pt x="316" y="126"/>
                  </a:lnTo>
                  <a:lnTo>
                    <a:pt x="301" y="97"/>
                  </a:lnTo>
                  <a:lnTo>
                    <a:pt x="277" y="68"/>
                  </a:lnTo>
                  <a:lnTo>
                    <a:pt x="243" y="43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175" y="9"/>
                  </a:lnTo>
                  <a:lnTo>
                    <a:pt x="141" y="4"/>
                  </a:lnTo>
                  <a:lnTo>
                    <a:pt x="112" y="0"/>
                  </a:lnTo>
                  <a:lnTo>
                    <a:pt x="82" y="0"/>
                  </a:lnTo>
                  <a:lnTo>
                    <a:pt x="58" y="4"/>
                  </a:lnTo>
                  <a:lnTo>
                    <a:pt x="39" y="14"/>
                  </a:lnTo>
                  <a:lnTo>
                    <a:pt x="19" y="29"/>
                  </a:lnTo>
                  <a:lnTo>
                    <a:pt x="5" y="48"/>
                  </a:lnTo>
                  <a:lnTo>
                    <a:pt x="5" y="48"/>
                  </a:lnTo>
                  <a:close/>
                  <a:moveTo>
                    <a:pt x="189" y="58"/>
                  </a:moveTo>
                  <a:lnTo>
                    <a:pt x="189" y="58"/>
                  </a:lnTo>
                  <a:lnTo>
                    <a:pt x="223" y="77"/>
                  </a:lnTo>
                  <a:lnTo>
                    <a:pt x="248" y="97"/>
                  </a:lnTo>
                  <a:lnTo>
                    <a:pt x="267" y="116"/>
                  </a:lnTo>
                  <a:lnTo>
                    <a:pt x="282" y="141"/>
                  </a:lnTo>
                  <a:lnTo>
                    <a:pt x="282" y="141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165"/>
                  </a:lnTo>
                  <a:lnTo>
                    <a:pt x="282" y="170"/>
                  </a:lnTo>
                  <a:lnTo>
                    <a:pt x="282" y="170"/>
                  </a:lnTo>
                  <a:lnTo>
                    <a:pt x="272" y="180"/>
                  </a:lnTo>
                  <a:lnTo>
                    <a:pt x="262" y="189"/>
                  </a:lnTo>
                  <a:lnTo>
                    <a:pt x="248" y="194"/>
                  </a:lnTo>
                  <a:lnTo>
                    <a:pt x="228" y="194"/>
                  </a:lnTo>
                  <a:lnTo>
                    <a:pt x="209" y="194"/>
                  </a:lnTo>
                  <a:lnTo>
                    <a:pt x="185" y="194"/>
                  </a:lnTo>
                  <a:lnTo>
                    <a:pt x="160" y="184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02" y="160"/>
                  </a:lnTo>
                  <a:lnTo>
                    <a:pt x="73" y="141"/>
                  </a:lnTo>
                  <a:lnTo>
                    <a:pt x="53" y="116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39" y="77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8" y="53"/>
                  </a:lnTo>
                  <a:lnTo>
                    <a:pt x="63" y="43"/>
                  </a:lnTo>
                  <a:lnTo>
                    <a:pt x="78" y="38"/>
                  </a:lnTo>
                  <a:lnTo>
                    <a:pt x="97" y="38"/>
                  </a:lnTo>
                  <a:lnTo>
                    <a:pt x="116" y="38"/>
                  </a:lnTo>
                  <a:lnTo>
                    <a:pt x="141" y="43"/>
                  </a:lnTo>
                  <a:lnTo>
                    <a:pt x="165" y="48"/>
                  </a:lnTo>
                  <a:lnTo>
                    <a:pt x="189" y="58"/>
                  </a:lnTo>
                  <a:lnTo>
                    <a:pt x="1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78760" y="115200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1520" y="46584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95680" y="446400"/>
              <a:ext cx="615600" cy="851040"/>
            </a:xfrm>
            <a:custGeom>
              <a:avLst/>
              <a:gdLst/>
              <a:ahLst/>
              <a:rect l="l" t="t" r="r" b="b"/>
              <a:pathLst>
                <a:path w="734" h="881">
                  <a:moveTo>
                    <a:pt x="243" y="0"/>
                  </a:moveTo>
                  <a:lnTo>
                    <a:pt x="243" y="0"/>
                  </a:lnTo>
                  <a:lnTo>
                    <a:pt x="223" y="5"/>
                  </a:lnTo>
                  <a:lnTo>
                    <a:pt x="209" y="10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78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9" y="175"/>
                  </a:lnTo>
                  <a:lnTo>
                    <a:pt x="199" y="224"/>
                  </a:lnTo>
                  <a:lnTo>
                    <a:pt x="199" y="224"/>
                  </a:lnTo>
                  <a:lnTo>
                    <a:pt x="189" y="248"/>
                  </a:lnTo>
                  <a:lnTo>
                    <a:pt x="184" y="268"/>
                  </a:lnTo>
                  <a:lnTo>
                    <a:pt x="170" y="287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02" y="360"/>
                  </a:lnTo>
                  <a:lnTo>
                    <a:pt x="63" y="414"/>
                  </a:lnTo>
                  <a:lnTo>
                    <a:pt x="43" y="443"/>
                  </a:lnTo>
                  <a:lnTo>
                    <a:pt x="29" y="472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0" y="6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745"/>
                  </a:lnTo>
                  <a:lnTo>
                    <a:pt x="9" y="779"/>
                  </a:lnTo>
                  <a:lnTo>
                    <a:pt x="19" y="798"/>
                  </a:lnTo>
                  <a:lnTo>
                    <a:pt x="29" y="813"/>
                  </a:lnTo>
                  <a:lnTo>
                    <a:pt x="43" y="827"/>
                  </a:lnTo>
                  <a:lnTo>
                    <a:pt x="63" y="837"/>
                  </a:lnTo>
                  <a:lnTo>
                    <a:pt x="82" y="847"/>
                  </a:lnTo>
                  <a:lnTo>
                    <a:pt x="82" y="847"/>
                  </a:lnTo>
                  <a:lnTo>
                    <a:pt x="141" y="871"/>
                  </a:lnTo>
                  <a:lnTo>
                    <a:pt x="170" y="876"/>
                  </a:lnTo>
                  <a:lnTo>
                    <a:pt x="199" y="881"/>
                  </a:lnTo>
                  <a:lnTo>
                    <a:pt x="199" y="881"/>
                  </a:lnTo>
                  <a:lnTo>
                    <a:pt x="233" y="876"/>
                  </a:lnTo>
                  <a:lnTo>
                    <a:pt x="233" y="876"/>
                  </a:lnTo>
                  <a:lnTo>
                    <a:pt x="267" y="871"/>
                  </a:lnTo>
                  <a:lnTo>
                    <a:pt x="267" y="871"/>
                  </a:lnTo>
                  <a:lnTo>
                    <a:pt x="360" y="881"/>
                  </a:lnTo>
                  <a:lnTo>
                    <a:pt x="360" y="881"/>
                  </a:lnTo>
                  <a:lnTo>
                    <a:pt x="408" y="881"/>
                  </a:lnTo>
                  <a:lnTo>
                    <a:pt x="462" y="876"/>
                  </a:lnTo>
                  <a:lnTo>
                    <a:pt x="520" y="871"/>
                  </a:lnTo>
                  <a:lnTo>
                    <a:pt x="545" y="861"/>
                  </a:lnTo>
                  <a:lnTo>
                    <a:pt x="569" y="852"/>
                  </a:lnTo>
                  <a:lnTo>
                    <a:pt x="569" y="852"/>
                  </a:lnTo>
                  <a:lnTo>
                    <a:pt x="588" y="832"/>
                  </a:lnTo>
                  <a:lnTo>
                    <a:pt x="603" y="818"/>
                  </a:lnTo>
                  <a:lnTo>
                    <a:pt x="613" y="803"/>
                  </a:lnTo>
                  <a:lnTo>
                    <a:pt x="618" y="788"/>
                  </a:lnTo>
                  <a:lnTo>
                    <a:pt x="618" y="788"/>
                  </a:lnTo>
                  <a:lnTo>
                    <a:pt x="618" y="784"/>
                  </a:lnTo>
                  <a:lnTo>
                    <a:pt x="618" y="784"/>
                  </a:lnTo>
                  <a:lnTo>
                    <a:pt x="622" y="784"/>
                  </a:lnTo>
                  <a:lnTo>
                    <a:pt x="622" y="784"/>
                  </a:lnTo>
                  <a:lnTo>
                    <a:pt x="632" y="784"/>
                  </a:lnTo>
                  <a:lnTo>
                    <a:pt x="642" y="779"/>
                  </a:lnTo>
                  <a:lnTo>
                    <a:pt x="661" y="759"/>
                  </a:lnTo>
                  <a:lnTo>
                    <a:pt x="676" y="730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686"/>
                  </a:lnTo>
                  <a:lnTo>
                    <a:pt x="676" y="667"/>
                  </a:lnTo>
                  <a:lnTo>
                    <a:pt x="676" y="667"/>
                  </a:lnTo>
                  <a:lnTo>
                    <a:pt x="690" y="657"/>
                  </a:lnTo>
                  <a:lnTo>
                    <a:pt x="700" y="647"/>
                  </a:lnTo>
                  <a:lnTo>
                    <a:pt x="710" y="628"/>
                  </a:lnTo>
                  <a:lnTo>
                    <a:pt x="715" y="608"/>
                  </a:lnTo>
                  <a:lnTo>
                    <a:pt x="715" y="608"/>
                  </a:lnTo>
                  <a:lnTo>
                    <a:pt x="720" y="608"/>
                  </a:lnTo>
                  <a:lnTo>
                    <a:pt x="720" y="608"/>
                  </a:lnTo>
                  <a:lnTo>
                    <a:pt x="720" y="589"/>
                  </a:lnTo>
                  <a:lnTo>
                    <a:pt x="715" y="565"/>
                  </a:lnTo>
                  <a:lnTo>
                    <a:pt x="705" y="531"/>
                  </a:lnTo>
                  <a:lnTo>
                    <a:pt x="705" y="531"/>
                  </a:lnTo>
                  <a:lnTo>
                    <a:pt x="715" y="516"/>
                  </a:lnTo>
                  <a:lnTo>
                    <a:pt x="725" y="501"/>
                  </a:lnTo>
                  <a:lnTo>
                    <a:pt x="725" y="501"/>
                  </a:lnTo>
                  <a:lnTo>
                    <a:pt x="734" y="482"/>
                  </a:lnTo>
                  <a:lnTo>
                    <a:pt x="734" y="482"/>
                  </a:lnTo>
                  <a:lnTo>
                    <a:pt x="734" y="467"/>
                  </a:lnTo>
                  <a:lnTo>
                    <a:pt x="729" y="453"/>
                  </a:lnTo>
                  <a:lnTo>
                    <a:pt x="710" y="428"/>
                  </a:lnTo>
                  <a:lnTo>
                    <a:pt x="690" y="409"/>
                  </a:lnTo>
                  <a:lnTo>
                    <a:pt x="671" y="394"/>
                  </a:lnTo>
                  <a:lnTo>
                    <a:pt x="671" y="394"/>
                  </a:lnTo>
                  <a:lnTo>
                    <a:pt x="637" y="375"/>
                  </a:lnTo>
                  <a:lnTo>
                    <a:pt x="608" y="360"/>
                  </a:lnTo>
                  <a:lnTo>
                    <a:pt x="540" y="341"/>
                  </a:lnTo>
                  <a:lnTo>
                    <a:pt x="491" y="326"/>
                  </a:lnTo>
                  <a:lnTo>
                    <a:pt x="491" y="326"/>
                  </a:lnTo>
                  <a:lnTo>
                    <a:pt x="462" y="321"/>
                  </a:lnTo>
                  <a:lnTo>
                    <a:pt x="423" y="316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389" y="312"/>
                  </a:lnTo>
                  <a:lnTo>
                    <a:pt x="379" y="307"/>
                  </a:lnTo>
                  <a:lnTo>
                    <a:pt x="369" y="307"/>
                  </a:lnTo>
                  <a:lnTo>
                    <a:pt x="369" y="307"/>
                  </a:lnTo>
                  <a:lnTo>
                    <a:pt x="369" y="292"/>
                  </a:lnTo>
                  <a:lnTo>
                    <a:pt x="379" y="273"/>
                  </a:lnTo>
                  <a:lnTo>
                    <a:pt x="379" y="273"/>
                  </a:lnTo>
                  <a:lnTo>
                    <a:pt x="389" y="253"/>
                  </a:lnTo>
                  <a:lnTo>
                    <a:pt x="394" y="224"/>
                  </a:lnTo>
                  <a:lnTo>
                    <a:pt x="399" y="185"/>
                  </a:lnTo>
                  <a:lnTo>
                    <a:pt x="389" y="136"/>
                  </a:lnTo>
                  <a:lnTo>
                    <a:pt x="389" y="136"/>
                  </a:lnTo>
                  <a:lnTo>
                    <a:pt x="374" y="107"/>
                  </a:lnTo>
                  <a:lnTo>
                    <a:pt x="360" y="78"/>
                  </a:lnTo>
                  <a:lnTo>
                    <a:pt x="340" y="54"/>
                  </a:lnTo>
                  <a:lnTo>
                    <a:pt x="321" y="34"/>
                  </a:lnTo>
                  <a:lnTo>
                    <a:pt x="301" y="15"/>
                  </a:lnTo>
                  <a:lnTo>
                    <a:pt x="282" y="5"/>
                  </a:lnTo>
                  <a:lnTo>
                    <a:pt x="262" y="0"/>
                  </a:lnTo>
                  <a:lnTo>
                    <a:pt x="243" y="0"/>
                  </a:lnTo>
                  <a:lnTo>
                    <a:pt x="243" y="0"/>
                  </a:lnTo>
                  <a:close/>
                  <a:moveTo>
                    <a:pt x="403" y="355"/>
                  </a:moveTo>
                  <a:lnTo>
                    <a:pt x="418" y="355"/>
                  </a:lnTo>
                  <a:lnTo>
                    <a:pt x="418" y="355"/>
                  </a:lnTo>
                  <a:lnTo>
                    <a:pt x="452" y="360"/>
                  </a:lnTo>
                  <a:lnTo>
                    <a:pt x="481" y="365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93" y="399"/>
                  </a:lnTo>
                  <a:lnTo>
                    <a:pt x="622" y="409"/>
                  </a:lnTo>
                  <a:lnTo>
                    <a:pt x="647" y="423"/>
                  </a:lnTo>
                  <a:lnTo>
                    <a:pt x="647" y="423"/>
                  </a:lnTo>
                  <a:lnTo>
                    <a:pt x="671" y="443"/>
                  </a:lnTo>
                  <a:lnTo>
                    <a:pt x="686" y="458"/>
                  </a:lnTo>
                  <a:lnTo>
                    <a:pt x="690" y="467"/>
                  </a:lnTo>
                  <a:lnTo>
                    <a:pt x="695" y="477"/>
                  </a:lnTo>
                  <a:lnTo>
                    <a:pt x="695" y="477"/>
                  </a:lnTo>
                  <a:lnTo>
                    <a:pt x="690" y="482"/>
                  </a:lnTo>
                  <a:lnTo>
                    <a:pt x="690" y="482"/>
                  </a:lnTo>
                  <a:lnTo>
                    <a:pt x="676" y="501"/>
                  </a:lnTo>
                  <a:lnTo>
                    <a:pt x="671" y="506"/>
                  </a:lnTo>
                  <a:lnTo>
                    <a:pt x="652" y="516"/>
                  </a:lnTo>
                  <a:lnTo>
                    <a:pt x="661" y="531"/>
                  </a:lnTo>
                  <a:lnTo>
                    <a:pt x="661" y="531"/>
                  </a:lnTo>
                  <a:lnTo>
                    <a:pt x="676" y="565"/>
                  </a:lnTo>
                  <a:lnTo>
                    <a:pt x="681" y="58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76" y="618"/>
                  </a:lnTo>
                  <a:lnTo>
                    <a:pt x="666" y="623"/>
                  </a:lnTo>
                  <a:lnTo>
                    <a:pt x="656" y="633"/>
                  </a:lnTo>
                  <a:lnTo>
                    <a:pt x="656" y="633"/>
                  </a:lnTo>
                  <a:lnTo>
                    <a:pt x="642" y="633"/>
                  </a:lnTo>
                  <a:lnTo>
                    <a:pt x="632" y="638"/>
                  </a:lnTo>
                  <a:lnTo>
                    <a:pt x="627" y="642"/>
                  </a:lnTo>
                  <a:lnTo>
                    <a:pt x="622" y="652"/>
                  </a:lnTo>
                  <a:lnTo>
                    <a:pt x="622" y="662"/>
                  </a:lnTo>
                  <a:lnTo>
                    <a:pt x="632" y="672"/>
                  </a:lnTo>
                  <a:lnTo>
                    <a:pt x="632" y="672"/>
                  </a:lnTo>
                  <a:lnTo>
                    <a:pt x="642" y="686"/>
                  </a:lnTo>
                  <a:lnTo>
                    <a:pt x="647" y="696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2" y="715"/>
                  </a:lnTo>
                  <a:lnTo>
                    <a:pt x="632" y="730"/>
                  </a:lnTo>
                  <a:lnTo>
                    <a:pt x="618" y="745"/>
                  </a:lnTo>
                  <a:lnTo>
                    <a:pt x="618" y="745"/>
                  </a:lnTo>
                  <a:lnTo>
                    <a:pt x="593" y="749"/>
                  </a:lnTo>
                  <a:lnTo>
                    <a:pt x="569" y="749"/>
                  </a:lnTo>
                  <a:lnTo>
                    <a:pt x="579" y="774"/>
                  </a:lnTo>
                  <a:lnTo>
                    <a:pt x="579" y="774"/>
                  </a:lnTo>
                  <a:lnTo>
                    <a:pt x="579" y="779"/>
                  </a:lnTo>
                  <a:lnTo>
                    <a:pt x="579" y="779"/>
                  </a:lnTo>
                  <a:lnTo>
                    <a:pt x="569" y="798"/>
                  </a:lnTo>
                  <a:lnTo>
                    <a:pt x="559" y="808"/>
                  </a:lnTo>
                  <a:lnTo>
                    <a:pt x="549" y="818"/>
                  </a:lnTo>
                  <a:lnTo>
                    <a:pt x="549" y="818"/>
                  </a:lnTo>
                  <a:lnTo>
                    <a:pt x="525" y="827"/>
                  </a:lnTo>
                  <a:lnTo>
                    <a:pt x="506" y="832"/>
                  </a:lnTo>
                  <a:lnTo>
                    <a:pt x="452" y="842"/>
                  </a:lnTo>
                  <a:lnTo>
                    <a:pt x="399" y="842"/>
                  </a:lnTo>
                  <a:lnTo>
                    <a:pt x="360" y="842"/>
                  </a:lnTo>
                  <a:lnTo>
                    <a:pt x="360" y="842"/>
                  </a:lnTo>
                  <a:lnTo>
                    <a:pt x="272" y="832"/>
                  </a:lnTo>
                  <a:lnTo>
                    <a:pt x="272" y="832"/>
                  </a:lnTo>
                  <a:lnTo>
                    <a:pt x="253" y="832"/>
                  </a:lnTo>
                  <a:lnTo>
                    <a:pt x="228" y="837"/>
                  </a:lnTo>
                  <a:lnTo>
                    <a:pt x="228" y="837"/>
                  </a:lnTo>
                  <a:lnTo>
                    <a:pt x="199" y="842"/>
                  </a:lnTo>
                  <a:lnTo>
                    <a:pt x="199" y="842"/>
                  </a:lnTo>
                  <a:lnTo>
                    <a:pt x="175" y="837"/>
                  </a:lnTo>
                  <a:lnTo>
                    <a:pt x="150" y="832"/>
                  </a:lnTo>
                  <a:lnTo>
                    <a:pt x="97" y="808"/>
                  </a:lnTo>
                  <a:lnTo>
                    <a:pt x="82" y="803"/>
                  </a:lnTo>
                  <a:lnTo>
                    <a:pt x="82" y="803"/>
                  </a:lnTo>
                  <a:lnTo>
                    <a:pt x="58" y="788"/>
                  </a:lnTo>
                  <a:lnTo>
                    <a:pt x="48" y="769"/>
                  </a:lnTo>
                  <a:lnTo>
                    <a:pt x="39" y="740"/>
                  </a:lnTo>
                  <a:lnTo>
                    <a:pt x="39" y="711"/>
                  </a:lnTo>
                  <a:lnTo>
                    <a:pt x="39" y="711"/>
                  </a:lnTo>
                  <a:lnTo>
                    <a:pt x="39" y="623"/>
                  </a:lnTo>
                  <a:lnTo>
                    <a:pt x="43" y="555"/>
                  </a:lnTo>
                  <a:lnTo>
                    <a:pt x="43" y="555"/>
                  </a:lnTo>
                  <a:lnTo>
                    <a:pt x="68" y="487"/>
                  </a:lnTo>
                  <a:lnTo>
                    <a:pt x="97" y="433"/>
                  </a:lnTo>
                  <a:lnTo>
                    <a:pt x="136" y="385"/>
                  </a:lnTo>
                  <a:lnTo>
                    <a:pt x="184" y="336"/>
                  </a:lnTo>
                  <a:lnTo>
                    <a:pt x="184" y="336"/>
                  </a:lnTo>
                  <a:lnTo>
                    <a:pt x="189" y="331"/>
                  </a:lnTo>
                  <a:lnTo>
                    <a:pt x="189" y="331"/>
                  </a:lnTo>
                  <a:lnTo>
                    <a:pt x="204" y="312"/>
                  </a:lnTo>
                  <a:lnTo>
                    <a:pt x="219" y="287"/>
                  </a:lnTo>
                  <a:lnTo>
                    <a:pt x="228" y="258"/>
                  </a:lnTo>
                  <a:lnTo>
                    <a:pt x="233" y="229"/>
                  </a:lnTo>
                  <a:lnTo>
                    <a:pt x="233" y="229"/>
                  </a:lnTo>
                  <a:lnTo>
                    <a:pt x="238" y="175"/>
                  </a:lnTo>
                  <a:lnTo>
                    <a:pt x="233" y="112"/>
                  </a:lnTo>
                  <a:lnTo>
                    <a:pt x="233" y="112"/>
                  </a:lnTo>
                  <a:lnTo>
                    <a:pt x="228" y="73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33" y="44"/>
                  </a:lnTo>
                  <a:lnTo>
                    <a:pt x="233" y="44"/>
                  </a:lnTo>
                  <a:lnTo>
                    <a:pt x="238" y="44"/>
                  </a:lnTo>
                  <a:lnTo>
                    <a:pt x="248" y="39"/>
                  </a:lnTo>
                  <a:lnTo>
                    <a:pt x="248" y="39"/>
                  </a:lnTo>
                  <a:lnTo>
                    <a:pt x="257" y="39"/>
                  </a:lnTo>
                  <a:lnTo>
                    <a:pt x="272" y="44"/>
                  </a:lnTo>
                  <a:lnTo>
                    <a:pt x="296" y="63"/>
                  </a:lnTo>
                  <a:lnTo>
                    <a:pt x="311" y="78"/>
                  </a:lnTo>
                  <a:lnTo>
                    <a:pt x="326" y="97"/>
                  </a:lnTo>
                  <a:lnTo>
                    <a:pt x="340" y="122"/>
                  </a:lnTo>
                  <a:lnTo>
                    <a:pt x="350" y="151"/>
                  </a:lnTo>
                  <a:lnTo>
                    <a:pt x="350" y="151"/>
                  </a:lnTo>
                  <a:lnTo>
                    <a:pt x="360" y="190"/>
                  </a:lnTo>
                  <a:lnTo>
                    <a:pt x="355" y="214"/>
                  </a:lnTo>
                  <a:lnTo>
                    <a:pt x="350" y="239"/>
                  </a:lnTo>
                  <a:lnTo>
                    <a:pt x="345" y="253"/>
                  </a:lnTo>
                  <a:lnTo>
                    <a:pt x="330" y="277"/>
                  </a:lnTo>
                  <a:lnTo>
                    <a:pt x="330" y="277"/>
                  </a:lnTo>
                  <a:lnTo>
                    <a:pt x="330" y="307"/>
                  </a:lnTo>
                  <a:lnTo>
                    <a:pt x="340" y="326"/>
                  </a:lnTo>
                  <a:lnTo>
                    <a:pt x="340" y="326"/>
                  </a:lnTo>
                  <a:lnTo>
                    <a:pt x="355" y="341"/>
                  </a:lnTo>
                  <a:lnTo>
                    <a:pt x="369" y="346"/>
                  </a:lnTo>
                  <a:lnTo>
                    <a:pt x="403" y="355"/>
                  </a:lnTo>
                  <a:lnTo>
                    <a:pt x="403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11520" y="46584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09600" y="831960"/>
              <a:ext cx="285840" cy="14112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341" y="73"/>
                  </a:moveTo>
                  <a:lnTo>
                    <a:pt x="341" y="73"/>
                  </a:lnTo>
                  <a:lnTo>
                    <a:pt x="341" y="83"/>
                  </a:lnTo>
                  <a:lnTo>
                    <a:pt x="336" y="97"/>
                  </a:lnTo>
                  <a:lnTo>
                    <a:pt x="326" y="112"/>
                  </a:lnTo>
                  <a:lnTo>
                    <a:pt x="312" y="117"/>
                  </a:lnTo>
                  <a:lnTo>
                    <a:pt x="292" y="127"/>
                  </a:lnTo>
                  <a:lnTo>
                    <a:pt x="268" y="132"/>
                  </a:lnTo>
                  <a:lnTo>
                    <a:pt x="268" y="132"/>
                  </a:lnTo>
                  <a:lnTo>
                    <a:pt x="205" y="136"/>
                  </a:lnTo>
                  <a:lnTo>
                    <a:pt x="151" y="136"/>
                  </a:lnTo>
                  <a:lnTo>
                    <a:pt x="102" y="127"/>
                  </a:lnTo>
                  <a:lnTo>
                    <a:pt x="78" y="117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39" y="93"/>
                  </a:lnTo>
                  <a:lnTo>
                    <a:pt x="29" y="78"/>
                  </a:lnTo>
                  <a:lnTo>
                    <a:pt x="25" y="63"/>
                  </a:lnTo>
                  <a:lnTo>
                    <a:pt x="25" y="49"/>
                  </a:lnTo>
                  <a:lnTo>
                    <a:pt x="29" y="39"/>
                  </a:lnTo>
                  <a:lnTo>
                    <a:pt x="39" y="24"/>
                  </a:lnTo>
                  <a:lnTo>
                    <a:pt x="49" y="20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136" y="5"/>
                  </a:lnTo>
                  <a:lnTo>
                    <a:pt x="190" y="5"/>
                  </a:lnTo>
                  <a:lnTo>
                    <a:pt x="190" y="5"/>
                  </a:lnTo>
                  <a:lnTo>
                    <a:pt x="175" y="0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3" y="0"/>
                  </a:lnTo>
                  <a:lnTo>
                    <a:pt x="54" y="1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5" y="34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78"/>
                  </a:lnTo>
                  <a:lnTo>
                    <a:pt x="15" y="93"/>
                  </a:lnTo>
                  <a:lnTo>
                    <a:pt x="34" y="107"/>
                  </a:lnTo>
                  <a:lnTo>
                    <a:pt x="63" y="12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161" y="146"/>
                  </a:lnTo>
                  <a:lnTo>
                    <a:pt x="205" y="146"/>
                  </a:lnTo>
                  <a:lnTo>
                    <a:pt x="244" y="141"/>
                  </a:lnTo>
                  <a:lnTo>
                    <a:pt x="278" y="136"/>
                  </a:lnTo>
                  <a:lnTo>
                    <a:pt x="278" y="136"/>
                  </a:lnTo>
                  <a:lnTo>
                    <a:pt x="312" y="127"/>
                  </a:lnTo>
                  <a:lnTo>
                    <a:pt x="331" y="117"/>
                  </a:lnTo>
                  <a:lnTo>
                    <a:pt x="341" y="107"/>
                  </a:lnTo>
                  <a:lnTo>
                    <a:pt x="341" y="102"/>
                  </a:lnTo>
                  <a:lnTo>
                    <a:pt x="341" y="102"/>
                  </a:lnTo>
                  <a:lnTo>
                    <a:pt x="341" y="83"/>
                  </a:lnTo>
                  <a:lnTo>
                    <a:pt x="341" y="73"/>
                  </a:lnTo>
                  <a:lnTo>
                    <a:pt x="34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76840" y="954720"/>
              <a:ext cx="261720" cy="136080"/>
            </a:xfrm>
            <a:custGeom>
              <a:avLst/>
              <a:gdLst/>
              <a:ahLst/>
              <a:rect l="l" t="t" r="r" b="b"/>
              <a:pathLst>
                <a:path w="312" h="141">
                  <a:moveTo>
                    <a:pt x="312" y="126"/>
                  </a:moveTo>
                  <a:lnTo>
                    <a:pt x="312" y="126"/>
                  </a:lnTo>
                  <a:lnTo>
                    <a:pt x="287" y="126"/>
                  </a:lnTo>
                  <a:lnTo>
                    <a:pt x="219" y="131"/>
                  </a:lnTo>
                  <a:lnTo>
                    <a:pt x="137" y="126"/>
                  </a:lnTo>
                  <a:lnTo>
                    <a:pt x="102" y="116"/>
                  </a:lnTo>
                  <a:lnTo>
                    <a:pt x="68" y="107"/>
                  </a:lnTo>
                  <a:lnTo>
                    <a:pt x="68" y="107"/>
                  </a:lnTo>
                  <a:lnTo>
                    <a:pt x="49" y="92"/>
                  </a:lnTo>
                  <a:lnTo>
                    <a:pt x="30" y="78"/>
                  </a:lnTo>
                  <a:lnTo>
                    <a:pt x="20" y="68"/>
                  </a:lnTo>
                  <a:lnTo>
                    <a:pt x="15" y="53"/>
                  </a:lnTo>
                  <a:lnTo>
                    <a:pt x="15" y="39"/>
                  </a:lnTo>
                  <a:lnTo>
                    <a:pt x="20" y="29"/>
                  </a:lnTo>
                  <a:lnTo>
                    <a:pt x="30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34" y="9"/>
                  </a:lnTo>
                  <a:lnTo>
                    <a:pt x="20" y="14"/>
                  </a:lnTo>
                  <a:lnTo>
                    <a:pt x="10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78"/>
                  </a:lnTo>
                  <a:lnTo>
                    <a:pt x="30" y="97"/>
                  </a:lnTo>
                  <a:lnTo>
                    <a:pt x="59" y="11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12" y="136"/>
                  </a:lnTo>
                  <a:lnTo>
                    <a:pt x="141" y="136"/>
                  </a:lnTo>
                  <a:lnTo>
                    <a:pt x="210" y="141"/>
                  </a:lnTo>
                  <a:lnTo>
                    <a:pt x="278" y="136"/>
                  </a:lnTo>
                  <a:lnTo>
                    <a:pt x="302" y="131"/>
                  </a:lnTo>
                  <a:lnTo>
                    <a:pt x="312" y="126"/>
                  </a:lnTo>
                  <a:lnTo>
                    <a:pt x="3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64960" y="1048680"/>
              <a:ext cx="269280" cy="15912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9" y="0"/>
                  </a:moveTo>
                  <a:lnTo>
                    <a:pt x="29" y="0"/>
                  </a:lnTo>
                  <a:lnTo>
                    <a:pt x="19" y="5"/>
                  </a:lnTo>
                  <a:lnTo>
                    <a:pt x="14" y="19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14" y="53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53" y="92"/>
                  </a:lnTo>
                  <a:lnTo>
                    <a:pt x="82" y="112"/>
                  </a:lnTo>
                  <a:lnTo>
                    <a:pt x="112" y="126"/>
                  </a:lnTo>
                  <a:lnTo>
                    <a:pt x="136" y="136"/>
                  </a:lnTo>
                  <a:lnTo>
                    <a:pt x="189" y="151"/>
                  </a:lnTo>
                  <a:lnTo>
                    <a:pt x="238" y="151"/>
                  </a:lnTo>
                  <a:lnTo>
                    <a:pt x="277" y="146"/>
                  </a:lnTo>
                  <a:lnTo>
                    <a:pt x="306" y="141"/>
                  </a:lnTo>
                  <a:lnTo>
                    <a:pt x="321" y="136"/>
                  </a:lnTo>
                  <a:lnTo>
                    <a:pt x="316" y="136"/>
                  </a:lnTo>
                  <a:lnTo>
                    <a:pt x="316" y="136"/>
                  </a:lnTo>
                  <a:lnTo>
                    <a:pt x="316" y="141"/>
                  </a:lnTo>
                  <a:lnTo>
                    <a:pt x="301" y="151"/>
                  </a:lnTo>
                  <a:lnTo>
                    <a:pt x="277" y="161"/>
                  </a:lnTo>
                  <a:lnTo>
                    <a:pt x="243" y="165"/>
                  </a:lnTo>
                  <a:lnTo>
                    <a:pt x="204" y="165"/>
                  </a:lnTo>
                  <a:lnTo>
                    <a:pt x="165" y="161"/>
                  </a:lnTo>
                  <a:lnTo>
                    <a:pt x="121" y="146"/>
                  </a:lnTo>
                  <a:lnTo>
                    <a:pt x="73" y="122"/>
                  </a:lnTo>
                  <a:lnTo>
                    <a:pt x="73" y="122"/>
                  </a:lnTo>
                  <a:lnTo>
                    <a:pt x="34" y="97"/>
                  </a:lnTo>
                  <a:lnTo>
                    <a:pt x="9" y="7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15640" y="1104480"/>
              <a:ext cx="146880" cy="173520"/>
            </a:xfrm>
            <a:custGeom>
              <a:avLst/>
              <a:gdLst/>
              <a:ahLst/>
              <a:rect l="l" t="t" r="r" b="b"/>
              <a:pathLst>
                <a:path w="175" h="180">
                  <a:moveTo>
                    <a:pt x="59" y="10"/>
                  </a:moveTo>
                  <a:lnTo>
                    <a:pt x="59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0" y="10"/>
                  </a:lnTo>
                  <a:lnTo>
                    <a:pt x="20" y="1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9"/>
                  </a:lnTo>
                  <a:lnTo>
                    <a:pt x="15" y="54"/>
                  </a:lnTo>
                  <a:lnTo>
                    <a:pt x="20" y="83"/>
                  </a:lnTo>
                  <a:lnTo>
                    <a:pt x="34" y="112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146"/>
                  </a:lnTo>
                  <a:lnTo>
                    <a:pt x="112" y="166"/>
                  </a:lnTo>
                  <a:lnTo>
                    <a:pt x="141" y="176"/>
                  </a:lnTo>
                  <a:lnTo>
                    <a:pt x="171" y="180"/>
                  </a:lnTo>
                  <a:lnTo>
                    <a:pt x="171" y="180"/>
                  </a:lnTo>
                  <a:lnTo>
                    <a:pt x="175" y="180"/>
                  </a:lnTo>
                  <a:lnTo>
                    <a:pt x="161" y="180"/>
                  </a:lnTo>
                  <a:lnTo>
                    <a:pt x="132" y="176"/>
                  </a:lnTo>
                  <a:lnTo>
                    <a:pt x="103" y="166"/>
                  </a:lnTo>
                  <a:lnTo>
                    <a:pt x="103" y="166"/>
                  </a:lnTo>
                  <a:lnTo>
                    <a:pt x="68" y="151"/>
                  </a:lnTo>
                  <a:lnTo>
                    <a:pt x="44" y="132"/>
                  </a:lnTo>
                  <a:lnTo>
                    <a:pt x="20" y="103"/>
                  </a:lnTo>
                  <a:lnTo>
                    <a:pt x="10" y="88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5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60640" y="743040"/>
              <a:ext cx="48600" cy="15444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39" y="0"/>
                  </a:moveTo>
                  <a:lnTo>
                    <a:pt x="39" y="0"/>
                  </a:lnTo>
                  <a:lnTo>
                    <a:pt x="44" y="9"/>
                  </a:lnTo>
                  <a:lnTo>
                    <a:pt x="49" y="39"/>
                  </a:lnTo>
                  <a:lnTo>
                    <a:pt x="44" y="78"/>
                  </a:lnTo>
                  <a:lnTo>
                    <a:pt x="39" y="92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5" y="155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55"/>
                  </a:lnTo>
                  <a:lnTo>
                    <a:pt x="29" y="136"/>
                  </a:lnTo>
                  <a:lnTo>
                    <a:pt x="49" y="112"/>
                  </a:lnTo>
                  <a:lnTo>
                    <a:pt x="53" y="97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3" y="39"/>
                  </a:lnTo>
                  <a:lnTo>
                    <a:pt x="49" y="1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56680" y="869760"/>
              <a:ext cx="45000" cy="374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4" y="0"/>
                  </a:moveTo>
                  <a:lnTo>
                    <a:pt x="54" y="0"/>
                  </a:lnTo>
                  <a:lnTo>
                    <a:pt x="34" y="15"/>
                  </a:lnTo>
                  <a:lnTo>
                    <a:pt x="19" y="2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5" y="39"/>
                  </a:lnTo>
                  <a:lnTo>
                    <a:pt x="24" y="3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0600" y="714240"/>
              <a:ext cx="1240920" cy="1509480"/>
            </a:xfrm>
            <a:custGeom>
              <a:avLst/>
              <a:gdLst/>
              <a:ahLst/>
              <a:rect l="l" t="t" r="r" b="b"/>
              <a:pathLst>
                <a:path w="1479" h="1562">
                  <a:moveTo>
                    <a:pt x="739" y="0"/>
                  </a:moveTo>
                  <a:lnTo>
                    <a:pt x="739" y="0"/>
                  </a:lnTo>
                  <a:lnTo>
                    <a:pt x="812" y="5"/>
                  </a:lnTo>
                  <a:lnTo>
                    <a:pt x="885" y="15"/>
                  </a:lnTo>
                  <a:lnTo>
                    <a:pt x="958" y="35"/>
                  </a:lnTo>
                  <a:lnTo>
                    <a:pt x="1027" y="59"/>
                  </a:lnTo>
                  <a:lnTo>
                    <a:pt x="1090" y="93"/>
                  </a:lnTo>
                  <a:lnTo>
                    <a:pt x="1153" y="132"/>
                  </a:lnTo>
                  <a:lnTo>
                    <a:pt x="1207" y="181"/>
                  </a:lnTo>
                  <a:lnTo>
                    <a:pt x="1260" y="229"/>
                  </a:lnTo>
                  <a:lnTo>
                    <a:pt x="1309" y="283"/>
                  </a:lnTo>
                  <a:lnTo>
                    <a:pt x="1353" y="346"/>
                  </a:lnTo>
                  <a:lnTo>
                    <a:pt x="1387" y="409"/>
                  </a:lnTo>
                  <a:lnTo>
                    <a:pt x="1421" y="477"/>
                  </a:lnTo>
                  <a:lnTo>
                    <a:pt x="1445" y="550"/>
                  </a:lnTo>
                  <a:lnTo>
                    <a:pt x="1464" y="623"/>
                  </a:lnTo>
                  <a:lnTo>
                    <a:pt x="1474" y="701"/>
                  </a:lnTo>
                  <a:lnTo>
                    <a:pt x="1479" y="779"/>
                  </a:lnTo>
                  <a:lnTo>
                    <a:pt x="1479" y="779"/>
                  </a:lnTo>
                  <a:lnTo>
                    <a:pt x="1474" y="862"/>
                  </a:lnTo>
                  <a:lnTo>
                    <a:pt x="1464" y="940"/>
                  </a:lnTo>
                  <a:lnTo>
                    <a:pt x="1445" y="1013"/>
                  </a:lnTo>
                  <a:lnTo>
                    <a:pt x="1421" y="1086"/>
                  </a:lnTo>
                  <a:lnTo>
                    <a:pt x="1387" y="1154"/>
                  </a:lnTo>
                  <a:lnTo>
                    <a:pt x="1353" y="1217"/>
                  </a:lnTo>
                  <a:lnTo>
                    <a:pt x="1309" y="1275"/>
                  </a:lnTo>
                  <a:lnTo>
                    <a:pt x="1260" y="1334"/>
                  </a:lnTo>
                  <a:lnTo>
                    <a:pt x="1207" y="1382"/>
                  </a:lnTo>
                  <a:lnTo>
                    <a:pt x="1153" y="1426"/>
                  </a:lnTo>
                  <a:lnTo>
                    <a:pt x="1090" y="1470"/>
                  </a:lnTo>
                  <a:lnTo>
                    <a:pt x="1027" y="1499"/>
                  </a:lnTo>
                  <a:lnTo>
                    <a:pt x="958" y="1528"/>
                  </a:lnTo>
                  <a:lnTo>
                    <a:pt x="885" y="1548"/>
                  </a:lnTo>
                  <a:lnTo>
                    <a:pt x="812" y="1558"/>
                  </a:lnTo>
                  <a:lnTo>
                    <a:pt x="739" y="1562"/>
                  </a:lnTo>
                  <a:lnTo>
                    <a:pt x="739" y="1562"/>
                  </a:lnTo>
                  <a:lnTo>
                    <a:pt x="662" y="1558"/>
                  </a:lnTo>
                  <a:lnTo>
                    <a:pt x="589" y="1548"/>
                  </a:lnTo>
                  <a:lnTo>
                    <a:pt x="521" y="1528"/>
                  </a:lnTo>
                  <a:lnTo>
                    <a:pt x="452" y="1499"/>
                  </a:lnTo>
                  <a:lnTo>
                    <a:pt x="384" y="1470"/>
                  </a:lnTo>
                  <a:lnTo>
                    <a:pt x="326" y="1426"/>
                  </a:lnTo>
                  <a:lnTo>
                    <a:pt x="268" y="1382"/>
                  </a:lnTo>
                  <a:lnTo>
                    <a:pt x="214" y="1334"/>
                  </a:lnTo>
                  <a:lnTo>
                    <a:pt x="170" y="1275"/>
                  </a:lnTo>
                  <a:lnTo>
                    <a:pt x="126" y="1217"/>
                  </a:lnTo>
                  <a:lnTo>
                    <a:pt x="88" y="1154"/>
                  </a:lnTo>
                  <a:lnTo>
                    <a:pt x="58" y="1086"/>
                  </a:lnTo>
                  <a:lnTo>
                    <a:pt x="34" y="1013"/>
                  </a:lnTo>
                  <a:lnTo>
                    <a:pt x="15" y="940"/>
                  </a:lnTo>
                  <a:lnTo>
                    <a:pt x="5" y="862"/>
                  </a:lnTo>
                  <a:lnTo>
                    <a:pt x="0" y="779"/>
                  </a:lnTo>
                  <a:lnTo>
                    <a:pt x="0" y="779"/>
                  </a:lnTo>
                  <a:lnTo>
                    <a:pt x="5" y="701"/>
                  </a:lnTo>
                  <a:lnTo>
                    <a:pt x="15" y="623"/>
                  </a:lnTo>
                  <a:lnTo>
                    <a:pt x="34" y="550"/>
                  </a:lnTo>
                  <a:lnTo>
                    <a:pt x="58" y="477"/>
                  </a:lnTo>
                  <a:lnTo>
                    <a:pt x="88" y="409"/>
                  </a:lnTo>
                  <a:lnTo>
                    <a:pt x="126" y="346"/>
                  </a:lnTo>
                  <a:lnTo>
                    <a:pt x="170" y="283"/>
                  </a:lnTo>
                  <a:lnTo>
                    <a:pt x="214" y="229"/>
                  </a:lnTo>
                  <a:lnTo>
                    <a:pt x="268" y="181"/>
                  </a:lnTo>
                  <a:lnTo>
                    <a:pt x="326" y="132"/>
                  </a:lnTo>
                  <a:lnTo>
                    <a:pt x="384" y="93"/>
                  </a:lnTo>
                  <a:lnTo>
                    <a:pt x="452" y="59"/>
                  </a:lnTo>
                  <a:lnTo>
                    <a:pt x="521" y="35"/>
                  </a:lnTo>
                  <a:lnTo>
                    <a:pt x="589" y="15"/>
                  </a:lnTo>
                  <a:lnTo>
                    <a:pt x="662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76280" y="710280"/>
              <a:ext cx="1245240" cy="1518120"/>
            </a:xfrm>
            <a:custGeom>
              <a:avLst/>
              <a:gdLst/>
              <a:ahLst/>
              <a:rect l="l" t="t" r="r" b="b"/>
              <a:pathLst>
                <a:path w="1484" h="1571">
                  <a:moveTo>
                    <a:pt x="740" y="0"/>
                  </a:moveTo>
                  <a:lnTo>
                    <a:pt x="740" y="0"/>
                  </a:lnTo>
                  <a:lnTo>
                    <a:pt x="817" y="4"/>
                  </a:lnTo>
                  <a:lnTo>
                    <a:pt x="890" y="14"/>
                  </a:lnTo>
                  <a:lnTo>
                    <a:pt x="963" y="34"/>
                  </a:lnTo>
                  <a:lnTo>
                    <a:pt x="1032" y="58"/>
                  </a:lnTo>
                  <a:lnTo>
                    <a:pt x="1095" y="92"/>
                  </a:lnTo>
                  <a:lnTo>
                    <a:pt x="1158" y="131"/>
                  </a:lnTo>
                  <a:lnTo>
                    <a:pt x="1212" y="180"/>
                  </a:lnTo>
                  <a:lnTo>
                    <a:pt x="1265" y="228"/>
                  </a:lnTo>
                  <a:lnTo>
                    <a:pt x="1314" y="287"/>
                  </a:lnTo>
                  <a:lnTo>
                    <a:pt x="1358" y="345"/>
                  </a:lnTo>
                  <a:lnTo>
                    <a:pt x="1392" y="408"/>
                  </a:lnTo>
                  <a:lnTo>
                    <a:pt x="1426" y="476"/>
                  </a:lnTo>
                  <a:lnTo>
                    <a:pt x="1450" y="549"/>
                  </a:lnTo>
                  <a:lnTo>
                    <a:pt x="1469" y="627"/>
                  </a:lnTo>
                  <a:lnTo>
                    <a:pt x="1479" y="705"/>
                  </a:lnTo>
                  <a:lnTo>
                    <a:pt x="1484" y="783"/>
                  </a:lnTo>
                  <a:lnTo>
                    <a:pt x="1484" y="783"/>
                  </a:lnTo>
                  <a:lnTo>
                    <a:pt x="1479" y="866"/>
                  </a:lnTo>
                  <a:lnTo>
                    <a:pt x="1469" y="944"/>
                  </a:lnTo>
                  <a:lnTo>
                    <a:pt x="1450" y="1017"/>
                  </a:lnTo>
                  <a:lnTo>
                    <a:pt x="1426" y="1090"/>
                  </a:lnTo>
                  <a:lnTo>
                    <a:pt x="1392" y="1158"/>
                  </a:lnTo>
                  <a:lnTo>
                    <a:pt x="1358" y="1221"/>
                  </a:lnTo>
                  <a:lnTo>
                    <a:pt x="1314" y="1284"/>
                  </a:lnTo>
                  <a:lnTo>
                    <a:pt x="1265" y="1338"/>
                  </a:lnTo>
                  <a:lnTo>
                    <a:pt x="1212" y="1391"/>
                  </a:lnTo>
                  <a:lnTo>
                    <a:pt x="1158" y="1435"/>
                  </a:lnTo>
                  <a:lnTo>
                    <a:pt x="1095" y="1474"/>
                  </a:lnTo>
                  <a:lnTo>
                    <a:pt x="1032" y="1508"/>
                  </a:lnTo>
                  <a:lnTo>
                    <a:pt x="963" y="1532"/>
                  </a:lnTo>
                  <a:lnTo>
                    <a:pt x="890" y="1552"/>
                  </a:lnTo>
                  <a:lnTo>
                    <a:pt x="817" y="1566"/>
                  </a:lnTo>
                  <a:lnTo>
                    <a:pt x="740" y="1571"/>
                  </a:lnTo>
                  <a:lnTo>
                    <a:pt x="740" y="1571"/>
                  </a:lnTo>
                  <a:lnTo>
                    <a:pt x="667" y="1566"/>
                  </a:lnTo>
                  <a:lnTo>
                    <a:pt x="594" y="1552"/>
                  </a:lnTo>
                  <a:lnTo>
                    <a:pt x="521" y="1532"/>
                  </a:lnTo>
                  <a:lnTo>
                    <a:pt x="453" y="1508"/>
                  </a:lnTo>
                  <a:lnTo>
                    <a:pt x="389" y="1474"/>
                  </a:lnTo>
                  <a:lnTo>
                    <a:pt x="326" y="1435"/>
                  </a:lnTo>
                  <a:lnTo>
                    <a:pt x="268" y="1391"/>
                  </a:lnTo>
                  <a:lnTo>
                    <a:pt x="214" y="1338"/>
                  </a:lnTo>
                  <a:lnTo>
                    <a:pt x="170" y="1284"/>
                  </a:lnTo>
                  <a:lnTo>
                    <a:pt x="127" y="1221"/>
                  </a:lnTo>
                  <a:lnTo>
                    <a:pt x="88" y="1158"/>
                  </a:lnTo>
                  <a:lnTo>
                    <a:pt x="58" y="1090"/>
                  </a:lnTo>
                  <a:lnTo>
                    <a:pt x="29" y="1017"/>
                  </a:lnTo>
                  <a:lnTo>
                    <a:pt x="15" y="944"/>
                  </a:lnTo>
                  <a:lnTo>
                    <a:pt x="0" y="866"/>
                  </a:lnTo>
                  <a:lnTo>
                    <a:pt x="0" y="783"/>
                  </a:lnTo>
                  <a:lnTo>
                    <a:pt x="0" y="783"/>
                  </a:lnTo>
                  <a:lnTo>
                    <a:pt x="0" y="705"/>
                  </a:lnTo>
                  <a:lnTo>
                    <a:pt x="15" y="627"/>
                  </a:lnTo>
                  <a:lnTo>
                    <a:pt x="29" y="549"/>
                  </a:lnTo>
                  <a:lnTo>
                    <a:pt x="58" y="476"/>
                  </a:lnTo>
                  <a:lnTo>
                    <a:pt x="88" y="408"/>
                  </a:lnTo>
                  <a:lnTo>
                    <a:pt x="127" y="345"/>
                  </a:lnTo>
                  <a:lnTo>
                    <a:pt x="170" y="287"/>
                  </a:lnTo>
                  <a:lnTo>
                    <a:pt x="214" y="228"/>
                  </a:lnTo>
                  <a:lnTo>
                    <a:pt x="268" y="180"/>
                  </a:lnTo>
                  <a:lnTo>
                    <a:pt x="326" y="131"/>
                  </a:lnTo>
                  <a:lnTo>
                    <a:pt x="389" y="92"/>
                  </a:lnTo>
                  <a:lnTo>
                    <a:pt x="453" y="58"/>
                  </a:lnTo>
                  <a:lnTo>
                    <a:pt x="521" y="34"/>
                  </a:lnTo>
                  <a:lnTo>
                    <a:pt x="594" y="14"/>
                  </a:lnTo>
                  <a:lnTo>
                    <a:pt x="667" y="4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ff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68000" y="705240"/>
              <a:ext cx="1253520" cy="1523160"/>
            </a:xfrm>
            <a:custGeom>
              <a:avLst/>
              <a:gdLst/>
              <a:ahLst/>
              <a:rect l="l" t="t" r="r" b="b"/>
              <a:pathLst>
                <a:path w="1494" h="1576">
                  <a:moveTo>
                    <a:pt x="750" y="0"/>
                  </a:moveTo>
                  <a:lnTo>
                    <a:pt x="750" y="0"/>
                  </a:lnTo>
                  <a:lnTo>
                    <a:pt x="823" y="0"/>
                  </a:lnTo>
                  <a:lnTo>
                    <a:pt x="900" y="14"/>
                  </a:lnTo>
                  <a:lnTo>
                    <a:pt x="969" y="34"/>
                  </a:lnTo>
                  <a:lnTo>
                    <a:pt x="1037" y="58"/>
                  </a:lnTo>
                  <a:lnTo>
                    <a:pt x="1105" y="92"/>
                  </a:lnTo>
                  <a:lnTo>
                    <a:pt x="1168" y="131"/>
                  </a:lnTo>
                  <a:lnTo>
                    <a:pt x="1222" y="180"/>
                  </a:lnTo>
                  <a:lnTo>
                    <a:pt x="1275" y="228"/>
                  </a:lnTo>
                  <a:lnTo>
                    <a:pt x="1324" y="287"/>
                  </a:lnTo>
                  <a:lnTo>
                    <a:pt x="1368" y="345"/>
                  </a:lnTo>
                  <a:lnTo>
                    <a:pt x="1406" y="413"/>
                  </a:lnTo>
                  <a:lnTo>
                    <a:pt x="1436" y="481"/>
                  </a:lnTo>
                  <a:lnTo>
                    <a:pt x="1460" y="554"/>
                  </a:lnTo>
                  <a:lnTo>
                    <a:pt x="1479" y="627"/>
                  </a:lnTo>
                  <a:lnTo>
                    <a:pt x="1489" y="705"/>
                  </a:lnTo>
                  <a:lnTo>
                    <a:pt x="1494" y="788"/>
                  </a:lnTo>
                  <a:lnTo>
                    <a:pt x="1494" y="788"/>
                  </a:lnTo>
                  <a:lnTo>
                    <a:pt x="1489" y="866"/>
                  </a:lnTo>
                  <a:lnTo>
                    <a:pt x="1479" y="944"/>
                  </a:lnTo>
                  <a:lnTo>
                    <a:pt x="1460" y="1022"/>
                  </a:lnTo>
                  <a:lnTo>
                    <a:pt x="1436" y="1095"/>
                  </a:lnTo>
                  <a:lnTo>
                    <a:pt x="1406" y="1163"/>
                  </a:lnTo>
                  <a:lnTo>
                    <a:pt x="1368" y="1226"/>
                  </a:lnTo>
                  <a:lnTo>
                    <a:pt x="1324" y="1289"/>
                  </a:lnTo>
                  <a:lnTo>
                    <a:pt x="1275" y="1343"/>
                  </a:lnTo>
                  <a:lnTo>
                    <a:pt x="1222" y="1396"/>
                  </a:lnTo>
                  <a:lnTo>
                    <a:pt x="1168" y="1440"/>
                  </a:lnTo>
                  <a:lnTo>
                    <a:pt x="1105" y="1479"/>
                  </a:lnTo>
                  <a:lnTo>
                    <a:pt x="1037" y="1513"/>
                  </a:lnTo>
                  <a:lnTo>
                    <a:pt x="969" y="1542"/>
                  </a:lnTo>
                  <a:lnTo>
                    <a:pt x="900" y="1562"/>
                  </a:lnTo>
                  <a:lnTo>
                    <a:pt x="823" y="1571"/>
                  </a:lnTo>
                  <a:lnTo>
                    <a:pt x="750" y="1576"/>
                  </a:lnTo>
                  <a:lnTo>
                    <a:pt x="750" y="1576"/>
                  </a:lnTo>
                  <a:lnTo>
                    <a:pt x="672" y="1571"/>
                  </a:lnTo>
                  <a:lnTo>
                    <a:pt x="599" y="1562"/>
                  </a:lnTo>
                  <a:lnTo>
                    <a:pt x="526" y="1542"/>
                  </a:lnTo>
                  <a:lnTo>
                    <a:pt x="458" y="1513"/>
                  </a:lnTo>
                  <a:lnTo>
                    <a:pt x="394" y="1479"/>
                  </a:lnTo>
                  <a:lnTo>
                    <a:pt x="331" y="1440"/>
                  </a:lnTo>
                  <a:lnTo>
                    <a:pt x="273" y="1396"/>
                  </a:lnTo>
                  <a:lnTo>
                    <a:pt x="219" y="1343"/>
                  </a:lnTo>
                  <a:lnTo>
                    <a:pt x="171" y="1289"/>
                  </a:lnTo>
                  <a:lnTo>
                    <a:pt x="132" y="1226"/>
                  </a:lnTo>
                  <a:lnTo>
                    <a:pt x="93" y="1163"/>
                  </a:lnTo>
                  <a:lnTo>
                    <a:pt x="59" y="1095"/>
                  </a:lnTo>
                  <a:lnTo>
                    <a:pt x="34" y="1022"/>
                  </a:lnTo>
                  <a:lnTo>
                    <a:pt x="15" y="944"/>
                  </a:lnTo>
                  <a:lnTo>
                    <a:pt x="5" y="866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5" y="705"/>
                  </a:lnTo>
                  <a:lnTo>
                    <a:pt x="15" y="627"/>
                  </a:lnTo>
                  <a:lnTo>
                    <a:pt x="34" y="554"/>
                  </a:lnTo>
                  <a:lnTo>
                    <a:pt x="59" y="481"/>
                  </a:lnTo>
                  <a:lnTo>
                    <a:pt x="93" y="413"/>
                  </a:lnTo>
                  <a:lnTo>
                    <a:pt x="132" y="345"/>
                  </a:lnTo>
                  <a:lnTo>
                    <a:pt x="171" y="287"/>
                  </a:lnTo>
                  <a:lnTo>
                    <a:pt x="219" y="228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4" y="92"/>
                  </a:lnTo>
                  <a:lnTo>
                    <a:pt x="458" y="58"/>
                  </a:lnTo>
                  <a:lnTo>
                    <a:pt x="526" y="34"/>
                  </a:lnTo>
                  <a:lnTo>
                    <a:pt x="599" y="14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63680" y="700560"/>
              <a:ext cx="1262160" cy="1532880"/>
            </a:xfrm>
            <a:custGeom>
              <a:avLst/>
              <a:gdLst/>
              <a:ahLst/>
              <a:rect l="l" t="t" r="r" b="b"/>
              <a:pathLst>
                <a:path w="1504" h="1586">
                  <a:moveTo>
                    <a:pt x="750" y="0"/>
                  </a:moveTo>
                  <a:lnTo>
                    <a:pt x="750" y="0"/>
                  </a:lnTo>
                  <a:lnTo>
                    <a:pt x="828" y="0"/>
                  </a:lnTo>
                  <a:lnTo>
                    <a:pt x="901" y="14"/>
                  </a:lnTo>
                  <a:lnTo>
                    <a:pt x="974" y="34"/>
                  </a:lnTo>
                  <a:lnTo>
                    <a:pt x="1042" y="58"/>
                  </a:lnTo>
                  <a:lnTo>
                    <a:pt x="1110" y="92"/>
                  </a:lnTo>
                  <a:lnTo>
                    <a:pt x="1168" y="131"/>
                  </a:lnTo>
                  <a:lnTo>
                    <a:pt x="1227" y="180"/>
                  </a:lnTo>
                  <a:lnTo>
                    <a:pt x="1280" y="229"/>
                  </a:lnTo>
                  <a:lnTo>
                    <a:pt x="1329" y="287"/>
                  </a:lnTo>
                  <a:lnTo>
                    <a:pt x="1373" y="350"/>
                  </a:lnTo>
                  <a:lnTo>
                    <a:pt x="1411" y="413"/>
                  </a:lnTo>
                  <a:lnTo>
                    <a:pt x="1441" y="482"/>
                  </a:lnTo>
                  <a:lnTo>
                    <a:pt x="1470" y="555"/>
                  </a:lnTo>
                  <a:lnTo>
                    <a:pt x="1484" y="632"/>
                  </a:lnTo>
                  <a:lnTo>
                    <a:pt x="1499" y="710"/>
                  </a:lnTo>
                  <a:lnTo>
                    <a:pt x="1504" y="793"/>
                  </a:lnTo>
                  <a:lnTo>
                    <a:pt x="1504" y="793"/>
                  </a:lnTo>
                  <a:lnTo>
                    <a:pt x="1499" y="871"/>
                  </a:lnTo>
                  <a:lnTo>
                    <a:pt x="1484" y="949"/>
                  </a:lnTo>
                  <a:lnTo>
                    <a:pt x="1470" y="1027"/>
                  </a:lnTo>
                  <a:lnTo>
                    <a:pt x="1441" y="1100"/>
                  </a:lnTo>
                  <a:lnTo>
                    <a:pt x="1411" y="1168"/>
                  </a:lnTo>
                  <a:lnTo>
                    <a:pt x="1373" y="1236"/>
                  </a:lnTo>
                  <a:lnTo>
                    <a:pt x="1329" y="1294"/>
                  </a:lnTo>
                  <a:lnTo>
                    <a:pt x="1280" y="1353"/>
                  </a:lnTo>
                  <a:lnTo>
                    <a:pt x="1227" y="1401"/>
                  </a:lnTo>
                  <a:lnTo>
                    <a:pt x="1168" y="1450"/>
                  </a:lnTo>
                  <a:lnTo>
                    <a:pt x="1110" y="1489"/>
                  </a:lnTo>
                  <a:lnTo>
                    <a:pt x="1042" y="1523"/>
                  </a:lnTo>
                  <a:lnTo>
                    <a:pt x="974" y="1547"/>
                  </a:lnTo>
                  <a:lnTo>
                    <a:pt x="901" y="1567"/>
                  </a:lnTo>
                  <a:lnTo>
                    <a:pt x="828" y="1581"/>
                  </a:lnTo>
                  <a:lnTo>
                    <a:pt x="750" y="1586"/>
                  </a:lnTo>
                  <a:lnTo>
                    <a:pt x="750" y="1586"/>
                  </a:lnTo>
                  <a:lnTo>
                    <a:pt x="677" y="1581"/>
                  </a:lnTo>
                  <a:lnTo>
                    <a:pt x="599" y="1567"/>
                  </a:lnTo>
                  <a:lnTo>
                    <a:pt x="531" y="1547"/>
                  </a:lnTo>
                  <a:lnTo>
                    <a:pt x="458" y="1523"/>
                  </a:lnTo>
                  <a:lnTo>
                    <a:pt x="395" y="1489"/>
                  </a:lnTo>
                  <a:lnTo>
                    <a:pt x="331" y="1450"/>
                  </a:lnTo>
                  <a:lnTo>
                    <a:pt x="273" y="1401"/>
                  </a:lnTo>
                  <a:lnTo>
                    <a:pt x="219" y="1353"/>
                  </a:lnTo>
                  <a:lnTo>
                    <a:pt x="171" y="1294"/>
                  </a:lnTo>
                  <a:lnTo>
                    <a:pt x="132" y="1236"/>
                  </a:lnTo>
                  <a:lnTo>
                    <a:pt x="93" y="1168"/>
                  </a:lnTo>
                  <a:lnTo>
                    <a:pt x="59" y="1100"/>
                  </a:lnTo>
                  <a:lnTo>
                    <a:pt x="35" y="1027"/>
                  </a:lnTo>
                  <a:lnTo>
                    <a:pt x="15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5" y="632"/>
                  </a:lnTo>
                  <a:lnTo>
                    <a:pt x="35" y="555"/>
                  </a:lnTo>
                  <a:lnTo>
                    <a:pt x="59" y="482"/>
                  </a:lnTo>
                  <a:lnTo>
                    <a:pt x="93" y="413"/>
                  </a:lnTo>
                  <a:lnTo>
                    <a:pt x="132" y="350"/>
                  </a:lnTo>
                  <a:lnTo>
                    <a:pt x="171" y="287"/>
                  </a:lnTo>
                  <a:lnTo>
                    <a:pt x="219" y="229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5" y="92"/>
                  </a:lnTo>
                  <a:lnTo>
                    <a:pt x="458" y="58"/>
                  </a:lnTo>
                  <a:lnTo>
                    <a:pt x="531" y="34"/>
                  </a:lnTo>
                  <a:lnTo>
                    <a:pt x="599" y="14"/>
                  </a:lnTo>
                  <a:lnTo>
                    <a:pt x="677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0440" y="690840"/>
              <a:ext cx="1265040" cy="1542240"/>
            </a:xfrm>
            <a:custGeom>
              <a:avLst/>
              <a:gdLst/>
              <a:ahLst/>
              <a:rect l="l" t="t" r="r" b="b"/>
              <a:pathLst>
                <a:path w="1508" h="159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05" y="20"/>
                  </a:lnTo>
                  <a:lnTo>
                    <a:pt x="978" y="39"/>
                  </a:lnTo>
                  <a:lnTo>
                    <a:pt x="1046" y="63"/>
                  </a:lnTo>
                  <a:lnTo>
                    <a:pt x="1114" y="97"/>
                  </a:lnTo>
                  <a:lnTo>
                    <a:pt x="1172" y="136"/>
                  </a:lnTo>
                  <a:lnTo>
                    <a:pt x="1231" y="185"/>
                  </a:lnTo>
                  <a:lnTo>
                    <a:pt x="1284" y="239"/>
                  </a:lnTo>
                  <a:lnTo>
                    <a:pt x="1333" y="292"/>
                  </a:lnTo>
                  <a:lnTo>
                    <a:pt x="1377" y="355"/>
                  </a:lnTo>
                  <a:lnTo>
                    <a:pt x="1415" y="419"/>
                  </a:lnTo>
                  <a:lnTo>
                    <a:pt x="1450" y="492"/>
                  </a:lnTo>
                  <a:lnTo>
                    <a:pt x="1474" y="565"/>
                  </a:lnTo>
                  <a:lnTo>
                    <a:pt x="1493" y="638"/>
                  </a:lnTo>
                  <a:lnTo>
                    <a:pt x="1503" y="720"/>
                  </a:lnTo>
                  <a:lnTo>
                    <a:pt x="1508" y="798"/>
                  </a:lnTo>
                  <a:lnTo>
                    <a:pt x="1508" y="798"/>
                  </a:lnTo>
                  <a:lnTo>
                    <a:pt x="1503" y="881"/>
                  </a:lnTo>
                  <a:lnTo>
                    <a:pt x="1493" y="959"/>
                  </a:lnTo>
                  <a:lnTo>
                    <a:pt x="1474" y="1037"/>
                  </a:lnTo>
                  <a:lnTo>
                    <a:pt x="1450" y="1110"/>
                  </a:lnTo>
                  <a:lnTo>
                    <a:pt x="1415" y="1178"/>
                  </a:lnTo>
                  <a:lnTo>
                    <a:pt x="1377" y="1246"/>
                  </a:lnTo>
                  <a:lnTo>
                    <a:pt x="1333" y="1304"/>
                  </a:lnTo>
                  <a:lnTo>
                    <a:pt x="1284" y="1363"/>
                  </a:lnTo>
                  <a:lnTo>
                    <a:pt x="1231" y="1416"/>
                  </a:lnTo>
                  <a:lnTo>
                    <a:pt x="1172" y="1460"/>
                  </a:lnTo>
                  <a:lnTo>
                    <a:pt x="1114" y="1499"/>
                  </a:lnTo>
                  <a:lnTo>
                    <a:pt x="1046" y="1533"/>
                  </a:lnTo>
                  <a:lnTo>
                    <a:pt x="978" y="1562"/>
                  </a:lnTo>
                  <a:lnTo>
                    <a:pt x="905" y="1582"/>
                  </a:lnTo>
                  <a:lnTo>
                    <a:pt x="832" y="1591"/>
                  </a:lnTo>
                  <a:lnTo>
                    <a:pt x="754" y="1596"/>
                  </a:lnTo>
                  <a:lnTo>
                    <a:pt x="754" y="1596"/>
                  </a:lnTo>
                  <a:lnTo>
                    <a:pt x="676" y="1591"/>
                  </a:lnTo>
                  <a:lnTo>
                    <a:pt x="603" y="1582"/>
                  </a:lnTo>
                  <a:lnTo>
                    <a:pt x="530" y="1562"/>
                  </a:lnTo>
                  <a:lnTo>
                    <a:pt x="462" y="1533"/>
                  </a:lnTo>
                  <a:lnTo>
                    <a:pt x="394" y="1499"/>
                  </a:lnTo>
                  <a:lnTo>
                    <a:pt x="330" y="1460"/>
                  </a:lnTo>
                  <a:lnTo>
                    <a:pt x="272" y="1416"/>
                  </a:lnTo>
                  <a:lnTo>
                    <a:pt x="219" y="1363"/>
                  </a:lnTo>
                  <a:lnTo>
                    <a:pt x="170" y="1304"/>
                  </a:lnTo>
                  <a:lnTo>
                    <a:pt x="126" y="1246"/>
                  </a:lnTo>
                  <a:lnTo>
                    <a:pt x="92" y="1178"/>
                  </a:lnTo>
                  <a:lnTo>
                    <a:pt x="58" y="1110"/>
                  </a:lnTo>
                  <a:lnTo>
                    <a:pt x="34" y="1037"/>
                  </a:lnTo>
                  <a:lnTo>
                    <a:pt x="14" y="959"/>
                  </a:lnTo>
                  <a:lnTo>
                    <a:pt x="4" y="881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4" y="720"/>
                  </a:lnTo>
                  <a:lnTo>
                    <a:pt x="14" y="638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92" y="419"/>
                  </a:lnTo>
                  <a:lnTo>
                    <a:pt x="126" y="355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0" y="136"/>
                  </a:lnTo>
                  <a:lnTo>
                    <a:pt x="394" y="97"/>
                  </a:lnTo>
                  <a:lnTo>
                    <a:pt x="462" y="63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56120" y="686160"/>
              <a:ext cx="1269360" cy="1551960"/>
            </a:xfrm>
            <a:custGeom>
              <a:avLst/>
              <a:gdLst/>
              <a:ahLst/>
              <a:rect l="l" t="t" r="r" b="b"/>
              <a:pathLst>
                <a:path w="1513" h="160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20"/>
                  </a:lnTo>
                  <a:lnTo>
                    <a:pt x="983" y="39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77" y="141"/>
                  </a:lnTo>
                  <a:lnTo>
                    <a:pt x="1236" y="185"/>
                  </a:lnTo>
                  <a:lnTo>
                    <a:pt x="1289" y="239"/>
                  </a:lnTo>
                  <a:lnTo>
                    <a:pt x="1343" y="292"/>
                  </a:lnTo>
                  <a:lnTo>
                    <a:pt x="1382" y="356"/>
                  </a:lnTo>
                  <a:lnTo>
                    <a:pt x="1420" y="424"/>
                  </a:lnTo>
                  <a:lnTo>
                    <a:pt x="1455" y="492"/>
                  </a:lnTo>
                  <a:lnTo>
                    <a:pt x="1479" y="565"/>
                  </a:lnTo>
                  <a:lnTo>
                    <a:pt x="1498" y="643"/>
                  </a:lnTo>
                  <a:lnTo>
                    <a:pt x="1508" y="720"/>
                  </a:lnTo>
                  <a:lnTo>
                    <a:pt x="1513" y="803"/>
                  </a:lnTo>
                  <a:lnTo>
                    <a:pt x="1513" y="803"/>
                  </a:lnTo>
                  <a:lnTo>
                    <a:pt x="1508" y="886"/>
                  </a:lnTo>
                  <a:lnTo>
                    <a:pt x="1498" y="964"/>
                  </a:lnTo>
                  <a:lnTo>
                    <a:pt x="1479" y="1042"/>
                  </a:lnTo>
                  <a:lnTo>
                    <a:pt x="1455" y="1115"/>
                  </a:lnTo>
                  <a:lnTo>
                    <a:pt x="1420" y="1183"/>
                  </a:lnTo>
                  <a:lnTo>
                    <a:pt x="1382" y="1251"/>
                  </a:lnTo>
                  <a:lnTo>
                    <a:pt x="1343" y="1314"/>
                  </a:lnTo>
                  <a:lnTo>
                    <a:pt x="1289" y="1368"/>
                  </a:lnTo>
                  <a:lnTo>
                    <a:pt x="1236" y="1421"/>
                  </a:lnTo>
                  <a:lnTo>
                    <a:pt x="1177" y="1470"/>
                  </a:lnTo>
                  <a:lnTo>
                    <a:pt x="1119" y="1509"/>
                  </a:lnTo>
                  <a:lnTo>
                    <a:pt x="1051" y="1543"/>
                  </a:lnTo>
                  <a:lnTo>
                    <a:pt x="983" y="1567"/>
                  </a:lnTo>
                  <a:lnTo>
                    <a:pt x="910" y="1587"/>
                  </a:lnTo>
                  <a:lnTo>
                    <a:pt x="832" y="1601"/>
                  </a:lnTo>
                  <a:lnTo>
                    <a:pt x="754" y="1606"/>
                  </a:lnTo>
                  <a:lnTo>
                    <a:pt x="754" y="1606"/>
                  </a:lnTo>
                  <a:lnTo>
                    <a:pt x="676" y="1601"/>
                  </a:lnTo>
                  <a:lnTo>
                    <a:pt x="603" y="1587"/>
                  </a:lnTo>
                  <a:lnTo>
                    <a:pt x="530" y="1567"/>
                  </a:lnTo>
                  <a:lnTo>
                    <a:pt x="462" y="1543"/>
                  </a:lnTo>
                  <a:lnTo>
                    <a:pt x="394" y="1509"/>
                  </a:lnTo>
                  <a:lnTo>
                    <a:pt x="331" y="1470"/>
                  </a:lnTo>
                  <a:lnTo>
                    <a:pt x="272" y="1421"/>
                  </a:lnTo>
                  <a:lnTo>
                    <a:pt x="219" y="1368"/>
                  </a:lnTo>
                  <a:lnTo>
                    <a:pt x="170" y="1314"/>
                  </a:lnTo>
                  <a:lnTo>
                    <a:pt x="126" y="1251"/>
                  </a:lnTo>
                  <a:lnTo>
                    <a:pt x="87" y="1183"/>
                  </a:lnTo>
                  <a:lnTo>
                    <a:pt x="58" y="1115"/>
                  </a:lnTo>
                  <a:lnTo>
                    <a:pt x="34" y="1042"/>
                  </a:lnTo>
                  <a:lnTo>
                    <a:pt x="14" y="964"/>
                  </a:lnTo>
                  <a:lnTo>
                    <a:pt x="0" y="886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720"/>
                  </a:lnTo>
                  <a:lnTo>
                    <a:pt x="14" y="643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87" y="424"/>
                  </a:lnTo>
                  <a:lnTo>
                    <a:pt x="126" y="356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2" y="64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47840" y="681120"/>
              <a:ext cx="1278000" cy="1556640"/>
            </a:xfrm>
            <a:custGeom>
              <a:avLst/>
              <a:gdLst/>
              <a:ahLst/>
              <a:rect l="l" t="t" r="r" b="b"/>
              <a:pathLst>
                <a:path w="1523" h="1611">
                  <a:moveTo>
                    <a:pt x="764" y="0"/>
                  </a:moveTo>
                  <a:lnTo>
                    <a:pt x="764" y="0"/>
                  </a:lnTo>
                  <a:lnTo>
                    <a:pt x="842" y="5"/>
                  </a:lnTo>
                  <a:lnTo>
                    <a:pt x="915" y="20"/>
                  </a:lnTo>
                  <a:lnTo>
                    <a:pt x="988" y="39"/>
                  </a:lnTo>
                  <a:lnTo>
                    <a:pt x="1061" y="64"/>
                  </a:lnTo>
                  <a:lnTo>
                    <a:pt x="1124" y="98"/>
                  </a:lnTo>
                  <a:lnTo>
                    <a:pt x="1187" y="142"/>
                  </a:lnTo>
                  <a:lnTo>
                    <a:pt x="1246" y="185"/>
                  </a:lnTo>
                  <a:lnTo>
                    <a:pt x="1304" y="239"/>
                  </a:lnTo>
                  <a:lnTo>
                    <a:pt x="1353" y="297"/>
                  </a:lnTo>
                  <a:lnTo>
                    <a:pt x="1396" y="356"/>
                  </a:lnTo>
                  <a:lnTo>
                    <a:pt x="1435" y="424"/>
                  </a:lnTo>
                  <a:lnTo>
                    <a:pt x="1465" y="492"/>
                  </a:lnTo>
                  <a:lnTo>
                    <a:pt x="1489" y="570"/>
                  </a:lnTo>
                  <a:lnTo>
                    <a:pt x="1508" y="648"/>
                  </a:lnTo>
                  <a:lnTo>
                    <a:pt x="1523" y="725"/>
                  </a:lnTo>
                  <a:lnTo>
                    <a:pt x="1523" y="808"/>
                  </a:lnTo>
                  <a:lnTo>
                    <a:pt x="1523" y="808"/>
                  </a:lnTo>
                  <a:lnTo>
                    <a:pt x="1523" y="891"/>
                  </a:lnTo>
                  <a:lnTo>
                    <a:pt x="1508" y="969"/>
                  </a:lnTo>
                  <a:lnTo>
                    <a:pt x="1489" y="1047"/>
                  </a:lnTo>
                  <a:lnTo>
                    <a:pt x="1465" y="1120"/>
                  </a:lnTo>
                  <a:lnTo>
                    <a:pt x="1435" y="1193"/>
                  </a:lnTo>
                  <a:lnTo>
                    <a:pt x="1396" y="1256"/>
                  </a:lnTo>
                  <a:lnTo>
                    <a:pt x="1353" y="1319"/>
                  </a:lnTo>
                  <a:lnTo>
                    <a:pt x="1304" y="1378"/>
                  </a:lnTo>
                  <a:lnTo>
                    <a:pt x="1246" y="1426"/>
                  </a:lnTo>
                  <a:lnTo>
                    <a:pt x="1187" y="1475"/>
                  </a:lnTo>
                  <a:lnTo>
                    <a:pt x="1124" y="1514"/>
                  </a:lnTo>
                  <a:lnTo>
                    <a:pt x="1061" y="1548"/>
                  </a:lnTo>
                  <a:lnTo>
                    <a:pt x="988" y="1577"/>
                  </a:lnTo>
                  <a:lnTo>
                    <a:pt x="915" y="1596"/>
                  </a:lnTo>
                  <a:lnTo>
                    <a:pt x="842" y="1606"/>
                  </a:lnTo>
                  <a:lnTo>
                    <a:pt x="764" y="1611"/>
                  </a:lnTo>
                  <a:lnTo>
                    <a:pt x="764" y="1611"/>
                  </a:lnTo>
                  <a:lnTo>
                    <a:pt x="686" y="1606"/>
                  </a:lnTo>
                  <a:lnTo>
                    <a:pt x="608" y="1596"/>
                  </a:lnTo>
                  <a:lnTo>
                    <a:pt x="535" y="1577"/>
                  </a:lnTo>
                  <a:lnTo>
                    <a:pt x="467" y="1548"/>
                  </a:lnTo>
                  <a:lnTo>
                    <a:pt x="399" y="1514"/>
                  </a:lnTo>
                  <a:lnTo>
                    <a:pt x="336" y="1475"/>
                  </a:lnTo>
                  <a:lnTo>
                    <a:pt x="277" y="1426"/>
                  </a:lnTo>
                  <a:lnTo>
                    <a:pt x="224" y="1378"/>
                  </a:lnTo>
                  <a:lnTo>
                    <a:pt x="175" y="1319"/>
                  </a:lnTo>
                  <a:lnTo>
                    <a:pt x="131" y="1256"/>
                  </a:lnTo>
                  <a:lnTo>
                    <a:pt x="92" y="1193"/>
                  </a:lnTo>
                  <a:lnTo>
                    <a:pt x="63" y="1120"/>
                  </a:lnTo>
                  <a:lnTo>
                    <a:pt x="34" y="1047"/>
                  </a:lnTo>
                  <a:lnTo>
                    <a:pt x="19" y="969"/>
                  </a:lnTo>
                  <a:lnTo>
                    <a:pt x="5" y="891"/>
                  </a:lnTo>
                  <a:lnTo>
                    <a:pt x="0" y="808"/>
                  </a:lnTo>
                  <a:lnTo>
                    <a:pt x="0" y="808"/>
                  </a:lnTo>
                  <a:lnTo>
                    <a:pt x="5" y="725"/>
                  </a:lnTo>
                  <a:lnTo>
                    <a:pt x="19" y="648"/>
                  </a:lnTo>
                  <a:lnTo>
                    <a:pt x="34" y="570"/>
                  </a:lnTo>
                  <a:lnTo>
                    <a:pt x="63" y="492"/>
                  </a:lnTo>
                  <a:lnTo>
                    <a:pt x="92" y="424"/>
                  </a:lnTo>
                  <a:lnTo>
                    <a:pt x="131" y="356"/>
                  </a:lnTo>
                  <a:lnTo>
                    <a:pt x="175" y="297"/>
                  </a:lnTo>
                  <a:lnTo>
                    <a:pt x="224" y="239"/>
                  </a:lnTo>
                  <a:lnTo>
                    <a:pt x="277" y="185"/>
                  </a:lnTo>
                  <a:lnTo>
                    <a:pt x="336" y="142"/>
                  </a:lnTo>
                  <a:lnTo>
                    <a:pt x="399" y="98"/>
                  </a:lnTo>
                  <a:lnTo>
                    <a:pt x="467" y="64"/>
                  </a:lnTo>
                  <a:lnTo>
                    <a:pt x="535" y="39"/>
                  </a:lnTo>
                  <a:lnTo>
                    <a:pt x="608" y="20"/>
                  </a:lnTo>
                  <a:lnTo>
                    <a:pt x="686" y="5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43520" y="677160"/>
              <a:ext cx="1286640" cy="1565640"/>
            </a:xfrm>
            <a:custGeom>
              <a:avLst/>
              <a:gdLst/>
              <a:ahLst/>
              <a:rect l="l" t="t" r="r" b="b"/>
              <a:pathLst>
                <a:path w="1533" h="1620">
                  <a:moveTo>
                    <a:pt x="764" y="0"/>
                  </a:moveTo>
                  <a:lnTo>
                    <a:pt x="764" y="0"/>
                  </a:lnTo>
                  <a:lnTo>
                    <a:pt x="842" y="4"/>
                  </a:lnTo>
                  <a:lnTo>
                    <a:pt x="920" y="19"/>
                  </a:lnTo>
                  <a:lnTo>
                    <a:pt x="993" y="38"/>
                  </a:lnTo>
                  <a:lnTo>
                    <a:pt x="1066" y="63"/>
                  </a:lnTo>
                  <a:lnTo>
                    <a:pt x="1129" y="97"/>
                  </a:lnTo>
                  <a:lnTo>
                    <a:pt x="1192" y="141"/>
                  </a:lnTo>
                  <a:lnTo>
                    <a:pt x="1251" y="184"/>
                  </a:lnTo>
                  <a:lnTo>
                    <a:pt x="1309" y="238"/>
                  </a:lnTo>
                  <a:lnTo>
                    <a:pt x="1358" y="296"/>
                  </a:lnTo>
                  <a:lnTo>
                    <a:pt x="1401" y="360"/>
                  </a:lnTo>
                  <a:lnTo>
                    <a:pt x="1440" y="423"/>
                  </a:lnTo>
                  <a:lnTo>
                    <a:pt x="1470" y="496"/>
                  </a:lnTo>
                  <a:lnTo>
                    <a:pt x="1499" y="569"/>
                  </a:lnTo>
                  <a:lnTo>
                    <a:pt x="1518" y="647"/>
                  </a:lnTo>
                  <a:lnTo>
                    <a:pt x="1528" y="729"/>
                  </a:lnTo>
                  <a:lnTo>
                    <a:pt x="1533" y="812"/>
                  </a:lnTo>
                  <a:lnTo>
                    <a:pt x="1533" y="812"/>
                  </a:lnTo>
                  <a:lnTo>
                    <a:pt x="1528" y="890"/>
                  </a:lnTo>
                  <a:lnTo>
                    <a:pt x="1518" y="973"/>
                  </a:lnTo>
                  <a:lnTo>
                    <a:pt x="1499" y="1051"/>
                  </a:lnTo>
                  <a:lnTo>
                    <a:pt x="1470" y="1124"/>
                  </a:lnTo>
                  <a:lnTo>
                    <a:pt x="1440" y="1197"/>
                  </a:lnTo>
                  <a:lnTo>
                    <a:pt x="1401" y="1260"/>
                  </a:lnTo>
                  <a:lnTo>
                    <a:pt x="1358" y="1323"/>
                  </a:lnTo>
                  <a:lnTo>
                    <a:pt x="1309" y="1382"/>
                  </a:lnTo>
                  <a:lnTo>
                    <a:pt x="1251" y="1435"/>
                  </a:lnTo>
                  <a:lnTo>
                    <a:pt x="1192" y="1479"/>
                  </a:lnTo>
                  <a:lnTo>
                    <a:pt x="1129" y="1523"/>
                  </a:lnTo>
                  <a:lnTo>
                    <a:pt x="1066" y="1557"/>
                  </a:lnTo>
                  <a:lnTo>
                    <a:pt x="993" y="1581"/>
                  </a:lnTo>
                  <a:lnTo>
                    <a:pt x="920" y="1600"/>
                  </a:lnTo>
                  <a:lnTo>
                    <a:pt x="842" y="1615"/>
                  </a:lnTo>
                  <a:lnTo>
                    <a:pt x="764" y="1620"/>
                  </a:lnTo>
                  <a:lnTo>
                    <a:pt x="764" y="1620"/>
                  </a:lnTo>
                  <a:lnTo>
                    <a:pt x="686" y="1615"/>
                  </a:lnTo>
                  <a:lnTo>
                    <a:pt x="613" y="1600"/>
                  </a:lnTo>
                  <a:lnTo>
                    <a:pt x="540" y="1581"/>
                  </a:lnTo>
                  <a:lnTo>
                    <a:pt x="467" y="1557"/>
                  </a:lnTo>
                  <a:lnTo>
                    <a:pt x="404" y="1523"/>
                  </a:lnTo>
                  <a:lnTo>
                    <a:pt x="341" y="1479"/>
                  </a:lnTo>
                  <a:lnTo>
                    <a:pt x="277" y="1435"/>
                  </a:lnTo>
                  <a:lnTo>
                    <a:pt x="224" y="1382"/>
                  </a:lnTo>
                  <a:lnTo>
                    <a:pt x="175" y="1323"/>
                  </a:lnTo>
                  <a:lnTo>
                    <a:pt x="132" y="1260"/>
                  </a:lnTo>
                  <a:lnTo>
                    <a:pt x="93" y="1197"/>
                  </a:lnTo>
                  <a:lnTo>
                    <a:pt x="59" y="1124"/>
                  </a:lnTo>
                  <a:lnTo>
                    <a:pt x="34" y="1051"/>
                  </a:lnTo>
                  <a:lnTo>
                    <a:pt x="15" y="973"/>
                  </a:lnTo>
                  <a:lnTo>
                    <a:pt x="5" y="890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29"/>
                  </a:lnTo>
                  <a:lnTo>
                    <a:pt x="15" y="647"/>
                  </a:lnTo>
                  <a:lnTo>
                    <a:pt x="34" y="569"/>
                  </a:lnTo>
                  <a:lnTo>
                    <a:pt x="59" y="496"/>
                  </a:lnTo>
                  <a:lnTo>
                    <a:pt x="93" y="423"/>
                  </a:lnTo>
                  <a:lnTo>
                    <a:pt x="132" y="360"/>
                  </a:lnTo>
                  <a:lnTo>
                    <a:pt x="175" y="296"/>
                  </a:lnTo>
                  <a:lnTo>
                    <a:pt x="224" y="238"/>
                  </a:lnTo>
                  <a:lnTo>
                    <a:pt x="277" y="184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8"/>
                  </a:lnTo>
                  <a:lnTo>
                    <a:pt x="613" y="19"/>
                  </a:lnTo>
                  <a:lnTo>
                    <a:pt x="686" y="4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9200" y="672480"/>
              <a:ext cx="1290600" cy="1570320"/>
            </a:xfrm>
            <a:custGeom>
              <a:avLst/>
              <a:gdLst/>
              <a:ahLst/>
              <a:rect l="l" t="t" r="r" b="b"/>
              <a:pathLst>
                <a:path w="1538" h="1625">
                  <a:moveTo>
                    <a:pt x="769" y="0"/>
                  </a:moveTo>
                  <a:lnTo>
                    <a:pt x="769" y="0"/>
                  </a:lnTo>
                  <a:lnTo>
                    <a:pt x="847" y="5"/>
                  </a:lnTo>
                  <a:lnTo>
                    <a:pt x="925" y="19"/>
                  </a:lnTo>
                  <a:lnTo>
                    <a:pt x="998" y="39"/>
                  </a:lnTo>
                  <a:lnTo>
                    <a:pt x="1066" y="63"/>
                  </a:lnTo>
                  <a:lnTo>
                    <a:pt x="1134" y="97"/>
                  </a:lnTo>
                  <a:lnTo>
                    <a:pt x="1197" y="141"/>
                  </a:lnTo>
                  <a:lnTo>
                    <a:pt x="1256" y="185"/>
                  </a:lnTo>
                  <a:lnTo>
                    <a:pt x="1314" y="238"/>
                  </a:lnTo>
                  <a:lnTo>
                    <a:pt x="1363" y="297"/>
                  </a:lnTo>
                  <a:lnTo>
                    <a:pt x="1406" y="360"/>
                  </a:lnTo>
                  <a:lnTo>
                    <a:pt x="1445" y="428"/>
                  </a:lnTo>
                  <a:lnTo>
                    <a:pt x="1479" y="496"/>
                  </a:lnTo>
                  <a:lnTo>
                    <a:pt x="1504" y="574"/>
                  </a:lnTo>
                  <a:lnTo>
                    <a:pt x="1523" y="652"/>
                  </a:lnTo>
                  <a:lnTo>
                    <a:pt x="1533" y="730"/>
                  </a:lnTo>
                  <a:lnTo>
                    <a:pt x="1538" y="812"/>
                  </a:lnTo>
                  <a:lnTo>
                    <a:pt x="1538" y="812"/>
                  </a:lnTo>
                  <a:lnTo>
                    <a:pt x="1533" y="895"/>
                  </a:lnTo>
                  <a:lnTo>
                    <a:pt x="1523" y="978"/>
                  </a:lnTo>
                  <a:lnTo>
                    <a:pt x="1504" y="1056"/>
                  </a:lnTo>
                  <a:lnTo>
                    <a:pt x="1479" y="1129"/>
                  </a:lnTo>
                  <a:lnTo>
                    <a:pt x="1445" y="1202"/>
                  </a:lnTo>
                  <a:lnTo>
                    <a:pt x="1406" y="1270"/>
                  </a:lnTo>
                  <a:lnTo>
                    <a:pt x="1363" y="1333"/>
                  </a:lnTo>
                  <a:lnTo>
                    <a:pt x="1314" y="1387"/>
                  </a:lnTo>
                  <a:lnTo>
                    <a:pt x="1256" y="1440"/>
                  </a:lnTo>
                  <a:lnTo>
                    <a:pt x="1197" y="1489"/>
                  </a:lnTo>
                  <a:lnTo>
                    <a:pt x="1134" y="1528"/>
                  </a:lnTo>
                  <a:lnTo>
                    <a:pt x="1066" y="1562"/>
                  </a:lnTo>
                  <a:lnTo>
                    <a:pt x="998" y="1591"/>
                  </a:lnTo>
                  <a:lnTo>
                    <a:pt x="925" y="1610"/>
                  </a:lnTo>
                  <a:lnTo>
                    <a:pt x="847" y="1625"/>
                  </a:lnTo>
                  <a:lnTo>
                    <a:pt x="769" y="1625"/>
                  </a:lnTo>
                  <a:lnTo>
                    <a:pt x="769" y="1625"/>
                  </a:lnTo>
                  <a:lnTo>
                    <a:pt x="691" y="1625"/>
                  </a:lnTo>
                  <a:lnTo>
                    <a:pt x="613" y="1610"/>
                  </a:lnTo>
                  <a:lnTo>
                    <a:pt x="540" y="1591"/>
                  </a:lnTo>
                  <a:lnTo>
                    <a:pt x="467" y="1562"/>
                  </a:lnTo>
                  <a:lnTo>
                    <a:pt x="404" y="1528"/>
                  </a:lnTo>
                  <a:lnTo>
                    <a:pt x="341" y="1489"/>
                  </a:lnTo>
                  <a:lnTo>
                    <a:pt x="278" y="1440"/>
                  </a:lnTo>
                  <a:lnTo>
                    <a:pt x="224" y="1387"/>
                  </a:lnTo>
                  <a:lnTo>
                    <a:pt x="175" y="1333"/>
                  </a:lnTo>
                  <a:lnTo>
                    <a:pt x="132" y="1270"/>
                  </a:lnTo>
                  <a:lnTo>
                    <a:pt x="93" y="1202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5" y="895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30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496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5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9"/>
                  </a:lnTo>
                  <a:lnTo>
                    <a:pt x="613" y="19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5240" y="667440"/>
              <a:ext cx="1294920" cy="1580040"/>
            </a:xfrm>
            <a:custGeom>
              <a:avLst/>
              <a:gdLst/>
              <a:ahLst/>
              <a:rect l="l" t="t" r="r" b="b"/>
              <a:pathLst>
                <a:path w="1543" h="1635">
                  <a:moveTo>
                    <a:pt x="769" y="0"/>
                  </a:moveTo>
                  <a:lnTo>
                    <a:pt x="769" y="0"/>
                  </a:lnTo>
                  <a:lnTo>
                    <a:pt x="852" y="5"/>
                  </a:lnTo>
                  <a:lnTo>
                    <a:pt x="925" y="14"/>
                  </a:lnTo>
                  <a:lnTo>
                    <a:pt x="1003" y="39"/>
                  </a:lnTo>
                  <a:lnTo>
                    <a:pt x="1071" y="63"/>
                  </a:lnTo>
                  <a:lnTo>
                    <a:pt x="1139" y="97"/>
                  </a:lnTo>
                  <a:lnTo>
                    <a:pt x="1202" y="141"/>
                  </a:lnTo>
                  <a:lnTo>
                    <a:pt x="1261" y="185"/>
                  </a:lnTo>
                  <a:lnTo>
                    <a:pt x="1319" y="238"/>
                  </a:lnTo>
                  <a:lnTo>
                    <a:pt x="1368" y="297"/>
                  </a:lnTo>
                  <a:lnTo>
                    <a:pt x="1411" y="360"/>
                  </a:lnTo>
                  <a:lnTo>
                    <a:pt x="1450" y="428"/>
                  </a:lnTo>
                  <a:lnTo>
                    <a:pt x="1484" y="501"/>
                  </a:lnTo>
                  <a:lnTo>
                    <a:pt x="1509" y="574"/>
                  </a:lnTo>
                  <a:lnTo>
                    <a:pt x="1528" y="652"/>
                  </a:lnTo>
                  <a:lnTo>
                    <a:pt x="1543" y="735"/>
                  </a:lnTo>
                  <a:lnTo>
                    <a:pt x="1543" y="817"/>
                  </a:lnTo>
                  <a:lnTo>
                    <a:pt x="1543" y="817"/>
                  </a:lnTo>
                  <a:lnTo>
                    <a:pt x="1543" y="900"/>
                  </a:lnTo>
                  <a:lnTo>
                    <a:pt x="1528" y="983"/>
                  </a:lnTo>
                  <a:lnTo>
                    <a:pt x="1509" y="1061"/>
                  </a:lnTo>
                  <a:lnTo>
                    <a:pt x="1484" y="1134"/>
                  </a:lnTo>
                  <a:lnTo>
                    <a:pt x="1450" y="1207"/>
                  </a:lnTo>
                  <a:lnTo>
                    <a:pt x="1411" y="1275"/>
                  </a:lnTo>
                  <a:lnTo>
                    <a:pt x="1368" y="1338"/>
                  </a:lnTo>
                  <a:lnTo>
                    <a:pt x="1319" y="1396"/>
                  </a:lnTo>
                  <a:lnTo>
                    <a:pt x="1261" y="1450"/>
                  </a:lnTo>
                  <a:lnTo>
                    <a:pt x="1202" y="1494"/>
                  </a:lnTo>
                  <a:lnTo>
                    <a:pt x="1139" y="1537"/>
                  </a:lnTo>
                  <a:lnTo>
                    <a:pt x="1071" y="1572"/>
                  </a:lnTo>
                  <a:lnTo>
                    <a:pt x="1003" y="1596"/>
                  </a:lnTo>
                  <a:lnTo>
                    <a:pt x="925" y="1620"/>
                  </a:lnTo>
                  <a:lnTo>
                    <a:pt x="852" y="1630"/>
                  </a:lnTo>
                  <a:lnTo>
                    <a:pt x="769" y="1635"/>
                  </a:lnTo>
                  <a:lnTo>
                    <a:pt x="769" y="1635"/>
                  </a:lnTo>
                  <a:lnTo>
                    <a:pt x="691" y="1630"/>
                  </a:lnTo>
                  <a:lnTo>
                    <a:pt x="618" y="1620"/>
                  </a:lnTo>
                  <a:lnTo>
                    <a:pt x="540" y="1596"/>
                  </a:lnTo>
                  <a:lnTo>
                    <a:pt x="472" y="1572"/>
                  </a:lnTo>
                  <a:lnTo>
                    <a:pt x="404" y="1537"/>
                  </a:lnTo>
                  <a:lnTo>
                    <a:pt x="341" y="1494"/>
                  </a:lnTo>
                  <a:lnTo>
                    <a:pt x="278" y="1450"/>
                  </a:lnTo>
                  <a:lnTo>
                    <a:pt x="224" y="1396"/>
                  </a:lnTo>
                  <a:lnTo>
                    <a:pt x="176" y="1338"/>
                  </a:lnTo>
                  <a:lnTo>
                    <a:pt x="132" y="1275"/>
                  </a:lnTo>
                  <a:lnTo>
                    <a:pt x="93" y="1207"/>
                  </a:lnTo>
                  <a:lnTo>
                    <a:pt x="59" y="1134"/>
                  </a:lnTo>
                  <a:lnTo>
                    <a:pt x="34" y="1061"/>
                  </a:lnTo>
                  <a:lnTo>
                    <a:pt x="15" y="983"/>
                  </a:lnTo>
                  <a:lnTo>
                    <a:pt x="0" y="900"/>
                  </a:lnTo>
                  <a:lnTo>
                    <a:pt x="0" y="817"/>
                  </a:lnTo>
                  <a:lnTo>
                    <a:pt x="0" y="817"/>
                  </a:lnTo>
                  <a:lnTo>
                    <a:pt x="0" y="735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501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6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72" y="63"/>
                  </a:lnTo>
                  <a:lnTo>
                    <a:pt x="540" y="39"/>
                  </a:lnTo>
                  <a:lnTo>
                    <a:pt x="618" y="14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27680" y="662760"/>
              <a:ext cx="1306440" cy="1589760"/>
            </a:xfrm>
            <a:custGeom>
              <a:avLst/>
              <a:gdLst/>
              <a:ahLst/>
              <a:rect l="l" t="t" r="r" b="b"/>
              <a:pathLst>
                <a:path w="1557" h="1645">
                  <a:moveTo>
                    <a:pt x="778" y="0"/>
                  </a:moveTo>
                  <a:lnTo>
                    <a:pt x="778" y="0"/>
                  </a:lnTo>
                  <a:lnTo>
                    <a:pt x="856" y="5"/>
                  </a:lnTo>
                  <a:lnTo>
                    <a:pt x="934" y="15"/>
                  </a:lnTo>
                  <a:lnTo>
                    <a:pt x="1007" y="39"/>
                  </a:lnTo>
                  <a:lnTo>
                    <a:pt x="1080" y="63"/>
                  </a:lnTo>
                  <a:lnTo>
                    <a:pt x="1148" y="97"/>
                  </a:lnTo>
                  <a:lnTo>
                    <a:pt x="1211" y="141"/>
                  </a:lnTo>
                  <a:lnTo>
                    <a:pt x="1270" y="190"/>
                  </a:lnTo>
                  <a:lnTo>
                    <a:pt x="1328" y="238"/>
                  </a:lnTo>
                  <a:lnTo>
                    <a:pt x="1377" y="297"/>
                  </a:lnTo>
                  <a:lnTo>
                    <a:pt x="1420" y="360"/>
                  </a:lnTo>
                  <a:lnTo>
                    <a:pt x="1459" y="428"/>
                  </a:lnTo>
                  <a:lnTo>
                    <a:pt x="1493" y="501"/>
                  </a:lnTo>
                  <a:lnTo>
                    <a:pt x="1518" y="579"/>
                  </a:lnTo>
                  <a:lnTo>
                    <a:pt x="1537" y="657"/>
                  </a:lnTo>
                  <a:lnTo>
                    <a:pt x="1552" y="740"/>
                  </a:lnTo>
                  <a:lnTo>
                    <a:pt x="1557" y="822"/>
                  </a:lnTo>
                  <a:lnTo>
                    <a:pt x="1557" y="822"/>
                  </a:lnTo>
                  <a:lnTo>
                    <a:pt x="1552" y="905"/>
                  </a:lnTo>
                  <a:lnTo>
                    <a:pt x="1537" y="988"/>
                  </a:lnTo>
                  <a:lnTo>
                    <a:pt x="1518" y="1066"/>
                  </a:lnTo>
                  <a:lnTo>
                    <a:pt x="1493" y="1139"/>
                  </a:lnTo>
                  <a:lnTo>
                    <a:pt x="1459" y="1212"/>
                  </a:lnTo>
                  <a:lnTo>
                    <a:pt x="1420" y="1280"/>
                  </a:lnTo>
                  <a:lnTo>
                    <a:pt x="1377" y="1343"/>
                  </a:lnTo>
                  <a:lnTo>
                    <a:pt x="1328" y="1401"/>
                  </a:lnTo>
                  <a:lnTo>
                    <a:pt x="1270" y="1455"/>
                  </a:lnTo>
                  <a:lnTo>
                    <a:pt x="1211" y="1504"/>
                  </a:lnTo>
                  <a:lnTo>
                    <a:pt x="1148" y="1542"/>
                  </a:lnTo>
                  <a:lnTo>
                    <a:pt x="1080" y="1577"/>
                  </a:lnTo>
                  <a:lnTo>
                    <a:pt x="1007" y="1606"/>
                  </a:lnTo>
                  <a:lnTo>
                    <a:pt x="934" y="1625"/>
                  </a:lnTo>
                  <a:lnTo>
                    <a:pt x="856" y="1640"/>
                  </a:lnTo>
                  <a:lnTo>
                    <a:pt x="778" y="1645"/>
                  </a:lnTo>
                  <a:lnTo>
                    <a:pt x="778" y="1645"/>
                  </a:lnTo>
                  <a:lnTo>
                    <a:pt x="700" y="1640"/>
                  </a:lnTo>
                  <a:lnTo>
                    <a:pt x="622" y="1625"/>
                  </a:lnTo>
                  <a:lnTo>
                    <a:pt x="549" y="1606"/>
                  </a:lnTo>
                  <a:lnTo>
                    <a:pt x="477" y="1577"/>
                  </a:lnTo>
                  <a:lnTo>
                    <a:pt x="408" y="1542"/>
                  </a:lnTo>
                  <a:lnTo>
                    <a:pt x="345" y="1504"/>
                  </a:lnTo>
                  <a:lnTo>
                    <a:pt x="287" y="1455"/>
                  </a:lnTo>
                  <a:lnTo>
                    <a:pt x="228" y="1401"/>
                  </a:lnTo>
                  <a:lnTo>
                    <a:pt x="180" y="1343"/>
                  </a:lnTo>
                  <a:lnTo>
                    <a:pt x="136" y="1280"/>
                  </a:lnTo>
                  <a:lnTo>
                    <a:pt x="97" y="1212"/>
                  </a:lnTo>
                  <a:lnTo>
                    <a:pt x="63" y="1139"/>
                  </a:lnTo>
                  <a:lnTo>
                    <a:pt x="39" y="1066"/>
                  </a:lnTo>
                  <a:lnTo>
                    <a:pt x="19" y="988"/>
                  </a:lnTo>
                  <a:lnTo>
                    <a:pt x="5" y="905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9" y="657"/>
                  </a:lnTo>
                  <a:lnTo>
                    <a:pt x="39" y="579"/>
                  </a:lnTo>
                  <a:lnTo>
                    <a:pt x="63" y="501"/>
                  </a:lnTo>
                  <a:lnTo>
                    <a:pt x="97" y="428"/>
                  </a:lnTo>
                  <a:lnTo>
                    <a:pt x="136" y="360"/>
                  </a:lnTo>
                  <a:lnTo>
                    <a:pt x="180" y="297"/>
                  </a:lnTo>
                  <a:lnTo>
                    <a:pt x="228" y="238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8" y="97"/>
                  </a:lnTo>
                  <a:lnTo>
                    <a:pt x="477" y="63"/>
                  </a:lnTo>
                  <a:lnTo>
                    <a:pt x="549" y="39"/>
                  </a:lnTo>
                  <a:lnTo>
                    <a:pt x="622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23360" y="658080"/>
              <a:ext cx="1310760" cy="1594440"/>
            </a:xfrm>
            <a:custGeom>
              <a:avLst/>
              <a:gdLst/>
              <a:ahLst/>
              <a:rect l="l" t="t" r="r" b="b"/>
              <a:pathLst>
                <a:path w="1562" h="1650">
                  <a:moveTo>
                    <a:pt x="778" y="0"/>
                  </a:moveTo>
                  <a:lnTo>
                    <a:pt x="778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2" y="34"/>
                  </a:lnTo>
                  <a:lnTo>
                    <a:pt x="1085" y="63"/>
                  </a:lnTo>
                  <a:lnTo>
                    <a:pt x="1153" y="97"/>
                  </a:lnTo>
                  <a:lnTo>
                    <a:pt x="1216" y="141"/>
                  </a:lnTo>
                  <a:lnTo>
                    <a:pt x="1275" y="190"/>
                  </a:lnTo>
                  <a:lnTo>
                    <a:pt x="1333" y="243"/>
                  </a:lnTo>
                  <a:lnTo>
                    <a:pt x="1382" y="302"/>
                  </a:lnTo>
                  <a:lnTo>
                    <a:pt x="1425" y="365"/>
                  </a:lnTo>
                  <a:lnTo>
                    <a:pt x="1469" y="433"/>
                  </a:lnTo>
                  <a:lnTo>
                    <a:pt x="1498" y="506"/>
                  </a:lnTo>
                  <a:lnTo>
                    <a:pt x="1528" y="579"/>
                  </a:lnTo>
                  <a:lnTo>
                    <a:pt x="1547" y="657"/>
                  </a:lnTo>
                  <a:lnTo>
                    <a:pt x="1557" y="740"/>
                  </a:lnTo>
                  <a:lnTo>
                    <a:pt x="1562" y="822"/>
                  </a:lnTo>
                  <a:lnTo>
                    <a:pt x="1562" y="822"/>
                  </a:lnTo>
                  <a:lnTo>
                    <a:pt x="1557" y="910"/>
                  </a:lnTo>
                  <a:lnTo>
                    <a:pt x="1547" y="993"/>
                  </a:lnTo>
                  <a:lnTo>
                    <a:pt x="1528" y="1071"/>
                  </a:lnTo>
                  <a:lnTo>
                    <a:pt x="1498" y="1144"/>
                  </a:lnTo>
                  <a:lnTo>
                    <a:pt x="1469" y="1217"/>
                  </a:lnTo>
                  <a:lnTo>
                    <a:pt x="1425" y="1285"/>
                  </a:lnTo>
                  <a:lnTo>
                    <a:pt x="1382" y="1348"/>
                  </a:lnTo>
                  <a:lnTo>
                    <a:pt x="1333" y="1406"/>
                  </a:lnTo>
                  <a:lnTo>
                    <a:pt x="1275" y="1460"/>
                  </a:lnTo>
                  <a:lnTo>
                    <a:pt x="1216" y="1509"/>
                  </a:lnTo>
                  <a:lnTo>
                    <a:pt x="1153" y="1552"/>
                  </a:lnTo>
                  <a:lnTo>
                    <a:pt x="1085" y="1586"/>
                  </a:lnTo>
                  <a:lnTo>
                    <a:pt x="1012" y="1611"/>
                  </a:lnTo>
                  <a:lnTo>
                    <a:pt x="939" y="1635"/>
                  </a:lnTo>
                  <a:lnTo>
                    <a:pt x="861" y="1645"/>
                  </a:lnTo>
                  <a:lnTo>
                    <a:pt x="778" y="1650"/>
                  </a:lnTo>
                  <a:lnTo>
                    <a:pt x="778" y="1650"/>
                  </a:lnTo>
                  <a:lnTo>
                    <a:pt x="700" y="1645"/>
                  </a:lnTo>
                  <a:lnTo>
                    <a:pt x="623" y="1635"/>
                  </a:lnTo>
                  <a:lnTo>
                    <a:pt x="550" y="1611"/>
                  </a:lnTo>
                  <a:lnTo>
                    <a:pt x="477" y="1586"/>
                  </a:lnTo>
                  <a:lnTo>
                    <a:pt x="409" y="1552"/>
                  </a:lnTo>
                  <a:lnTo>
                    <a:pt x="345" y="1509"/>
                  </a:lnTo>
                  <a:lnTo>
                    <a:pt x="287" y="1460"/>
                  </a:lnTo>
                  <a:lnTo>
                    <a:pt x="229" y="1406"/>
                  </a:lnTo>
                  <a:lnTo>
                    <a:pt x="180" y="1348"/>
                  </a:lnTo>
                  <a:lnTo>
                    <a:pt x="136" y="1285"/>
                  </a:lnTo>
                  <a:lnTo>
                    <a:pt x="92" y="1217"/>
                  </a:lnTo>
                  <a:lnTo>
                    <a:pt x="63" y="1144"/>
                  </a:lnTo>
                  <a:lnTo>
                    <a:pt x="34" y="1071"/>
                  </a:lnTo>
                  <a:lnTo>
                    <a:pt x="14" y="993"/>
                  </a:lnTo>
                  <a:lnTo>
                    <a:pt x="5" y="910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4" y="657"/>
                  </a:lnTo>
                  <a:lnTo>
                    <a:pt x="34" y="579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6" y="365"/>
                  </a:lnTo>
                  <a:lnTo>
                    <a:pt x="180" y="302"/>
                  </a:lnTo>
                  <a:lnTo>
                    <a:pt x="229" y="243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7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3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19400" y="653040"/>
              <a:ext cx="1314720" cy="1604160"/>
            </a:xfrm>
            <a:custGeom>
              <a:avLst/>
              <a:gdLst/>
              <a:ahLst/>
              <a:rect l="l" t="t" r="r" b="b"/>
              <a:pathLst>
                <a:path w="1567" h="1660">
                  <a:moveTo>
                    <a:pt x="783" y="0"/>
                  </a:moveTo>
                  <a:lnTo>
                    <a:pt x="783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7" y="34"/>
                  </a:lnTo>
                  <a:lnTo>
                    <a:pt x="1090" y="63"/>
                  </a:lnTo>
                  <a:lnTo>
                    <a:pt x="1158" y="98"/>
                  </a:lnTo>
                  <a:lnTo>
                    <a:pt x="1221" y="141"/>
                  </a:lnTo>
                  <a:lnTo>
                    <a:pt x="1280" y="190"/>
                  </a:lnTo>
                  <a:lnTo>
                    <a:pt x="1338" y="244"/>
                  </a:lnTo>
                  <a:lnTo>
                    <a:pt x="1387" y="302"/>
                  </a:lnTo>
                  <a:lnTo>
                    <a:pt x="1435" y="365"/>
                  </a:lnTo>
                  <a:lnTo>
                    <a:pt x="1474" y="433"/>
                  </a:lnTo>
                  <a:lnTo>
                    <a:pt x="1508" y="506"/>
                  </a:lnTo>
                  <a:lnTo>
                    <a:pt x="1533" y="584"/>
                  </a:lnTo>
                  <a:lnTo>
                    <a:pt x="1552" y="662"/>
                  </a:lnTo>
                  <a:lnTo>
                    <a:pt x="1562" y="745"/>
                  </a:lnTo>
                  <a:lnTo>
                    <a:pt x="1567" y="827"/>
                  </a:lnTo>
                  <a:lnTo>
                    <a:pt x="1567" y="827"/>
                  </a:lnTo>
                  <a:lnTo>
                    <a:pt x="1562" y="915"/>
                  </a:lnTo>
                  <a:lnTo>
                    <a:pt x="1552" y="998"/>
                  </a:lnTo>
                  <a:lnTo>
                    <a:pt x="1533" y="1076"/>
                  </a:lnTo>
                  <a:lnTo>
                    <a:pt x="1508" y="1149"/>
                  </a:lnTo>
                  <a:lnTo>
                    <a:pt x="1474" y="1222"/>
                  </a:lnTo>
                  <a:lnTo>
                    <a:pt x="1435" y="1290"/>
                  </a:lnTo>
                  <a:lnTo>
                    <a:pt x="1387" y="1358"/>
                  </a:lnTo>
                  <a:lnTo>
                    <a:pt x="1338" y="1416"/>
                  </a:lnTo>
                  <a:lnTo>
                    <a:pt x="1280" y="1470"/>
                  </a:lnTo>
                  <a:lnTo>
                    <a:pt x="1221" y="1514"/>
                  </a:lnTo>
                  <a:lnTo>
                    <a:pt x="1158" y="1557"/>
                  </a:lnTo>
                  <a:lnTo>
                    <a:pt x="1090" y="1591"/>
                  </a:lnTo>
                  <a:lnTo>
                    <a:pt x="1017" y="1621"/>
                  </a:lnTo>
                  <a:lnTo>
                    <a:pt x="939" y="1640"/>
                  </a:lnTo>
                  <a:lnTo>
                    <a:pt x="861" y="1655"/>
                  </a:lnTo>
                  <a:lnTo>
                    <a:pt x="783" y="1660"/>
                  </a:lnTo>
                  <a:lnTo>
                    <a:pt x="783" y="1660"/>
                  </a:lnTo>
                  <a:lnTo>
                    <a:pt x="705" y="1655"/>
                  </a:lnTo>
                  <a:lnTo>
                    <a:pt x="628" y="1640"/>
                  </a:lnTo>
                  <a:lnTo>
                    <a:pt x="550" y="1621"/>
                  </a:lnTo>
                  <a:lnTo>
                    <a:pt x="477" y="1591"/>
                  </a:lnTo>
                  <a:lnTo>
                    <a:pt x="409" y="1557"/>
                  </a:lnTo>
                  <a:lnTo>
                    <a:pt x="345" y="1514"/>
                  </a:lnTo>
                  <a:lnTo>
                    <a:pt x="287" y="1470"/>
                  </a:lnTo>
                  <a:lnTo>
                    <a:pt x="229" y="1416"/>
                  </a:lnTo>
                  <a:lnTo>
                    <a:pt x="180" y="1358"/>
                  </a:lnTo>
                  <a:lnTo>
                    <a:pt x="131" y="1290"/>
                  </a:lnTo>
                  <a:lnTo>
                    <a:pt x="92" y="1222"/>
                  </a:lnTo>
                  <a:lnTo>
                    <a:pt x="63" y="1149"/>
                  </a:lnTo>
                  <a:lnTo>
                    <a:pt x="34" y="1076"/>
                  </a:lnTo>
                  <a:lnTo>
                    <a:pt x="15" y="998"/>
                  </a:lnTo>
                  <a:lnTo>
                    <a:pt x="5" y="915"/>
                  </a:lnTo>
                  <a:lnTo>
                    <a:pt x="0" y="827"/>
                  </a:lnTo>
                  <a:lnTo>
                    <a:pt x="0" y="827"/>
                  </a:lnTo>
                  <a:lnTo>
                    <a:pt x="5" y="745"/>
                  </a:lnTo>
                  <a:lnTo>
                    <a:pt x="15" y="662"/>
                  </a:lnTo>
                  <a:lnTo>
                    <a:pt x="34" y="584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8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5" y="5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a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15080" y="648360"/>
              <a:ext cx="1322280" cy="1608840"/>
            </a:xfrm>
            <a:custGeom>
              <a:avLst/>
              <a:gdLst/>
              <a:ahLst/>
              <a:rect l="l" t="t" r="r" b="b"/>
              <a:pathLst>
                <a:path w="1576" h="1665">
                  <a:moveTo>
                    <a:pt x="788" y="0"/>
                  </a:moveTo>
                  <a:lnTo>
                    <a:pt x="788" y="0"/>
                  </a:lnTo>
                  <a:lnTo>
                    <a:pt x="866" y="5"/>
                  </a:lnTo>
                  <a:lnTo>
                    <a:pt x="944" y="15"/>
                  </a:lnTo>
                  <a:lnTo>
                    <a:pt x="1022" y="34"/>
                  </a:lnTo>
                  <a:lnTo>
                    <a:pt x="1090" y="64"/>
                  </a:lnTo>
                  <a:lnTo>
                    <a:pt x="1163" y="98"/>
                  </a:lnTo>
                  <a:lnTo>
                    <a:pt x="1226" y="141"/>
                  </a:lnTo>
                  <a:lnTo>
                    <a:pt x="1285" y="190"/>
                  </a:lnTo>
                  <a:lnTo>
                    <a:pt x="1343" y="244"/>
                  </a:lnTo>
                  <a:lnTo>
                    <a:pt x="1392" y="302"/>
                  </a:lnTo>
                  <a:lnTo>
                    <a:pt x="1440" y="365"/>
                  </a:lnTo>
                  <a:lnTo>
                    <a:pt x="1479" y="433"/>
                  </a:lnTo>
                  <a:lnTo>
                    <a:pt x="1513" y="506"/>
                  </a:lnTo>
                  <a:lnTo>
                    <a:pt x="1538" y="584"/>
                  </a:lnTo>
                  <a:lnTo>
                    <a:pt x="1557" y="667"/>
                  </a:lnTo>
                  <a:lnTo>
                    <a:pt x="1572" y="745"/>
                  </a:lnTo>
                  <a:lnTo>
                    <a:pt x="1576" y="832"/>
                  </a:lnTo>
                  <a:lnTo>
                    <a:pt x="1576" y="832"/>
                  </a:lnTo>
                  <a:lnTo>
                    <a:pt x="1572" y="915"/>
                  </a:lnTo>
                  <a:lnTo>
                    <a:pt x="1557" y="998"/>
                  </a:lnTo>
                  <a:lnTo>
                    <a:pt x="1538" y="1081"/>
                  </a:lnTo>
                  <a:lnTo>
                    <a:pt x="1513" y="1158"/>
                  </a:lnTo>
                  <a:lnTo>
                    <a:pt x="1479" y="1227"/>
                  </a:lnTo>
                  <a:lnTo>
                    <a:pt x="1440" y="1300"/>
                  </a:lnTo>
                  <a:lnTo>
                    <a:pt x="1392" y="1363"/>
                  </a:lnTo>
                  <a:lnTo>
                    <a:pt x="1343" y="1421"/>
                  </a:lnTo>
                  <a:lnTo>
                    <a:pt x="1285" y="1475"/>
                  </a:lnTo>
                  <a:lnTo>
                    <a:pt x="1226" y="1523"/>
                  </a:lnTo>
                  <a:lnTo>
                    <a:pt x="1163" y="1567"/>
                  </a:lnTo>
                  <a:lnTo>
                    <a:pt x="1090" y="1601"/>
                  </a:lnTo>
                  <a:lnTo>
                    <a:pt x="1022" y="1630"/>
                  </a:lnTo>
                  <a:lnTo>
                    <a:pt x="944" y="1650"/>
                  </a:lnTo>
                  <a:lnTo>
                    <a:pt x="866" y="1660"/>
                  </a:lnTo>
                  <a:lnTo>
                    <a:pt x="788" y="1665"/>
                  </a:lnTo>
                  <a:lnTo>
                    <a:pt x="788" y="1665"/>
                  </a:lnTo>
                  <a:lnTo>
                    <a:pt x="706" y="1660"/>
                  </a:lnTo>
                  <a:lnTo>
                    <a:pt x="628" y="1650"/>
                  </a:lnTo>
                  <a:lnTo>
                    <a:pt x="550" y="1630"/>
                  </a:lnTo>
                  <a:lnTo>
                    <a:pt x="482" y="1601"/>
                  </a:lnTo>
                  <a:lnTo>
                    <a:pt x="409" y="1567"/>
                  </a:lnTo>
                  <a:lnTo>
                    <a:pt x="346" y="1523"/>
                  </a:lnTo>
                  <a:lnTo>
                    <a:pt x="287" y="1475"/>
                  </a:lnTo>
                  <a:lnTo>
                    <a:pt x="229" y="1421"/>
                  </a:lnTo>
                  <a:lnTo>
                    <a:pt x="180" y="1363"/>
                  </a:lnTo>
                  <a:lnTo>
                    <a:pt x="131" y="1300"/>
                  </a:lnTo>
                  <a:lnTo>
                    <a:pt x="93" y="1227"/>
                  </a:lnTo>
                  <a:lnTo>
                    <a:pt x="58" y="1158"/>
                  </a:lnTo>
                  <a:lnTo>
                    <a:pt x="34" y="1081"/>
                  </a:lnTo>
                  <a:lnTo>
                    <a:pt x="15" y="998"/>
                  </a:lnTo>
                  <a:lnTo>
                    <a:pt x="0" y="91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0" y="745"/>
                  </a:lnTo>
                  <a:lnTo>
                    <a:pt x="15" y="667"/>
                  </a:lnTo>
                  <a:lnTo>
                    <a:pt x="34" y="584"/>
                  </a:lnTo>
                  <a:lnTo>
                    <a:pt x="58" y="506"/>
                  </a:lnTo>
                  <a:lnTo>
                    <a:pt x="93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6" y="141"/>
                  </a:lnTo>
                  <a:lnTo>
                    <a:pt x="409" y="98"/>
                  </a:lnTo>
                  <a:lnTo>
                    <a:pt x="482" y="64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6" y="5"/>
                  </a:lnTo>
                  <a:lnTo>
                    <a:pt x="788" y="0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06440" y="643320"/>
              <a:ext cx="1330920" cy="1617840"/>
            </a:xfrm>
            <a:custGeom>
              <a:avLst/>
              <a:gdLst/>
              <a:ahLst/>
              <a:rect l="l" t="t" r="r" b="b"/>
              <a:pathLst>
                <a:path w="1586" h="1674">
                  <a:moveTo>
                    <a:pt x="793" y="0"/>
                  </a:moveTo>
                  <a:lnTo>
                    <a:pt x="793" y="0"/>
                  </a:lnTo>
                  <a:lnTo>
                    <a:pt x="876" y="0"/>
                  </a:lnTo>
                  <a:lnTo>
                    <a:pt x="954" y="15"/>
                  </a:lnTo>
                  <a:lnTo>
                    <a:pt x="1027" y="35"/>
                  </a:lnTo>
                  <a:lnTo>
                    <a:pt x="1100" y="64"/>
                  </a:lnTo>
                  <a:lnTo>
                    <a:pt x="1173" y="98"/>
                  </a:lnTo>
                  <a:lnTo>
                    <a:pt x="1236" y="142"/>
                  </a:lnTo>
                  <a:lnTo>
                    <a:pt x="1295" y="190"/>
                  </a:lnTo>
                  <a:lnTo>
                    <a:pt x="1353" y="244"/>
                  </a:lnTo>
                  <a:lnTo>
                    <a:pt x="1406" y="302"/>
                  </a:lnTo>
                  <a:lnTo>
                    <a:pt x="1450" y="370"/>
                  </a:lnTo>
                  <a:lnTo>
                    <a:pt x="1489" y="438"/>
                  </a:lnTo>
                  <a:lnTo>
                    <a:pt x="1523" y="511"/>
                  </a:lnTo>
                  <a:lnTo>
                    <a:pt x="1548" y="589"/>
                  </a:lnTo>
                  <a:lnTo>
                    <a:pt x="1567" y="667"/>
                  </a:lnTo>
                  <a:lnTo>
                    <a:pt x="1582" y="750"/>
                  </a:lnTo>
                  <a:lnTo>
                    <a:pt x="1586" y="837"/>
                  </a:lnTo>
                  <a:lnTo>
                    <a:pt x="1586" y="837"/>
                  </a:lnTo>
                  <a:lnTo>
                    <a:pt x="1582" y="920"/>
                  </a:lnTo>
                  <a:lnTo>
                    <a:pt x="1567" y="1003"/>
                  </a:lnTo>
                  <a:lnTo>
                    <a:pt x="1548" y="1086"/>
                  </a:lnTo>
                  <a:lnTo>
                    <a:pt x="1523" y="1163"/>
                  </a:lnTo>
                  <a:lnTo>
                    <a:pt x="1489" y="1236"/>
                  </a:lnTo>
                  <a:lnTo>
                    <a:pt x="1450" y="1305"/>
                  </a:lnTo>
                  <a:lnTo>
                    <a:pt x="1406" y="1368"/>
                  </a:lnTo>
                  <a:lnTo>
                    <a:pt x="1353" y="1426"/>
                  </a:lnTo>
                  <a:lnTo>
                    <a:pt x="1295" y="1480"/>
                  </a:lnTo>
                  <a:lnTo>
                    <a:pt x="1236" y="1528"/>
                  </a:lnTo>
                  <a:lnTo>
                    <a:pt x="1173" y="1572"/>
                  </a:lnTo>
                  <a:lnTo>
                    <a:pt x="1100" y="1606"/>
                  </a:lnTo>
                  <a:lnTo>
                    <a:pt x="1027" y="1635"/>
                  </a:lnTo>
                  <a:lnTo>
                    <a:pt x="954" y="1655"/>
                  </a:lnTo>
                  <a:lnTo>
                    <a:pt x="876" y="1670"/>
                  </a:lnTo>
                  <a:lnTo>
                    <a:pt x="793" y="1674"/>
                  </a:lnTo>
                  <a:lnTo>
                    <a:pt x="793" y="1674"/>
                  </a:lnTo>
                  <a:lnTo>
                    <a:pt x="711" y="1670"/>
                  </a:lnTo>
                  <a:lnTo>
                    <a:pt x="633" y="1655"/>
                  </a:lnTo>
                  <a:lnTo>
                    <a:pt x="560" y="1635"/>
                  </a:lnTo>
                  <a:lnTo>
                    <a:pt x="487" y="1606"/>
                  </a:lnTo>
                  <a:lnTo>
                    <a:pt x="419" y="1572"/>
                  </a:lnTo>
                  <a:lnTo>
                    <a:pt x="351" y="1528"/>
                  </a:lnTo>
                  <a:lnTo>
                    <a:pt x="292" y="1480"/>
                  </a:lnTo>
                  <a:lnTo>
                    <a:pt x="234" y="1426"/>
                  </a:lnTo>
                  <a:lnTo>
                    <a:pt x="185" y="1368"/>
                  </a:lnTo>
                  <a:lnTo>
                    <a:pt x="137" y="1305"/>
                  </a:lnTo>
                  <a:lnTo>
                    <a:pt x="98" y="1236"/>
                  </a:lnTo>
                  <a:lnTo>
                    <a:pt x="64" y="1163"/>
                  </a:lnTo>
                  <a:lnTo>
                    <a:pt x="39" y="1086"/>
                  </a:lnTo>
                  <a:lnTo>
                    <a:pt x="20" y="1003"/>
                  </a:lnTo>
                  <a:lnTo>
                    <a:pt x="5" y="920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5" y="750"/>
                  </a:lnTo>
                  <a:lnTo>
                    <a:pt x="20" y="667"/>
                  </a:lnTo>
                  <a:lnTo>
                    <a:pt x="39" y="589"/>
                  </a:lnTo>
                  <a:lnTo>
                    <a:pt x="64" y="511"/>
                  </a:lnTo>
                  <a:lnTo>
                    <a:pt x="98" y="438"/>
                  </a:lnTo>
                  <a:lnTo>
                    <a:pt x="137" y="370"/>
                  </a:lnTo>
                  <a:lnTo>
                    <a:pt x="185" y="302"/>
                  </a:lnTo>
                  <a:lnTo>
                    <a:pt x="234" y="244"/>
                  </a:lnTo>
                  <a:lnTo>
                    <a:pt x="292" y="190"/>
                  </a:lnTo>
                  <a:lnTo>
                    <a:pt x="351" y="142"/>
                  </a:lnTo>
                  <a:lnTo>
                    <a:pt x="419" y="98"/>
                  </a:lnTo>
                  <a:lnTo>
                    <a:pt x="487" y="64"/>
                  </a:lnTo>
                  <a:lnTo>
                    <a:pt x="560" y="35"/>
                  </a:lnTo>
                  <a:lnTo>
                    <a:pt x="633" y="15"/>
                  </a:lnTo>
                  <a:lnTo>
                    <a:pt x="711" y="0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f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03200" y="639720"/>
              <a:ext cx="1334160" cy="1621800"/>
            </a:xfrm>
            <a:custGeom>
              <a:avLst/>
              <a:gdLst/>
              <a:ahLst/>
              <a:rect l="l" t="t" r="r" b="b"/>
              <a:pathLst>
                <a:path w="1590" h="1678">
                  <a:moveTo>
                    <a:pt x="797" y="0"/>
                  </a:moveTo>
                  <a:lnTo>
                    <a:pt x="797" y="0"/>
                  </a:lnTo>
                  <a:lnTo>
                    <a:pt x="875" y="0"/>
                  </a:lnTo>
                  <a:lnTo>
                    <a:pt x="953" y="14"/>
                  </a:lnTo>
                  <a:lnTo>
                    <a:pt x="1031" y="34"/>
                  </a:lnTo>
                  <a:lnTo>
                    <a:pt x="1104" y="63"/>
                  </a:lnTo>
                  <a:lnTo>
                    <a:pt x="1172" y="97"/>
                  </a:lnTo>
                  <a:lnTo>
                    <a:pt x="1240" y="141"/>
                  </a:lnTo>
                  <a:lnTo>
                    <a:pt x="1299" y="189"/>
                  </a:lnTo>
                  <a:lnTo>
                    <a:pt x="1357" y="243"/>
                  </a:lnTo>
                  <a:lnTo>
                    <a:pt x="1410" y="306"/>
                  </a:lnTo>
                  <a:lnTo>
                    <a:pt x="1454" y="369"/>
                  </a:lnTo>
                  <a:lnTo>
                    <a:pt x="1493" y="438"/>
                  </a:lnTo>
                  <a:lnTo>
                    <a:pt x="1527" y="511"/>
                  </a:lnTo>
                  <a:lnTo>
                    <a:pt x="1556" y="588"/>
                  </a:lnTo>
                  <a:lnTo>
                    <a:pt x="1576" y="671"/>
                  </a:lnTo>
                  <a:lnTo>
                    <a:pt x="1586" y="754"/>
                  </a:lnTo>
                  <a:lnTo>
                    <a:pt x="1590" y="837"/>
                  </a:lnTo>
                  <a:lnTo>
                    <a:pt x="1590" y="837"/>
                  </a:lnTo>
                  <a:lnTo>
                    <a:pt x="1586" y="924"/>
                  </a:lnTo>
                  <a:lnTo>
                    <a:pt x="1576" y="1007"/>
                  </a:lnTo>
                  <a:lnTo>
                    <a:pt x="1556" y="1090"/>
                  </a:lnTo>
                  <a:lnTo>
                    <a:pt x="1527" y="1167"/>
                  </a:lnTo>
                  <a:lnTo>
                    <a:pt x="1493" y="1240"/>
                  </a:lnTo>
                  <a:lnTo>
                    <a:pt x="1454" y="1309"/>
                  </a:lnTo>
                  <a:lnTo>
                    <a:pt x="1410" y="1372"/>
                  </a:lnTo>
                  <a:lnTo>
                    <a:pt x="1357" y="1435"/>
                  </a:lnTo>
                  <a:lnTo>
                    <a:pt x="1299" y="1489"/>
                  </a:lnTo>
                  <a:lnTo>
                    <a:pt x="1240" y="1537"/>
                  </a:lnTo>
                  <a:lnTo>
                    <a:pt x="1172" y="1576"/>
                  </a:lnTo>
                  <a:lnTo>
                    <a:pt x="1104" y="1615"/>
                  </a:lnTo>
                  <a:lnTo>
                    <a:pt x="1031" y="1644"/>
                  </a:lnTo>
                  <a:lnTo>
                    <a:pt x="953" y="1664"/>
                  </a:lnTo>
                  <a:lnTo>
                    <a:pt x="875" y="1674"/>
                  </a:lnTo>
                  <a:lnTo>
                    <a:pt x="797" y="1678"/>
                  </a:lnTo>
                  <a:lnTo>
                    <a:pt x="797" y="1678"/>
                  </a:lnTo>
                  <a:lnTo>
                    <a:pt x="715" y="1674"/>
                  </a:lnTo>
                  <a:lnTo>
                    <a:pt x="637" y="1664"/>
                  </a:lnTo>
                  <a:lnTo>
                    <a:pt x="559" y="1644"/>
                  </a:lnTo>
                  <a:lnTo>
                    <a:pt x="486" y="1615"/>
                  </a:lnTo>
                  <a:lnTo>
                    <a:pt x="418" y="1576"/>
                  </a:lnTo>
                  <a:lnTo>
                    <a:pt x="350" y="1537"/>
                  </a:lnTo>
                  <a:lnTo>
                    <a:pt x="291" y="1489"/>
                  </a:lnTo>
                  <a:lnTo>
                    <a:pt x="233" y="1435"/>
                  </a:lnTo>
                  <a:lnTo>
                    <a:pt x="180" y="1372"/>
                  </a:lnTo>
                  <a:lnTo>
                    <a:pt x="136" y="1309"/>
                  </a:lnTo>
                  <a:lnTo>
                    <a:pt x="97" y="1240"/>
                  </a:lnTo>
                  <a:lnTo>
                    <a:pt x="63" y="1167"/>
                  </a:lnTo>
                  <a:lnTo>
                    <a:pt x="34" y="1090"/>
                  </a:lnTo>
                  <a:lnTo>
                    <a:pt x="14" y="1007"/>
                  </a:lnTo>
                  <a:lnTo>
                    <a:pt x="4" y="924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4" y="754"/>
                  </a:lnTo>
                  <a:lnTo>
                    <a:pt x="14" y="671"/>
                  </a:lnTo>
                  <a:lnTo>
                    <a:pt x="34" y="588"/>
                  </a:lnTo>
                  <a:lnTo>
                    <a:pt x="63" y="511"/>
                  </a:lnTo>
                  <a:lnTo>
                    <a:pt x="97" y="438"/>
                  </a:lnTo>
                  <a:lnTo>
                    <a:pt x="136" y="369"/>
                  </a:lnTo>
                  <a:lnTo>
                    <a:pt x="180" y="306"/>
                  </a:lnTo>
                  <a:lnTo>
                    <a:pt x="233" y="243"/>
                  </a:lnTo>
                  <a:lnTo>
                    <a:pt x="291" y="189"/>
                  </a:lnTo>
                  <a:lnTo>
                    <a:pt x="350" y="141"/>
                  </a:lnTo>
                  <a:lnTo>
                    <a:pt x="418" y="97"/>
                  </a:lnTo>
                  <a:lnTo>
                    <a:pt x="486" y="63"/>
                  </a:lnTo>
                  <a:lnTo>
                    <a:pt x="559" y="34"/>
                  </a:lnTo>
                  <a:lnTo>
                    <a:pt x="637" y="14"/>
                  </a:lnTo>
                  <a:lnTo>
                    <a:pt x="715" y="0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99240" y="630000"/>
              <a:ext cx="1338120" cy="1636200"/>
            </a:xfrm>
            <a:custGeom>
              <a:avLst/>
              <a:gdLst/>
              <a:ahLst/>
              <a:rect l="l" t="t" r="r" b="b"/>
              <a:pathLst>
                <a:path w="1595" h="1693">
                  <a:moveTo>
                    <a:pt x="798" y="0"/>
                  </a:moveTo>
                  <a:lnTo>
                    <a:pt x="798" y="0"/>
                  </a:lnTo>
                  <a:lnTo>
                    <a:pt x="880" y="5"/>
                  </a:lnTo>
                  <a:lnTo>
                    <a:pt x="958" y="19"/>
                  </a:lnTo>
                  <a:lnTo>
                    <a:pt x="1036" y="39"/>
                  </a:lnTo>
                  <a:lnTo>
                    <a:pt x="1109" y="68"/>
                  </a:lnTo>
                  <a:lnTo>
                    <a:pt x="1177" y="102"/>
                  </a:lnTo>
                  <a:lnTo>
                    <a:pt x="1245" y="146"/>
                  </a:lnTo>
                  <a:lnTo>
                    <a:pt x="1308" y="195"/>
                  </a:lnTo>
                  <a:lnTo>
                    <a:pt x="1362" y="248"/>
                  </a:lnTo>
                  <a:lnTo>
                    <a:pt x="1415" y="311"/>
                  </a:lnTo>
                  <a:lnTo>
                    <a:pt x="1459" y="375"/>
                  </a:lnTo>
                  <a:lnTo>
                    <a:pt x="1503" y="443"/>
                  </a:lnTo>
                  <a:lnTo>
                    <a:pt x="1532" y="521"/>
                  </a:lnTo>
                  <a:lnTo>
                    <a:pt x="1561" y="598"/>
                  </a:lnTo>
                  <a:lnTo>
                    <a:pt x="1581" y="676"/>
                  </a:lnTo>
                  <a:lnTo>
                    <a:pt x="1595" y="759"/>
                  </a:lnTo>
                  <a:lnTo>
                    <a:pt x="1595" y="847"/>
                  </a:lnTo>
                  <a:lnTo>
                    <a:pt x="1595" y="847"/>
                  </a:lnTo>
                  <a:lnTo>
                    <a:pt x="1595" y="934"/>
                  </a:lnTo>
                  <a:lnTo>
                    <a:pt x="1581" y="1017"/>
                  </a:lnTo>
                  <a:lnTo>
                    <a:pt x="1561" y="1100"/>
                  </a:lnTo>
                  <a:lnTo>
                    <a:pt x="1532" y="1177"/>
                  </a:lnTo>
                  <a:lnTo>
                    <a:pt x="1503" y="1250"/>
                  </a:lnTo>
                  <a:lnTo>
                    <a:pt x="1459" y="1319"/>
                  </a:lnTo>
                  <a:lnTo>
                    <a:pt x="1415" y="1387"/>
                  </a:lnTo>
                  <a:lnTo>
                    <a:pt x="1362" y="1445"/>
                  </a:lnTo>
                  <a:lnTo>
                    <a:pt x="1308" y="1499"/>
                  </a:lnTo>
                  <a:lnTo>
                    <a:pt x="1245" y="1547"/>
                  </a:lnTo>
                  <a:lnTo>
                    <a:pt x="1177" y="1591"/>
                  </a:lnTo>
                  <a:lnTo>
                    <a:pt x="1109" y="1625"/>
                  </a:lnTo>
                  <a:lnTo>
                    <a:pt x="1036" y="1654"/>
                  </a:lnTo>
                  <a:lnTo>
                    <a:pt x="958" y="1674"/>
                  </a:lnTo>
                  <a:lnTo>
                    <a:pt x="880" y="1688"/>
                  </a:lnTo>
                  <a:lnTo>
                    <a:pt x="798" y="1693"/>
                  </a:lnTo>
                  <a:lnTo>
                    <a:pt x="798" y="1693"/>
                  </a:lnTo>
                  <a:lnTo>
                    <a:pt x="715" y="1688"/>
                  </a:lnTo>
                  <a:lnTo>
                    <a:pt x="637" y="1674"/>
                  </a:lnTo>
                  <a:lnTo>
                    <a:pt x="559" y="1654"/>
                  </a:lnTo>
                  <a:lnTo>
                    <a:pt x="486" y="1625"/>
                  </a:lnTo>
                  <a:lnTo>
                    <a:pt x="418" y="1591"/>
                  </a:lnTo>
                  <a:lnTo>
                    <a:pt x="350" y="1547"/>
                  </a:lnTo>
                  <a:lnTo>
                    <a:pt x="292" y="1499"/>
                  </a:lnTo>
                  <a:lnTo>
                    <a:pt x="233" y="1445"/>
                  </a:lnTo>
                  <a:lnTo>
                    <a:pt x="180" y="1387"/>
                  </a:lnTo>
                  <a:lnTo>
                    <a:pt x="136" y="1319"/>
                  </a:lnTo>
                  <a:lnTo>
                    <a:pt x="97" y="1250"/>
                  </a:lnTo>
                  <a:lnTo>
                    <a:pt x="63" y="1177"/>
                  </a:lnTo>
                  <a:lnTo>
                    <a:pt x="34" y="1100"/>
                  </a:lnTo>
                  <a:lnTo>
                    <a:pt x="14" y="1017"/>
                  </a:lnTo>
                  <a:lnTo>
                    <a:pt x="5" y="934"/>
                  </a:lnTo>
                  <a:lnTo>
                    <a:pt x="0" y="847"/>
                  </a:lnTo>
                  <a:lnTo>
                    <a:pt x="0" y="847"/>
                  </a:lnTo>
                  <a:lnTo>
                    <a:pt x="5" y="759"/>
                  </a:lnTo>
                  <a:lnTo>
                    <a:pt x="14" y="676"/>
                  </a:lnTo>
                  <a:lnTo>
                    <a:pt x="34" y="598"/>
                  </a:lnTo>
                  <a:lnTo>
                    <a:pt x="63" y="521"/>
                  </a:lnTo>
                  <a:lnTo>
                    <a:pt x="97" y="443"/>
                  </a:lnTo>
                  <a:lnTo>
                    <a:pt x="136" y="375"/>
                  </a:lnTo>
                  <a:lnTo>
                    <a:pt x="180" y="311"/>
                  </a:lnTo>
                  <a:lnTo>
                    <a:pt x="233" y="248"/>
                  </a:lnTo>
                  <a:lnTo>
                    <a:pt x="292" y="195"/>
                  </a:lnTo>
                  <a:lnTo>
                    <a:pt x="350" y="146"/>
                  </a:lnTo>
                  <a:lnTo>
                    <a:pt x="418" y="102"/>
                  </a:lnTo>
                  <a:lnTo>
                    <a:pt x="486" y="68"/>
                  </a:lnTo>
                  <a:lnTo>
                    <a:pt x="559" y="39"/>
                  </a:lnTo>
                  <a:lnTo>
                    <a:pt x="637" y="19"/>
                  </a:lnTo>
                  <a:lnTo>
                    <a:pt x="715" y="5"/>
                  </a:lnTo>
                  <a:lnTo>
                    <a:pt x="798" y="0"/>
                  </a:lnTo>
                  <a:lnTo>
                    <a:pt x="798" y="0"/>
                  </a:lnTo>
                  <a:close/>
                </a:path>
              </a:pathLst>
            </a:cu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9200" y="648360"/>
              <a:ext cx="1269720" cy="1571400"/>
            </a:xfrm>
            <a:custGeom>
              <a:avLst/>
              <a:gdLst/>
              <a:ahLst/>
              <a:rect l="l" t="t" r="r" b="b"/>
              <a:pathLst>
                <a:path w="1513" h="162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15"/>
                  </a:lnTo>
                  <a:lnTo>
                    <a:pt x="983" y="34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83" y="141"/>
                  </a:lnTo>
                  <a:lnTo>
                    <a:pt x="1241" y="185"/>
                  </a:lnTo>
                  <a:lnTo>
                    <a:pt x="1294" y="239"/>
                  </a:lnTo>
                  <a:lnTo>
                    <a:pt x="1343" y="297"/>
                  </a:lnTo>
                  <a:lnTo>
                    <a:pt x="1387" y="360"/>
                  </a:lnTo>
                  <a:lnTo>
                    <a:pt x="1426" y="424"/>
                  </a:lnTo>
                  <a:lnTo>
                    <a:pt x="1455" y="497"/>
                  </a:lnTo>
                  <a:lnTo>
                    <a:pt x="1479" y="570"/>
                  </a:lnTo>
                  <a:lnTo>
                    <a:pt x="1499" y="648"/>
                  </a:lnTo>
                  <a:lnTo>
                    <a:pt x="1513" y="730"/>
                  </a:lnTo>
                  <a:lnTo>
                    <a:pt x="1513" y="813"/>
                  </a:lnTo>
                  <a:lnTo>
                    <a:pt x="1513" y="813"/>
                  </a:lnTo>
                  <a:lnTo>
                    <a:pt x="1513" y="896"/>
                  </a:lnTo>
                  <a:lnTo>
                    <a:pt x="1499" y="978"/>
                  </a:lnTo>
                  <a:lnTo>
                    <a:pt x="1479" y="1056"/>
                  </a:lnTo>
                  <a:lnTo>
                    <a:pt x="1455" y="1129"/>
                  </a:lnTo>
                  <a:lnTo>
                    <a:pt x="1426" y="1197"/>
                  </a:lnTo>
                  <a:lnTo>
                    <a:pt x="1387" y="1266"/>
                  </a:lnTo>
                  <a:lnTo>
                    <a:pt x="1343" y="1329"/>
                  </a:lnTo>
                  <a:lnTo>
                    <a:pt x="1294" y="1387"/>
                  </a:lnTo>
                  <a:lnTo>
                    <a:pt x="1241" y="1441"/>
                  </a:lnTo>
                  <a:lnTo>
                    <a:pt x="1183" y="1484"/>
                  </a:lnTo>
                  <a:lnTo>
                    <a:pt x="1119" y="1528"/>
                  </a:lnTo>
                  <a:lnTo>
                    <a:pt x="1051" y="1562"/>
                  </a:lnTo>
                  <a:lnTo>
                    <a:pt x="983" y="1587"/>
                  </a:lnTo>
                  <a:lnTo>
                    <a:pt x="910" y="1611"/>
                  </a:lnTo>
                  <a:lnTo>
                    <a:pt x="832" y="1621"/>
                  </a:lnTo>
                  <a:lnTo>
                    <a:pt x="754" y="1626"/>
                  </a:lnTo>
                  <a:lnTo>
                    <a:pt x="754" y="1626"/>
                  </a:lnTo>
                  <a:lnTo>
                    <a:pt x="681" y="1621"/>
                  </a:lnTo>
                  <a:lnTo>
                    <a:pt x="604" y="1611"/>
                  </a:lnTo>
                  <a:lnTo>
                    <a:pt x="531" y="1587"/>
                  </a:lnTo>
                  <a:lnTo>
                    <a:pt x="463" y="1562"/>
                  </a:lnTo>
                  <a:lnTo>
                    <a:pt x="394" y="1528"/>
                  </a:lnTo>
                  <a:lnTo>
                    <a:pt x="331" y="1484"/>
                  </a:lnTo>
                  <a:lnTo>
                    <a:pt x="273" y="1441"/>
                  </a:lnTo>
                  <a:lnTo>
                    <a:pt x="219" y="1387"/>
                  </a:lnTo>
                  <a:lnTo>
                    <a:pt x="171" y="1329"/>
                  </a:lnTo>
                  <a:lnTo>
                    <a:pt x="127" y="1266"/>
                  </a:lnTo>
                  <a:lnTo>
                    <a:pt x="88" y="1197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0" y="896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0" y="730"/>
                  </a:lnTo>
                  <a:lnTo>
                    <a:pt x="15" y="648"/>
                  </a:lnTo>
                  <a:lnTo>
                    <a:pt x="34" y="570"/>
                  </a:lnTo>
                  <a:lnTo>
                    <a:pt x="59" y="497"/>
                  </a:lnTo>
                  <a:lnTo>
                    <a:pt x="88" y="424"/>
                  </a:lnTo>
                  <a:lnTo>
                    <a:pt x="127" y="360"/>
                  </a:lnTo>
                  <a:lnTo>
                    <a:pt x="171" y="297"/>
                  </a:lnTo>
                  <a:lnTo>
                    <a:pt x="219" y="239"/>
                  </a:lnTo>
                  <a:lnTo>
                    <a:pt x="273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3" y="64"/>
                  </a:lnTo>
                  <a:lnTo>
                    <a:pt x="531" y="34"/>
                  </a:lnTo>
                  <a:lnTo>
                    <a:pt x="604" y="15"/>
                  </a:lnTo>
                  <a:lnTo>
                    <a:pt x="681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056120" y="672480"/>
              <a:ext cx="1240920" cy="1527840"/>
            </a:xfrm>
            <a:custGeom>
              <a:avLst/>
              <a:gdLst/>
              <a:ahLst/>
              <a:rect l="l" t="t" r="r" b="b"/>
              <a:pathLst>
                <a:path w="1479" h="1581">
                  <a:moveTo>
                    <a:pt x="739" y="0"/>
                  </a:moveTo>
                  <a:lnTo>
                    <a:pt x="739" y="0"/>
                  </a:lnTo>
                  <a:lnTo>
                    <a:pt x="817" y="5"/>
                  </a:lnTo>
                  <a:lnTo>
                    <a:pt x="890" y="14"/>
                  </a:lnTo>
                  <a:lnTo>
                    <a:pt x="958" y="34"/>
                  </a:lnTo>
                  <a:lnTo>
                    <a:pt x="1026" y="63"/>
                  </a:lnTo>
                  <a:lnTo>
                    <a:pt x="1094" y="97"/>
                  </a:lnTo>
                  <a:lnTo>
                    <a:pt x="1153" y="136"/>
                  </a:lnTo>
                  <a:lnTo>
                    <a:pt x="1211" y="180"/>
                  </a:lnTo>
                  <a:lnTo>
                    <a:pt x="1265" y="233"/>
                  </a:lnTo>
                  <a:lnTo>
                    <a:pt x="1313" y="287"/>
                  </a:lnTo>
                  <a:lnTo>
                    <a:pt x="1352" y="350"/>
                  </a:lnTo>
                  <a:lnTo>
                    <a:pt x="1391" y="413"/>
                  </a:lnTo>
                  <a:lnTo>
                    <a:pt x="1420" y="486"/>
                  </a:lnTo>
                  <a:lnTo>
                    <a:pt x="1450" y="559"/>
                  </a:lnTo>
                  <a:lnTo>
                    <a:pt x="1464" y="632"/>
                  </a:lnTo>
                  <a:lnTo>
                    <a:pt x="1479" y="710"/>
                  </a:lnTo>
                  <a:lnTo>
                    <a:pt x="1479" y="793"/>
                  </a:lnTo>
                  <a:lnTo>
                    <a:pt x="1479" y="793"/>
                  </a:lnTo>
                  <a:lnTo>
                    <a:pt x="1479" y="871"/>
                  </a:lnTo>
                  <a:lnTo>
                    <a:pt x="1464" y="949"/>
                  </a:lnTo>
                  <a:lnTo>
                    <a:pt x="1450" y="1026"/>
                  </a:lnTo>
                  <a:lnTo>
                    <a:pt x="1420" y="1099"/>
                  </a:lnTo>
                  <a:lnTo>
                    <a:pt x="1391" y="1168"/>
                  </a:lnTo>
                  <a:lnTo>
                    <a:pt x="1352" y="1236"/>
                  </a:lnTo>
                  <a:lnTo>
                    <a:pt x="1313" y="1294"/>
                  </a:lnTo>
                  <a:lnTo>
                    <a:pt x="1265" y="1352"/>
                  </a:lnTo>
                  <a:lnTo>
                    <a:pt x="1211" y="1401"/>
                  </a:lnTo>
                  <a:lnTo>
                    <a:pt x="1153" y="1450"/>
                  </a:lnTo>
                  <a:lnTo>
                    <a:pt x="1094" y="1489"/>
                  </a:lnTo>
                  <a:lnTo>
                    <a:pt x="1026" y="1523"/>
                  </a:lnTo>
                  <a:lnTo>
                    <a:pt x="958" y="1547"/>
                  </a:lnTo>
                  <a:lnTo>
                    <a:pt x="890" y="1567"/>
                  </a:lnTo>
                  <a:lnTo>
                    <a:pt x="817" y="1581"/>
                  </a:lnTo>
                  <a:lnTo>
                    <a:pt x="739" y="1581"/>
                  </a:lnTo>
                  <a:lnTo>
                    <a:pt x="739" y="1581"/>
                  </a:lnTo>
                  <a:lnTo>
                    <a:pt x="666" y="1581"/>
                  </a:lnTo>
                  <a:lnTo>
                    <a:pt x="593" y="1567"/>
                  </a:lnTo>
                  <a:lnTo>
                    <a:pt x="520" y="1547"/>
                  </a:lnTo>
                  <a:lnTo>
                    <a:pt x="452" y="1523"/>
                  </a:lnTo>
                  <a:lnTo>
                    <a:pt x="389" y="1489"/>
                  </a:lnTo>
                  <a:lnTo>
                    <a:pt x="326" y="1450"/>
                  </a:lnTo>
                  <a:lnTo>
                    <a:pt x="272" y="1401"/>
                  </a:lnTo>
                  <a:lnTo>
                    <a:pt x="219" y="1352"/>
                  </a:lnTo>
                  <a:lnTo>
                    <a:pt x="170" y="1294"/>
                  </a:lnTo>
                  <a:lnTo>
                    <a:pt x="126" y="1236"/>
                  </a:lnTo>
                  <a:lnTo>
                    <a:pt x="92" y="1168"/>
                  </a:lnTo>
                  <a:lnTo>
                    <a:pt x="58" y="1099"/>
                  </a:lnTo>
                  <a:lnTo>
                    <a:pt x="34" y="1026"/>
                  </a:lnTo>
                  <a:lnTo>
                    <a:pt x="14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4" y="632"/>
                  </a:lnTo>
                  <a:lnTo>
                    <a:pt x="34" y="559"/>
                  </a:lnTo>
                  <a:lnTo>
                    <a:pt x="58" y="486"/>
                  </a:lnTo>
                  <a:lnTo>
                    <a:pt x="92" y="413"/>
                  </a:lnTo>
                  <a:lnTo>
                    <a:pt x="126" y="350"/>
                  </a:lnTo>
                  <a:lnTo>
                    <a:pt x="170" y="287"/>
                  </a:lnTo>
                  <a:lnTo>
                    <a:pt x="219" y="233"/>
                  </a:lnTo>
                  <a:lnTo>
                    <a:pt x="272" y="180"/>
                  </a:lnTo>
                  <a:lnTo>
                    <a:pt x="326" y="136"/>
                  </a:lnTo>
                  <a:lnTo>
                    <a:pt x="389" y="97"/>
                  </a:lnTo>
                  <a:lnTo>
                    <a:pt x="452" y="63"/>
                  </a:lnTo>
                  <a:lnTo>
                    <a:pt x="520" y="34"/>
                  </a:lnTo>
                  <a:lnTo>
                    <a:pt x="593" y="14"/>
                  </a:lnTo>
                  <a:lnTo>
                    <a:pt x="666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76280" y="695520"/>
              <a:ext cx="1212480" cy="1491120"/>
            </a:xfrm>
            <a:custGeom>
              <a:avLst/>
              <a:gdLst/>
              <a:ahLst/>
              <a:rect l="l" t="t" r="r" b="b"/>
              <a:pathLst>
                <a:path w="1445" h="1543">
                  <a:moveTo>
                    <a:pt x="720" y="0"/>
                  </a:moveTo>
                  <a:lnTo>
                    <a:pt x="720" y="0"/>
                  </a:lnTo>
                  <a:lnTo>
                    <a:pt x="793" y="5"/>
                  </a:lnTo>
                  <a:lnTo>
                    <a:pt x="866" y="19"/>
                  </a:lnTo>
                  <a:lnTo>
                    <a:pt x="934" y="34"/>
                  </a:lnTo>
                  <a:lnTo>
                    <a:pt x="1002" y="63"/>
                  </a:lnTo>
                  <a:lnTo>
                    <a:pt x="1066" y="97"/>
                  </a:lnTo>
                  <a:lnTo>
                    <a:pt x="1124" y="131"/>
                  </a:lnTo>
                  <a:lnTo>
                    <a:pt x="1178" y="180"/>
                  </a:lnTo>
                  <a:lnTo>
                    <a:pt x="1231" y="229"/>
                  </a:lnTo>
                  <a:lnTo>
                    <a:pt x="1280" y="282"/>
                  </a:lnTo>
                  <a:lnTo>
                    <a:pt x="1319" y="341"/>
                  </a:lnTo>
                  <a:lnTo>
                    <a:pt x="1358" y="404"/>
                  </a:lnTo>
                  <a:lnTo>
                    <a:pt x="1387" y="472"/>
                  </a:lnTo>
                  <a:lnTo>
                    <a:pt x="1411" y="545"/>
                  </a:lnTo>
                  <a:lnTo>
                    <a:pt x="1431" y="618"/>
                  </a:lnTo>
                  <a:lnTo>
                    <a:pt x="1440" y="691"/>
                  </a:lnTo>
                  <a:lnTo>
                    <a:pt x="1445" y="774"/>
                  </a:lnTo>
                  <a:lnTo>
                    <a:pt x="1445" y="774"/>
                  </a:lnTo>
                  <a:lnTo>
                    <a:pt x="1440" y="852"/>
                  </a:lnTo>
                  <a:lnTo>
                    <a:pt x="1431" y="925"/>
                  </a:lnTo>
                  <a:lnTo>
                    <a:pt x="1411" y="1002"/>
                  </a:lnTo>
                  <a:lnTo>
                    <a:pt x="1387" y="1071"/>
                  </a:lnTo>
                  <a:lnTo>
                    <a:pt x="1358" y="1139"/>
                  </a:lnTo>
                  <a:lnTo>
                    <a:pt x="1319" y="1202"/>
                  </a:lnTo>
                  <a:lnTo>
                    <a:pt x="1280" y="1260"/>
                  </a:lnTo>
                  <a:lnTo>
                    <a:pt x="1231" y="1314"/>
                  </a:lnTo>
                  <a:lnTo>
                    <a:pt x="1178" y="1367"/>
                  </a:lnTo>
                  <a:lnTo>
                    <a:pt x="1124" y="1411"/>
                  </a:lnTo>
                  <a:lnTo>
                    <a:pt x="1066" y="1450"/>
                  </a:lnTo>
                  <a:lnTo>
                    <a:pt x="1002" y="1479"/>
                  </a:lnTo>
                  <a:lnTo>
                    <a:pt x="934" y="1508"/>
                  </a:lnTo>
                  <a:lnTo>
                    <a:pt x="866" y="1528"/>
                  </a:lnTo>
                  <a:lnTo>
                    <a:pt x="793" y="1538"/>
                  </a:lnTo>
                  <a:lnTo>
                    <a:pt x="720" y="1543"/>
                  </a:lnTo>
                  <a:lnTo>
                    <a:pt x="720" y="1543"/>
                  </a:lnTo>
                  <a:lnTo>
                    <a:pt x="647" y="1538"/>
                  </a:lnTo>
                  <a:lnTo>
                    <a:pt x="574" y="1528"/>
                  </a:lnTo>
                  <a:lnTo>
                    <a:pt x="506" y="1508"/>
                  </a:lnTo>
                  <a:lnTo>
                    <a:pt x="438" y="1479"/>
                  </a:lnTo>
                  <a:lnTo>
                    <a:pt x="375" y="1450"/>
                  </a:lnTo>
                  <a:lnTo>
                    <a:pt x="316" y="1411"/>
                  </a:lnTo>
                  <a:lnTo>
                    <a:pt x="263" y="1367"/>
                  </a:lnTo>
                  <a:lnTo>
                    <a:pt x="209" y="1314"/>
                  </a:lnTo>
                  <a:lnTo>
                    <a:pt x="166" y="1260"/>
                  </a:lnTo>
                  <a:lnTo>
                    <a:pt x="122" y="1202"/>
                  </a:lnTo>
                  <a:lnTo>
                    <a:pt x="88" y="1139"/>
                  </a:lnTo>
                  <a:lnTo>
                    <a:pt x="54" y="1071"/>
                  </a:lnTo>
                  <a:lnTo>
                    <a:pt x="29" y="1002"/>
                  </a:lnTo>
                  <a:lnTo>
                    <a:pt x="15" y="925"/>
                  </a:lnTo>
                  <a:lnTo>
                    <a:pt x="0" y="85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691"/>
                  </a:lnTo>
                  <a:lnTo>
                    <a:pt x="15" y="618"/>
                  </a:lnTo>
                  <a:lnTo>
                    <a:pt x="29" y="545"/>
                  </a:lnTo>
                  <a:lnTo>
                    <a:pt x="54" y="472"/>
                  </a:lnTo>
                  <a:lnTo>
                    <a:pt x="88" y="404"/>
                  </a:lnTo>
                  <a:lnTo>
                    <a:pt x="122" y="341"/>
                  </a:lnTo>
                  <a:lnTo>
                    <a:pt x="166" y="282"/>
                  </a:lnTo>
                  <a:lnTo>
                    <a:pt x="209" y="229"/>
                  </a:lnTo>
                  <a:lnTo>
                    <a:pt x="263" y="180"/>
                  </a:lnTo>
                  <a:lnTo>
                    <a:pt x="316" y="131"/>
                  </a:lnTo>
                  <a:lnTo>
                    <a:pt x="375" y="97"/>
                  </a:lnTo>
                  <a:lnTo>
                    <a:pt x="438" y="63"/>
                  </a:lnTo>
                  <a:lnTo>
                    <a:pt x="506" y="34"/>
                  </a:lnTo>
                  <a:lnTo>
                    <a:pt x="574" y="19"/>
                  </a:lnTo>
                  <a:lnTo>
                    <a:pt x="647" y="5"/>
                  </a:lnTo>
                  <a:lnTo>
                    <a:pt x="720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93200" y="723600"/>
              <a:ext cx="1184040" cy="1443600"/>
            </a:xfrm>
            <a:custGeom>
              <a:avLst/>
              <a:gdLst/>
              <a:ahLst/>
              <a:rect l="l" t="t" r="r" b="b"/>
              <a:pathLst>
                <a:path w="1411" h="1494">
                  <a:moveTo>
                    <a:pt x="705" y="0"/>
                  </a:moveTo>
                  <a:lnTo>
                    <a:pt x="705" y="0"/>
                  </a:lnTo>
                  <a:lnTo>
                    <a:pt x="778" y="0"/>
                  </a:lnTo>
                  <a:lnTo>
                    <a:pt x="846" y="15"/>
                  </a:lnTo>
                  <a:lnTo>
                    <a:pt x="914" y="34"/>
                  </a:lnTo>
                  <a:lnTo>
                    <a:pt x="977" y="59"/>
                  </a:lnTo>
                  <a:lnTo>
                    <a:pt x="1041" y="88"/>
                  </a:lnTo>
                  <a:lnTo>
                    <a:pt x="1099" y="127"/>
                  </a:lnTo>
                  <a:lnTo>
                    <a:pt x="1153" y="171"/>
                  </a:lnTo>
                  <a:lnTo>
                    <a:pt x="1201" y="219"/>
                  </a:lnTo>
                  <a:lnTo>
                    <a:pt x="1250" y="273"/>
                  </a:lnTo>
                  <a:lnTo>
                    <a:pt x="1289" y="331"/>
                  </a:lnTo>
                  <a:lnTo>
                    <a:pt x="1323" y="389"/>
                  </a:lnTo>
                  <a:lnTo>
                    <a:pt x="1352" y="458"/>
                  </a:lnTo>
                  <a:lnTo>
                    <a:pt x="1376" y="526"/>
                  </a:lnTo>
                  <a:lnTo>
                    <a:pt x="1396" y="599"/>
                  </a:lnTo>
                  <a:lnTo>
                    <a:pt x="1406" y="672"/>
                  </a:lnTo>
                  <a:lnTo>
                    <a:pt x="1411" y="745"/>
                  </a:lnTo>
                  <a:lnTo>
                    <a:pt x="1411" y="745"/>
                  </a:lnTo>
                  <a:lnTo>
                    <a:pt x="1406" y="823"/>
                  </a:lnTo>
                  <a:lnTo>
                    <a:pt x="1396" y="896"/>
                  </a:lnTo>
                  <a:lnTo>
                    <a:pt x="1376" y="969"/>
                  </a:lnTo>
                  <a:lnTo>
                    <a:pt x="1352" y="1037"/>
                  </a:lnTo>
                  <a:lnTo>
                    <a:pt x="1323" y="1105"/>
                  </a:lnTo>
                  <a:lnTo>
                    <a:pt x="1289" y="1163"/>
                  </a:lnTo>
                  <a:lnTo>
                    <a:pt x="1250" y="1222"/>
                  </a:lnTo>
                  <a:lnTo>
                    <a:pt x="1201" y="1275"/>
                  </a:lnTo>
                  <a:lnTo>
                    <a:pt x="1153" y="1324"/>
                  </a:lnTo>
                  <a:lnTo>
                    <a:pt x="1099" y="1368"/>
                  </a:lnTo>
                  <a:lnTo>
                    <a:pt x="1041" y="1406"/>
                  </a:lnTo>
                  <a:lnTo>
                    <a:pt x="977" y="1436"/>
                  </a:lnTo>
                  <a:lnTo>
                    <a:pt x="914" y="1460"/>
                  </a:lnTo>
                  <a:lnTo>
                    <a:pt x="846" y="1479"/>
                  </a:lnTo>
                  <a:lnTo>
                    <a:pt x="778" y="1494"/>
                  </a:lnTo>
                  <a:lnTo>
                    <a:pt x="705" y="1494"/>
                  </a:lnTo>
                  <a:lnTo>
                    <a:pt x="705" y="1494"/>
                  </a:lnTo>
                  <a:lnTo>
                    <a:pt x="632" y="1494"/>
                  </a:lnTo>
                  <a:lnTo>
                    <a:pt x="564" y="1479"/>
                  </a:lnTo>
                  <a:lnTo>
                    <a:pt x="496" y="1460"/>
                  </a:lnTo>
                  <a:lnTo>
                    <a:pt x="433" y="1436"/>
                  </a:lnTo>
                  <a:lnTo>
                    <a:pt x="369" y="1406"/>
                  </a:lnTo>
                  <a:lnTo>
                    <a:pt x="311" y="1368"/>
                  </a:lnTo>
                  <a:lnTo>
                    <a:pt x="257" y="1324"/>
                  </a:lnTo>
                  <a:lnTo>
                    <a:pt x="209" y="1275"/>
                  </a:lnTo>
                  <a:lnTo>
                    <a:pt x="160" y="1222"/>
                  </a:lnTo>
                  <a:lnTo>
                    <a:pt x="121" y="1163"/>
                  </a:lnTo>
                  <a:lnTo>
                    <a:pt x="87" y="1105"/>
                  </a:lnTo>
                  <a:lnTo>
                    <a:pt x="53" y="1037"/>
                  </a:lnTo>
                  <a:lnTo>
                    <a:pt x="34" y="969"/>
                  </a:lnTo>
                  <a:lnTo>
                    <a:pt x="14" y="896"/>
                  </a:lnTo>
                  <a:lnTo>
                    <a:pt x="4" y="823"/>
                  </a:lnTo>
                  <a:lnTo>
                    <a:pt x="0" y="745"/>
                  </a:lnTo>
                  <a:lnTo>
                    <a:pt x="0" y="745"/>
                  </a:lnTo>
                  <a:lnTo>
                    <a:pt x="4" y="672"/>
                  </a:lnTo>
                  <a:lnTo>
                    <a:pt x="14" y="599"/>
                  </a:lnTo>
                  <a:lnTo>
                    <a:pt x="34" y="526"/>
                  </a:lnTo>
                  <a:lnTo>
                    <a:pt x="53" y="458"/>
                  </a:lnTo>
                  <a:lnTo>
                    <a:pt x="87" y="389"/>
                  </a:lnTo>
                  <a:lnTo>
                    <a:pt x="121" y="331"/>
                  </a:lnTo>
                  <a:lnTo>
                    <a:pt x="160" y="273"/>
                  </a:lnTo>
                  <a:lnTo>
                    <a:pt x="209" y="219"/>
                  </a:lnTo>
                  <a:lnTo>
                    <a:pt x="257" y="171"/>
                  </a:lnTo>
                  <a:lnTo>
                    <a:pt x="311" y="127"/>
                  </a:lnTo>
                  <a:lnTo>
                    <a:pt x="369" y="88"/>
                  </a:lnTo>
                  <a:lnTo>
                    <a:pt x="433" y="59"/>
                  </a:lnTo>
                  <a:lnTo>
                    <a:pt x="496" y="34"/>
                  </a:lnTo>
                  <a:lnTo>
                    <a:pt x="564" y="15"/>
                  </a:lnTo>
                  <a:lnTo>
                    <a:pt x="632" y="0"/>
                  </a:lnTo>
                  <a:lnTo>
                    <a:pt x="705" y="0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13000" y="747720"/>
              <a:ext cx="1151280" cy="1405080"/>
            </a:xfrm>
            <a:custGeom>
              <a:avLst/>
              <a:gdLst/>
              <a:ahLst/>
              <a:rect l="l" t="t" r="r" b="b"/>
              <a:pathLst>
                <a:path w="1372" h="1454">
                  <a:moveTo>
                    <a:pt x="686" y="0"/>
                  </a:moveTo>
                  <a:lnTo>
                    <a:pt x="686" y="0"/>
                  </a:lnTo>
                  <a:lnTo>
                    <a:pt x="754" y="4"/>
                  </a:lnTo>
                  <a:lnTo>
                    <a:pt x="822" y="14"/>
                  </a:lnTo>
                  <a:lnTo>
                    <a:pt x="890" y="34"/>
                  </a:lnTo>
                  <a:lnTo>
                    <a:pt x="949" y="58"/>
                  </a:lnTo>
                  <a:lnTo>
                    <a:pt x="1012" y="87"/>
                  </a:lnTo>
                  <a:lnTo>
                    <a:pt x="1065" y="121"/>
                  </a:lnTo>
                  <a:lnTo>
                    <a:pt x="1119" y="165"/>
                  </a:lnTo>
                  <a:lnTo>
                    <a:pt x="1168" y="214"/>
                  </a:lnTo>
                  <a:lnTo>
                    <a:pt x="1211" y="262"/>
                  </a:lnTo>
                  <a:lnTo>
                    <a:pt x="1255" y="321"/>
                  </a:lnTo>
                  <a:lnTo>
                    <a:pt x="1289" y="379"/>
                  </a:lnTo>
                  <a:lnTo>
                    <a:pt x="1318" y="442"/>
                  </a:lnTo>
                  <a:lnTo>
                    <a:pt x="1338" y="510"/>
                  </a:lnTo>
                  <a:lnTo>
                    <a:pt x="1357" y="579"/>
                  </a:lnTo>
                  <a:lnTo>
                    <a:pt x="1367" y="652"/>
                  </a:lnTo>
                  <a:lnTo>
                    <a:pt x="1372" y="725"/>
                  </a:lnTo>
                  <a:lnTo>
                    <a:pt x="1372" y="725"/>
                  </a:lnTo>
                  <a:lnTo>
                    <a:pt x="1367" y="802"/>
                  </a:lnTo>
                  <a:lnTo>
                    <a:pt x="1357" y="871"/>
                  </a:lnTo>
                  <a:lnTo>
                    <a:pt x="1338" y="944"/>
                  </a:lnTo>
                  <a:lnTo>
                    <a:pt x="1318" y="1007"/>
                  </a:lnTo>
                  <a:lnTo>
                    <a:pt x="1289" y="1070"/>
                  </a:lnTo>
                  <a:lnTo>
                    <a:pt x="1255" y="1133"/>
                  </a:lnTo>
                  <a:lnTo>
                    <a:pt x="1211" y="1187"/>
                  </a:lnTo>
                  <a:lnTo>
                    <a:pt x="1168" y="1240"/>
                  </a:lnTo>
                  <a:lnTo>
                    <a:pt x="1119" y="1289"/>
                  </a:lnTo>
                  <a:lnTo>
                    <a:pt x="1065" y="1328"/>
                  </a:lnTo>
                  <a:lnTo>
                    <a:pt x="1012" y="1367"/>
                  </a:lnTo>
                  <a:lnTo>
                    <a:pt x="949" y="1396"/>
                  </a:lnTo>
                  <a:lnTo>
                    <a:pt x="890" y="1420"/>
                  </a:lnTo>
                  <a:lnTo>
                    <a:pt x="822" y="1440"/>
                  </a:lnTo>
                  <a:lnTo>
                    <a:pt x="754" y="1450"/>
                  </a:lnTo>
                  <a:lnTo>
                    <a:pt x="686" y="1454"/>
                  </a:lnTo>
                  <a:lnTo>
                    <a:pt x="686" y="1454"/>
                  </a:lnTo>
                  <a:lnTo>
                    <a:pt x="613" y="1450"/>
                  </a:lnTo>
                  <a:lnTo>
                    <a:pt x="545" y="1440"/>
                  </a:lnTo>
                  <a:lnTo>
                    <a:pt x="482" y="1420"/>
                  </a:lnTo>
                  <a:lnTo>
                    <a:pt x="418" y="1396"/>
                  </a:lnTo>
                  <a:lnTo>
                    <a:pt x="355" y="1367"/>
                  </a:lnTo>
                  <a:lnTo>
                    <a:pt x="302" y="1328"/>
                  </a:lnTo>
                  <a:lnTo>
                    <a:pt x="248" y="1289"/>
                  </a:lnTo>
                  <a:lnTo>
                    <a:pt x="199" y="1240"/>
                  </a:lnTo>
                  <a:lnTo>
                    <a:pt x="156" y="1187"/>
                  </a:lnTo>
                  <a:lnTo>
                    <a:pt x="117" y="1133"/>
                  </a:lnTo>
                  <a:lnTo>
                    <a:pt x="83" y="1070"/>
                  </a:lnTo>
                  <a:lnTo>
                    <a:pt x="53" y="1007"/>
                  </a:lnTo>
                  <a:lnTo>
                    <a:pt x="29" y="944"/>
                  </a:lnTo>
                  <a:lnTo>
                    <a:pt x="10" y="871"/>
                  </a:lnTo>
                  <a:lnTo>
                    <a:pt x="0" y="802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652"/>
                  </a:lnTo>
                  <a:lnTo>
                    <a:pt x="10" y="579"/>
                  </a:lnTo>
                  <a:lnTo>
                    <a:pt x="29" y="510"/>
                  </a:lnTo>
                  <a:lnTo>
                    <a:pt x="53" y="442"/>
                  </a:lnTo>
                  <a:lnTo>
                    <a:pt x="83" y="379"/>
                  </a:lnTo>
                  <a:lnTo>
                    <a:pt x="117" y="321"/>
                  </a:lnTo>
                  <a:lnTo>
                    <a:pt x="156" y="262"/>
                  </a:lnTo>
                  <a:lnTo>
                    <a:pt x="199" y="214"/>
                  </a:lnTo>
                  <a:lnTo>
                    <a:pt x="248" y="165"/>
                  </a:lnTo>
                  <a:lnTo>
                    <a:pt x="302" y="121"/>
                  </a:lnTo>
                  <a:lnTo>
                    <a:pt x="355" y="87"/>
                  </a:lnTo>
                  <a:lnTo>
                    <a:pt x="418" y="58"/>
                  </a:lnTo>
                  <a:lnTo>
                    <a:pt x="482" y="34"/>
                  </a:lnTo>
                  <a:lnTo>
                    <a:pt x="545" y="14"/>
                  </a:lnTo>
                  <a:lnTo>
                    <a:pt x="613" y="4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29200" y="771120"/>
              <a:ext cx="1122840" cy="1363680"/>
            </a:xfrm>
            <a:custGeom>
              <a:avLst/>
              <a:gdLst/>
              <a:ahLst/>
              <a:rect l="l" t="t" r="r" b="b"/>
              <a:pathLst>
                <a:path w="1338" h="1411">
                  <a:moveTo>
                    <a:pt x="667" y="0"/>
                  </a:moveTo>
                  <a:lnTo>
                    <a:pt x="667" y="0"/>
                  </a:lnTo>
                  <a:lnTo>
                    <a:pt x="735" y="5"/>
                  </a:lnTo>
                  <a:lnTo>
                    <a:pt x="803" y="14"/>
                  </a:lnTo>
                  <a:lnTo>
                    <a:pt x="866" y="34"/>
                  </a:lnTo>
                  <a:lnTo>
                    <a:pt x="930" y="53"/>
                  </a:lnTo>
                  <a:lnTo>
                    <a:pt x="988" y="87"/>
                  </a:lnTo>
                  <a:lnTo>
                    <a:pt x="1042" y="122"/>
                  </a:lnTo>
                  <a:lnTo>
                    <a:pt x="1095" y="160"/>
                  </a:lnTo>
                  <a:lnTo>
                    <a:pt x="1144" y="209"/>
                  </a:lnTo>
                  <a:lnTo>
                    <a:pt x="1183" y="258"/>
                  </a:lnTo>
                  <a:lnTo>
                    <a:pt x="1222" y="311"/>
                  </a:lnTo>
                  <a:lnTo>
                    <a:pt x="1256" y="370"/>
                  </a:lnTo>
                  <a:lnTo>
                    <a:pt x="1285" y="433"/>
                  </a:lnTo>
                  <a:lnTo>
                    <a:pt x="1309" y="496"/>
                  </a:lnTo>
                  <a:lnTo>
                    <a:pt x="1324" y="564"/>
                  </a:lnTo>
                  <a:lnTo>
                    <a:pt x="1333" y="632"/>
                  </a:lnTo>
                  <a:lnTo>
                    <a:pt x="1338" y="705"/>
                  </a:lnTo>
                  <a:lnTo>
                    <a:pt x="1338" y="705"/>
                  </a:lnTo>
                  <a:lnTo>
                    <a:pt x="1333" y="778"/>
                  </a:lnTo>
                  <a:lnTo>
                    <a:pt x="1324" y="847"/>
                  </a:lnTo>
                  <a:lnTo>
                    <a:pt x="1309" y="915"/>
                  </a:lnTo>
                  <a:lnTo>
                    <a:pt x="1285" y="983"/>
                  </a:lnTo>
                  <a:lnTo>
                    <a:pt x="1256" y="1041"/>
                  </a:lnTo>
                  <a:lnTo>
                    <a:pt x="1222" y="1100"/>
                  </a:lnTo>
                  <a:lnTo>
                    <a:pt x="1183" y="1153"/>
                  </a:lnTo>
                  <a:lnTo>
                    <a:pt x="1144" y="1207"/>
                  </a:lnTo>
                  <a:lnTo>
                    <a:pt x="1095" y="1250"/>
                  </a:lnTo>
                  <a:lnTo>
                    <a:pt x="1042" y="1289"/>
                  </a:lnTo>
                  <a:lnTo>
                    <a:pt x="988" y="1328"/>
                  </a:lnTo>
                  <a:lnTo>
                    <a:pt x="930" y="1357"/>
                  </a:lnTo>
                  <a:lnTo>
                    <a:pt x="866" y="1382"/>
                  </a:lnTo>
                  <a:lnTo>
                    <a:pt x="803" y="1396"/>
                  </a:lnTo>
                  <a:lnTo>
                    <a:pt x="735" y="1406"/>
                  </a:lnTo>
                  <a:lnTo>
                    <a:pt x="667" y="1411"/>
                  </a:lnTo>
                  <a:lnTo>
                    <a:pt x="667" y="1411"/>
                  </a:lnTo>
                  <a:lnTo>
                    <a:pt x="599" y="1406"/>
                  </a:lnTo>
                  <a:lnTo>
                    <a:pt x="536" y="1396"/>
                  </a:lnTo>
                  <a:lnTo>
                    <a:pt x="472" y="1382"/>
                  </a:lnTo>
                  <a:lnTo>
                    <a:pt x="409" y="1357"/>
                  </a:lnTo>
                  <a:lnTo>
                    <a:pt x="351" y="1328"/>
                  </a:lnTo>
                  <a:lnTo>
                    <a:pt x="297" y="1289"/>
                  </a:lnTo>
                  <a:lnTo>
                    <a:pt x="244" y="1250"/>
                  </a:lnTo>
                  <a:lnTo>
                    <a:pt x="195" y="1207"/>
                  </a:lnTo>
                  <a:lnTo>
                    <a:pt x="151" y="1153"/>
                  </a:lnTo>
                  <a:lnTo>
                    <a:pt x="117" y="1100"/>
                  </a:lnTo>
                  <a:lnTo>
                    <a:pt x="83" y="1041"/>
                  </a:lnTo>
                  <a:lnTo>
                    <a:pt x="54" y="983"/>
                  </a:lnTo>
                  <a:lnTo>
                    <a:pt x="30" y="915"/>
                  </a:lnTo>
                  <a:lnTo>
                    <a:pt x="15" y="847"/>
                  </a:lnTo>
                  <a:lnTo>
                    <a:pt x="5" y="778"/>
                  </a:lnTo>
                  <a:lnTo>
                    <a:pt x="0" y="705"/>
                  </a:lnTo>
                  <a:lnTo>
                    <a:pt x="0" y="705"/>
                  </a:lnTo>
                  <a:lnTo>
                    <a:pt x="5" y="632"/>
                  </a:lnTo>
                  <a:lnTo>
                    <a:pt x="15" y="564"/>
                  </a:lnTo>
                  <a:lnTo>
                    <a:pt x="30" y="496"/>
                  </a:lnTo>
                  <a:lnTo>
                    <a:pt x="54" y="433"/>
                  </a:lnTo>
                  <a:lnTo>
                    <a:pt x="83" y="370"/>
                  </a:lnTo>
                  <a:lnTo>
                    <a:pt x="117" y="311"/>
                  </a:lnTo>
                  <a:lnTo>
                    <a:pt x="151" y="258"/>
                  </a:lnTo>
                  <a:lnTo>
                    <a:pt x="195" y="209"/>
                  </a:lnTo>
                  <a:lnTo>
                    <a:pt x="244" y="160"/>
                  </a:lnTo>
                  <a:lnTo>
                    <a:pt x="297" y="122"/>
                  </a:lnTo>
                  <a:lnTo>
                    <a:pt x="351" y="87"/>
                  </a:lnTo>
                  <a:lnTo>
                    <a:pt x="409" y="53"/>
                  </a:lnTo>
                  <a:lnTo>
                    <a:pt x="472" y="34"/>
                  </a:lnTo>
                  <a:lnTo>
                    <a:pt x="536" y="14"/>
                  </a:lnTo>
                  <a:lnTo>
                    <a:pt x="599" y="5"/>
                  </a:lnTo>
                  <a:lnTo>
                    <a:pt x="667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50080" y="794160"/>
              <a:ext cx="1090080" cy="1325880"/>
            </a:xfrm>
            <a:custGeom>
              <a:avLst/>
              <a:gdLst/>
              <a:ahLst/>
              <a:rect l="l" t="t" r="r" b="b"/>
              <a:pathLst>
                <a:path w="1299" h="1372">
                  <a:moveTo>
                    <a:pt x="647" y="0"/>
                  </a:moveTo>
                  <a:lnTo>
                    <a:pt x="647" y="0"/>
                  </a:lnTo>
                  <a:lnTo>
                    <a:pt x="715" y="5"/>
                  </a:lnTo>
                  <a:lnTo>
                    <a:pt x="778" y="15"/>
                  </a:lnTo>
                  <a:lnTo>
                    <a:pt x="841" y="34"/>
                  </a:lnTo>
                  <a:lnTo>
                    <a:pt x="900" y="54"/>
                  </a:lnTo>
                  <a:lnTo>
                    <a:pt x="958" y="83"/>
                  </a:lnTo>
                  <a:lnTo>
                    <a:pt x="1012" y="117"/>
                  </a:lnTo>
                  <a:lnTo>
                    <a:pt x="1060" y="156"/>
                  </a:lnTo>
                  <a:lnTo>
                    <a:pt x="1109" y="205"/>
                  </a:lnTo>
                  <a:lnTo>
                    <a:pt x="1148" y="253"/>
                  </a:lnTo>
                  <a:lnTo>
                    <a:pt x="1187" y="302"/>
                  </a:lnTo>
                  <a:lnTo>
                    <a:pt x="1221" y="360"/>
                  </a:lnTo>
                  <a:lnTo>
                    <a:pt x="1245" y="419"/>
                  </a:lnTo>
                  <a:lnTo>
                    <a:pt x="1270" y="482"/>
                  </a:lnTo>
                  <a:lnTo>
                    <a:pt x="1284" y="550"/>
                  </a:lnTo>
                  <a:lnTo>
                    <a:pt x="1294" y="618"/>
                  </a:lnTo>
                  <a:lnTo>
                    <a:pt x="1299" y="686"/>
                  </a:lnTo>
                  <a:lnTo>
                    <a:pt x="1299" y="686"/>
                  </a:lnTo>
                  <a:lnTo>
                    <a:pt x="1294" y="754"/>
                  </a:lnTo>
                  <a:lnTo>
                    <a:pt x="1284" y="823"/>
                  </a:lnTo>
                  <a:lnTo>
                    <a:pt x="1270" y="891"/>
                  </a:lnTo>
                  <a:lnTo>
                    <a:pt x="1245" y="954"/>
                  </a:lnTo>
                  <a:lnTo>
                    <a:pt x="1221" y="1012"/>
                  </a:lnTo>
                  <a:lnTo>
                    <a:pt x="1187" y="1071"/>
                  </a:lnTo>
                  <a:lnTo>
                    <a:pt x="1148" y="1119"/>
                  </a:lnTo>
                  <a:lnTo>
                    <a:pt x="1109" y="1168"/>
                  </a:lnTo>
                  <a:lnTo>
                    <a:pt x="1060" y="1212"/>
                  </a:lnTo>
                  <a:lnTo>
                    <a:pt x="1012" y="1256"/>
                  </a:lnTo>
                  <a:lnTo>
                    <a:pt x="958" y="1290"/>
                  </a:lnTo>
                  <a:lnTo>
                    <a:pt x="900" y="1319"/>
                  </a:lnTo>
                  <a:lnTo>
                    <a:pt x="841" y="1338"/>
                  </a:lnTo>
                  <a:lnTo>
                    <a:pt x="778" y="1358"/>
                  </a:lnTo>
                  <a:lnTo>
                    <a:pt x="715" y="1368"/>
                  </a:lnTo>
                  <a:lnTo>
                    <a:pt x="647" y="1372"/>
                  </a:lnTo>
                  <a:lnTo>
                    <a:pt x="647" y="1372"/>
                  </a:lnTo>
                  <a:lnTo>
                    <a:pt x="584" y="1368"/>
                  </a:lnTo>
                  <a:lnTo>
                    <a:pt x="515" y="1358"/>
                  </a:lnTo>
                  <a:lnTo>
                    <a:pt x="457" y="1338"/>
                  </a:lnTo>
                  <a:lnTo>
                    <a:pt x="394" y="1319"/>
                  </a:lnTo>
                  <a:lnTo>
                    <a:pt x="340" y="1290"/>
                  </a:lnTo>
                  <a:lnTo>
                    <a:pt x="287" y="1256"/>
                  </a:lnTo>
                  <a:lnTo>
                    <a:pt x="233" y="1212"/>
                  </a:lnTo>
                  <a:lnTo>
                    <a:pt x="189" y="1168"/>
                  </a:lnTo>
                  <a:lnTo>
                    <a:pt x="146" y="1119"/>
                  </a:lnTo>
                  <a:lnTo>
                    <a:pt x="107" y="1071"/>
                  </a:lnTo>
                  <a:lnTo>
                    <a:pt x="78" y="1012"/>
                  </a:lnTo>
                  <a:lnTo>
                    <a:pt x="48" y="954"/>
                  </a:lnTo>
                  <a:lnTo>
                    <a:pt x="29" y="891"/>
                  </a:lnTo>
                  <a:lnTo>
                    <a:pt x="9" y="823"/>
                  </a:lnTo>
                  <a:lnTo>
                    <a:pt x="0" y="754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18"/>
                  </a:lnTo>
                  <a:lnTo>
                    <a:pt x="9" y="550"/>
                  </a:lnTo>
                  <a:lnTo>
                    <a:pt x="29" y="482"/>
                  </a:lnTo>
                  <a:lnTo>
                    <a:pt x="48" y="419"/>
                  </a:lnTo>
                  <a:lnTo>
                    <a:pt x="78" y="360"/>
                  </a:lnTo>
                  <a:lnTo>
                    <a:pt x="107" y="302"/>
                  </a:lnTo>
                  <a:lnTo>
                    <a:pt x="146" y="253"/>
                  </a:lnTo>
                  <a:lnTo>
                    <a:pt x="189" y="205"/>
                  </a:lnTo>
                  <a:lnTo>
                    <a:pt x="233" y="156"/>
                  </a:lnTo>
                  <a:lnTo>
                    <a:pt x="287" y="117"/>
                  </a:lnTo>
                  <a:lnTo>
                    <a:pt x="340" y="83"/>
                  </a:lnTo>
                  <a:lnTo>
                    <a:pt x="394" y="54"/>
                  </a:lnTo>
                  <a:lnTo>
                    <a:pt x="457" y="34"/>
                  </a:lnTo>
                  <a:lnTo>
                    <a:pt x="515" y="15"/>
                  </a:lnTo>
                  <a:lnTo>
                    <a:pt x="584" y="5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65920" y="818280"/>
              <a:ext cx="1061640" cy="1283400"/>
            </a:xfrm>
            <a:custGeom>
              <a:avLst/>
              <a:gdLst/>
              <a:ahLst/>
              <a:rect l="l" t="t" r="r" b="b"/>
              <a:pathLst>
                <a:path w="1265" h="1328">
                  <a:moveTo>
                    <a:pt x="633" y="0"/>
                  </a:moveTo>
                  <a:lnTo>
                    <a:pt x="633" y="0"/>
                  </a:lnTo>
                  <a:lnTo>
                    <a:pt x="696" y="4"/>
                  </a:lnTo>
                  <a:lnTo>
                    <a:pt x="759" y="14"/>
                  </a:lnTo>
                  <a:lnTo>
                    <a:pt x="822" y="34"/>
                  </a:lnTo>
                  <a:lnTo>
                    <a:pt x="881" y="53"/>
                  </a:lnTo>
                  <a:lnTo>
                    <a:pt x="934" y="82"/>
                  </a:lnTo>
                  <a:lnTo>
                    <a:pt x="988" y="116"/>
                  </a:lnTo>
                  <a:lnTo>
                    <a:pt x="1036" y="155"/>
                  </a:lnTo>
                  <a:lnTo>
                    <a:pt x="1080" y="194"/>
                  </a:lnTo>
                  <a:lnTo>
                    <a:pt x="1119" y="243"/>
                  </a:lnTo>
                  <a:lnTo>
                    <a:pt x="1158" y="296"/>
                  </a:lnTo>
                  <a:lnTo>
                    <a:pt x="1187" y="350"/>
                  </a:lnTo>
                  <a:lnTo>
                    <a:pt x="1216" y="408"/>
                  </a:lnTo>
                  <a:lnTo>
                    <a:pt x="1236" y="467"/>
                  </a:lnTo>
                  <a:lnTo>
                    <a:pt x="1251" y="530"/>
                  </a:lnTo>
                  <a:lnTo>
                    <a:pt x="1260" y="598"/>
                  </a:lnTo>
                  <a:lnTo>
                    <a:pt x="1265" y="666"/>
                  </a:lnTo>
                  <a:lnTo>
                    <a:pt x="1265" y="666"/>
                  </a:lnTo>
                  <a:lnTo>
                    <a:pt x="1260" y="734"/>
                  </a:lnTo>
                  <a:lnTo>
                    <a:pt x="1251" y="798"/>
                  </a:lnTo>
                  <a:lnTo>
                    <a:pt x="1236" y="861"/>
                  </a:lnTo>
                  <a:lnTo>
                    <a:pt x="1216" y="924"/>
                  </a:lnTo>
                  <a:lnTo>
                    <a:pt x="1187" y="982"/>
                  </a:lnTo>
                  <a:lnTo>
                    <a:pt x="1158" y="1036"/>
                  </a:lnTo>
                  <a:lnTo>
                    <a:pt x="1119" y="1085"/>
                  </a:lnTo>
                  <a:lnTo>
                    <a:pt x="1080" y="1133"/>
                  </a:lnTo>
                  <a:lnTo>
                    <a:pt x="1036" y="1177"/>
                  </a:lnTo>
                  <a:lnTo>
                    <a:pt x="988" y="1216"/>
                  </a:lnTo>
                  <a:lnTo>
                    <a:pt x="934" y="1250"/>
                  </a:lnTo>
                  <a:lnTo>
                    <a:pt x="881" y="1274"/>
                  </a:lnTo>
                  <a:lnTo>
                    <a:pt x="822" y="1299"/>
                  </a:lnTo>
                  <a:lnTo>
                    <a:pt x="759" y="1313"/>
                  </a:lnTo>
                  <a:lnTo>
                    <a:pt x="696" y="1323"/>
                  </a:lnTo>
                  <a:lnTo>
                    <a:pt x="633" y="1328"/>
                  </a:lnTo>
                  <a:lnTo>
                    <a:pt x="633" y="1328"/>
                  </a:lnTo>
                  <a:lnTo>
                    <a:pt x="569" y="1323"/>
                  </a:lnTo>
                  <a:lnTo>
                    <a:pt x="506" y="1313"/>
                  </a:lnTo>
                  <a:lnTo>
                    <a:pt x="443" y="1299"/>
                  </a:lnTo>
                  <a:lnTo>
                    <a:pt x="389" y="1274"/>
                  </a:lnTo>
                  <a:lnTo>
                    <a:pt x="331" y="1250"/>
                  </a:lnTo>
                  <a:lnTo>
                    <a:pt x="277" y="1216"/>
                  </a:lnTo>
                  <a:lnTo>
                    <a:pt x="229" y="1177"/>
                  </a:lnTo>
                  <a:lnTo>
                    <a:pt x="185" y="1133"/>
                  </a:lnTo>
                  <a:lnTo>
                    <a:pt x="146" y="1085"/>
                  </a:lnTo>
                  <a:lnTo>
                    <a:pt x="107" y="1036"/>
                  </a:lnTo>
                  <a:lnTo>
                    <a:pt x="78" y="982"/>
                  </a:lnTo>
                  <a:lnTo>
                    <a:pt x="49" y="924"/>
                  </a:lnTo>
                  <a:lnTo>
                    <a:pt x="29" y="861"/>
                  </a:lnTo>
                  <a:lnTo>
                    <a:pt x="15" y="798"/>
                  </a:lnTo>
                  <a:lnTo>
                    <a:pt x="5" y="734"/>
                  </a:lnTo>
                  <a:lnTo>
                    <a:pt x="0" y="666"/>
                  </a:lnTo>
                  <a:lnTo>
                    <a:pt x="0" y="666"/>
                  </a:lnTo>
                  <a:lnTo>
                    <a:pt x="5" y="598"/>
                  </a:lnTo>
                  <a:lnTo>
                    <a:pt x="15" y="530"/>
                  </a:lnTo>
                  <a:lnTo>
                    <a:pt x="29" y="467"/>
                  </a:lnTo>
                  <a:lnTo>
                    <a:pt x="49" y="408"/>
                  </a:lnTo>
                  <a:lnTo>
                    <a:pt x="78" y="350"/>
                  </a:lnTo>
                  <a:lnTo>
                    <a:pt x="107" y="296"/>
                  </a:lnTo>
                  <a:lnTo>
                    <a:pt x="146" y="243"/>
                  </a:lnTo>
                  <a:lnTo>
                    <a:pt x="185" y="194"/>
                  </a:lnTo>
                  <a:lnTo>
                    <a:pt x="229" y="155"/>
                  </a:lnTo>
                  <a:lnTo>
                    <a:pt x="277" y="116"/>
                  </a:lnTo>
                  <a:lnTo>
                    <a:pt x="331" y="82"/>
                  </a:lnTo>
                  <a:lnTo>
                    <a:pt x="389" y="53"/>
                  </a:lnTo>
                  <a:lnTo>
                    <a:pt x="443" y="34"/>
                  </a:lnTo>
                  <a:lnTo>
                    <a:pt x="506" y="14"/>
                  </a:lnTo>
                  <a:lnTo>
                    <a:pt x="569" y="4"/>
                  </a:lnTo>
                  <a:lnTo>
                    <a:pt x="633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186080" y="846360"/>
              <a:ext cx="1029600" cy="1240920"/>
            </a:xfrm>
            <a:custGeom>
              <a:avLst/>
              <a:gdLst/>
              <a:ahLst/>
              <a:rect l="l" t="t" r="r" b="b"/>
              <a:pathLst>
                <a:path w="1227" h="1284">
                  <a:moveTo>
                    <a:pt x="613" y="0"/>
                  </a:moveTo>
                  <a:lnTo>
                    <a:pt x="613" y="0"/>
                  </a:lnTo>
                  <a:lnTo>
                    <a:pt x="677" y="0"/>
                  </a:lnTo>
                  <a:lnTo>
                    <a:pt x="735" y="9"/>
                  </a:lnTo>
                  <a:lnTo>
                    <a:pt x="794" y="29"/>
                  </a:lnTo>
                  <a:lnTo>
                    <a:pt x="852" y="48"/>
                  </a:lnTo>
                  <a:lnTo>
                    <a:pt x="905" y="78"/>
                  </a:lnTo>
                  <a:lnTo>
                    <a:pt x="954" y="107"/>
                  </a:lnTo>
                  <a:lnTo>
                    <a:pt x="1003" y="146"/>
                  </a:lnTo>
                  <a:lnTo>
                    <a:pt x="1047" y="185"/>
                  </a:lnTo>
                  <a:lnTo>
                    <a:pt x="1085" y="233"/>
                  </a:lnTo>
                  <a:lnTo>
                    <a:pt x="1119" y="282"/>
                  </a:lnTo>
                  <a:lnTo>
                    <a:pt x="1154" y="335"/>
                  </a:lnTo>
                  <a:lnTo>
                    <a:pt x="1178" y="389"/>
                  </a:lnTo>
                  <a:lnTo>
                    <a:pt x="1197" y="447"/>
                  </a:lnTo>
                  <a:lnTo>
                    <a:pt x="1217" y="511"/>
                  </a:lnTo>
                  <a:lnTo>
                    <a:pt x="1222" y="574"/>
                  </a:lnTo>
                  <a:lnTo>
                    <a:pt x="1227" y="642"/>
                  </a:lnTo>
                  <a:lnTo>
                    <a:pt x="1227" y="642"/>
                  </a:lnTo>
                  <a:lnTo>
                    <a:pt x="1222" y="705"/>
                  </a:lnTo>
                  <a:lnTo>
                    <a:pt x="1217" y="769"/>
                  </a:lnTo>
                  <a:lnTo>
                    <a:pt x="1197" y="832"/>
                  </a:lnTo>
                  <a:lnTo>
                    <a:pt x="1178" y="890"/>
                  </a:lnTo>
                  <a:lnTo>
                    <a:pt x="1154" y="944"/>
                  </a:lnTo>
                  <a:lnTo>
                    <a:pt x="1119" y="997"/>
                  </a:lnTo>
                  <a:lnTo>
                    <a:pt x="1085" y="1046"/>
                  </a:lnTo>
                  <a:lnTo>
                    <a:pt x="1047" y="1095"/>
                  </a:lnTo>
                  <a:lnTo>
                    <a:pt x="1003" y="1134"/>
                  </a:lnTo>
                  <a:lnTo>
                    <a:pt x="954" y="1172"/>
                  </a:lnTo>
                  <a:lnTo>
                    <a:pt x="905" y="1207"/>
                  </a:lnTo>
                  <a:lnTo>
                    <a:pt x="852" y="1231"/>
                  </a:lnTo>
                  <a:lnTo>
                    <a:pt x="794" y="1255"/>
                  </a:lnTo>
                  <a:lnTo>
                    <a:pt x="735" y="1270"/>
                  </a:lnTo>
                  <a:lnTo>
                    <a:pt x="677" y="1279"/>
                  </a:lnTo>
                  <a:lnTo>
                    <a:pt x="613" y="1284"/>
                  </a:lnTo>
                  <a:lnTo>
                    <a:pt x="613" y="1284"/>
                  </a:lnTo>
                  <a:lnTo>
                    <a:pt x="550" y="1279"/>
                  </a:lnTo>
                  <a:lnTo>
                    <a:pt x="487" y="1270"/>
                  </a:lnTo>
                  <a:lnTo>
                    <a:pt x="429" y="1255"/>
                  </a:lnTo>
                  <a:lnTo>
                    <a:pt x="375" y="1231"/>
                  </a:lnTo>
                  <a:lnTo>
                    <a:pt x="322" y="1207"/>
                  </a:lnTo>
                  <a:lnTo>
                    <a:pt x="268" y="1172"/>
                  </a:lnTo>
                  <a:lnTo>
                    <a:pt x="224" y="1134"/>
                  </a:lnTo>
                  <a:lnTo>
                    <a:pt x="180" y="1095"/>
                  </a:lnTo>
                  <a:lnTo>
                    <a:pt x="137" y="1046"/>
                  </a:lnTo>
                  <a:lnTo>
                    <a:pt x="103" y="997"/>
                  </a:lnTo>
                  <a:lnTo>
                    <a:pt x="73" y="944"/>
                  </a:lnTo>
                  <a:lnTo>
                    <a:pt x="44" y="890"/>
                  </a:lnTo>
                  <a:lnTo>
                    <a:pt x="25" y="832"/>
                  </a:lnTo>
                  <a:lnTo>
                    <a:pt x="10" y="769"/>
                  </a:lnTo>
                  <a:lnTo>
                    <a:pt x="0" y="705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1"/>
                  </a:lnTo>
                  <a:lnTo>
                    <a:pt x="25" y="447"/>
                  </a:lnTo>
                  <a:lnTo>
                    <a:pt x="44" y="389"/>
                  </a:lnTo>
                  <a:lnTo>
                    <a:pt x="73" y="335"/>
                  </a:lnTo>
                  <a:lnTo>
                    <a:pt x="103" y="282"/>
                  </a:lnTo>
                  <a:lnTo>
                    <a:pt x="137" y="233"/>
                  </a:lnTo>
                  <a:lnTo>
                    <a:pt x="180" y="185"/>
                  </a:lnTo>
                  <a:lnTo>
                    <a:pt x="224" y="146"/>
                  </a:lnTo>
                  <a:lnTo>
                    <a:pt x="268" y="107"/>
                  </a:lnTo>
                  <a:lnTo>
                    <a:pt x="322" y="78"/>
                  </a:lnTo>
                  <a:lnTo>
                    <a:pt x="375" y="48"/>
                  </a:lnTo>
                  <a:lnTo>
                    <a:pt x="429" y="29"/>
                  </a:lnTo>
                  <a:lnTo>
                    <a:pt x="487" y="9"/>
                  </a:lnTo>
                  <a:lnTo>
                    <a:pt x="550" y="0"/>
                  </a:lnTo>
                  <a:lnTo>
                    <a:pt x="613" y="0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03000" y="869760"/>
              <a:ext cx="1000440" cy="1199160"/>
            </a:xfrm>
            <a:custGeom>
              <a:avLst/>
              <a:gdLst/>
              <a:ahLst/>
              <a:rect l="l" t="t" r="r" b="b"/>
              <a:pathLst>
                <a:path w="1192" h="1241">
                  <a:moveTo>
                    <a:pt x="598" y="0"/>
                  </a:moveTo>
                  <a:lnTo>
                    <a:pt x="598" y="0"/>
                  </a:lnTo>
                  <a:lnTo>
                    <a:pt x="657" y="5"/>
                  </a:lnTo>
                  <a:lnTo>
                    <a:pt x="715" y="10"/>
                  </a:lnTo>
                  <a:lnTo>
                    <a:pt x="774" y="29"/>
                  </a:lnTo>
                  <a:lnTo>
                    <a:pt x="827" y="49"/>
                  </a:lnTo>
                  <a:lnTo>
                    <a:pt x="881" y="73"/>
                  </a:lnTo>
                  <a:lnTo>
                    <a:pt x="929" y="107"/>
                  </a:lnTo>
                  <a:lnTo>
                    <a:pt x="978" y="141"/>
                  </a:lnTo>
                  <a:lnTo>
                    <a:pt x="1017" y="180"/>
                  </a:lnTo>
                  <a:lnTo>
                    <a:pt x="1056" y="224"/>
                  </a:lnTo>
                  <a:lnTo>
                    <a:pt x="1090" y="273"/>
                  </a:lnTo>
                  <a:lnTo>
                    <a:pt x="1119" y="326"/>
                  </a:lnTo>
                  <a:lnTo>
                    <a:pt x="1148" y="380"/>
                  </a:lnTo>
                  <a:lnTo>
                    <a:pt x="1168" y="438"/>
                  </a:lnTo>
                  <a:lnTo>
                    <a:pt x="1182" y="496"/>
                  </a:lnTo>
                  <a:lnTo>
                    <a:pt x="1192" y="555"/>
                  </a:lnTo>
                  <a:lnTo>
                    <a:pt x="1192" y="618"/>
                  </a:lnTo>
                  <a:lnTo>
                    <a:pt x="1192" y="618"/>
                  </a:lnTo>
                  <a:lnTo>
                    <a:pt x="1192" y="681"/>
                  </a:lnTo>
                  <a:lnTo>
                    <a:pt x="1182" y="745"/>
                  </a:lnTo>
                  <a:lnTo>
                    <a:pt x="1168" y="803"/>
                  </a:lnTo>
                  <a:lnTo>
                    <a:pt x="1148" y="861"/>
                  </a:lnTo>
                  <a:lnTo>
                    <a:pt x="1119" y="915"/>
                  </a:lnTo>
                  <a:lnTo>
                    <a:pt x="1090" y="968"/>
                  </a:lnTo>
                  <a:lnTo>
                    <a:pt x="1056" y="1017"/>
                  </a:lnTo>
                  <a:lnTo>
                    <a:pt x="1017" y="1061"/>
                  </a:lnTo>
                  <a:lnTo>
                    <a:pt x="978" y="1100"/>
                  </a:lnTo>
                  <a:lnTo>
                    <a:pt x="929" y="1134"/>
                  </a:lnTo>
                  <a:lnTo>
                    <a:pt x="881" y="1168"/>
                  </a:lnTo>
                  <a:lnTo>
                    <a:pt x="827" y="1192"/>
                  </a:lnTo>
                  <a:lnTo>
                    <a:pt x="774" y="1212"/>
                  </a:lnTo>
                  <a:lnTo>
                    <a:pt x="715" y="1226"/>
                  </a:lnTo>
                  <a:lnTo>
                    <a:pt x="657" y="1236"/>
                  </a:lnTo>
                  <a:lnTo>
                    <a:pt x="598" y="1241"/>
                  </a:lnTo>
                  <a:lnTo>
                    <a:pt x="598" y="1241"/>
                  </a:lnTo>
                  <a:lnTo>
                    <a:pt x="535" y="1236"/>
                  </a:lnTo>
                  <a:lnTo>
                    <a:pt x="477" y="1226"/>
                  </a:lnTo>
                  <a:lnTo>
                    <a:pt x="418" y="1212"/>
                  </a:lnTo>
                  <a:lnTo>
                    <a:pt x="365" y="1192"/>
                  </a:lnTo>
                  <a:lnTo>
                    <a:pt x="311" y="1168"/>
                  </a:lnTo>
                  <a:lnTo>
                    <a:pt x="263" y="1134"/>
                  </a:lnTo>
                  <a:lnTo>
                    <a:pt x="219" y="1100"/>
                  </a:lnTo>
                  <a:lnTo>
                    <a:pt x="175" y="1061"/>
                  </a:lnTo>
                  <a:lnTo>
                    <a:pt x="136" y="1017"/>
                  </a:lnTo>
                  <a:lnTo>
                    <a:pt x="102" y="968"/>
                  </a:lnTo>
                  <a:lnTo>
                    <a:pt x="73" y="915"/>
                  </a:lnTo>
                  <a:lnTo>
                    <a:pt x="49" y="861"/>
                  </a:lnTo>
                  <a:lnTo>
                    <a:pt x="29" y="803"/>
                  </a:lnTo>
                  <a:lnTo>
                    <a:pt x="15" y="745"/>
                  </a:lnTo>
                  <a:lnTo>
                    <a:pt x="5" y="681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5" y="555"/>
                  </a:lnTo>
                  <a:lnTo>
                    <a:pt x="15" y="496"/>
                  </a:lnTo>
                  <a:lnTo>
                    <a:pt x="29" y="438"/>
                  </a:lnTo>
                  <a:lnTo>
                    <a:pt x="49" y="380"/>
                  </a:lnTo>
                  <a:lnTo>
                    <a:pt x="73" y="326"/>
                  </a:lnTo>
                  <a:lnTo>
                    <a:pt x="102" y="273"/>
                  </a:lnTo>
                  <a:lnTo>
                    <a:pt x="136" y="224"/>
                  </a:lnTo>
                  <a:lnTo>
                    <a:pt x="175" y="180"/>
                  </a:lnTo>
                  <a:lnTo>
                    <a:pt x="219" y="141"/>
                  </a:lnTo>
                  <a:lnTo>
                    <a:pt x="263" y="107"/>
                  </a:lnTo>
                  <a:lnTo>
                    <a:pt x="311" y="73"/>
                  </a:lnTo>
                  <a:lnTo>
                    <a:pt x="365" y="49"/>
                  </a:lnTo>
                  <a:lnTo>
                    <a:pt x="418" y="29"/>
                  </a:lnTo>
                  <a:lnTo>
                    <a:pt x="477" y="10"/>
                  </a:lnTo>
                  <a:lnTo>
                    <a:pt x="535" y="5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18840" y="892800"/>
              <a:ext cx="971640" cy="1156680"/>
            </a:xfrm>
            <a:custGeom>
              <a:avLst/>
              <a:gdLst/>
              <a:ahLst/>
              <a:rect l="l" t="t" r="r" b="b"/>
              <a:pathLst>
                <a:path w="1158" h="1197">
                  <a:moveTo>
                    <a:pt x="579" y="0"/>
                  </a:moveTo>
                  <a:lnTo>
                    <a:pt x="579" y="0"/>
                  </a:lnTo>
                  <a:lnTo>
                    <a:pt x="643" y="5"/>
                  </a:lnTo>
                  <a:lnTo>
                    <a:pt x="696" y="15"/>
                  </a:lnTo>
                  <a:lnTo>
                    <a:pt x="755" y="30"/>
                  </a:lnTo>
                  <a:lnTo>
                    <a:pt x="808" y="49"/>
                  </a:lnTo>
                  <a:lnTo>
                    <a:pt x="857" y="73"/>
                  </a:lnTo>
                  <a:lnTo>
                    <a:pt x="905" y="103"/>
                  </a:lnTo>
                  <a:lnTo>
                    <a:pt x="949" y="137"/>
                  </a:lnTo>
                  <a:lnTo>
                    <a:pt x="988" y="176"/>
                  </a:lnTo>
                  <a:lnTo>
                    <a:pt x="1027" y="219"/>
                  </a:lnTo>
                  <a:lnTo>
                    <a:pt x="1061" y="263"/>
                  </a:lnTo>
                  <a:lnTo>
                    <a:pt x="1090" y="317"/>
                  </a:lnTo>
                  <a:lnTo>
                    <a:pt x="1115" y="365"/>
                  </a:lnTo>
                  <a:lnTo>
                    <a:pt x="1134" y="424"/>
                  </a:lnTo>
                  <a:lnTo>
                    <a:pt x="1149" y="477"/>
                  </a:lnTo>
                  <a:lnTo>
                    <a:pt x="1158" y="541"/>
                  </a:lnTo>
                  <a:lnTo>
                    <a:pt x="1158" y="599"/>
                  </a:lnTo>
                  <a:lnTo>
                    <a:pt x="1158" y="599"/>
                  </a:lnTo>
                  <a:lnTo>
                    <a:pt x="1158" y="662"/>
                  </a:lnTo>
                  <a:lnTo>
                    <a:pt x="1149" y="721"/>
                  </a:lnTo>
                  <a:lnTo>
                    <a:pt x="1134" y="779"/>
                  </a:lnTo>
                  <a:lnTo>
                    <a:pt x="1115" y="832"/>
                  </a:lnTo>
                  <a:lnTo>
                    <a:pt x="1090" y="886"/>
                  </a:lnTo>
                  <a:lnTo>
                    <a:pt x="1061" y="935"/>
                  </a:lnTo>
                  <a:lnTo>
                    <a:pt x="1027" y="983"/>
                  </a:lnTo>
                  <a:lnTo>
                    <a:pt x="988" y="1022"/>
                  </a:lnTo>
                  <a:lnTo>
                    <a:pt x="949" y="1061"/>
                  </a:lnTo>
                  <a:lnTo>
                    <a:pt x="905" y="1095"/>
                  </a:lnTo>
                  <a:lnTo>
                    <a:pt x="857" y="1129"/>
                  </a:lnTo>
                  <a:lnTo>
                    <a:pt x="808" y="1154"/>
                  </a:lnTo>
                  <a:lnTo>
                    <a:pt x="755" y="1173"/>
                  </a:lnTo>
                  <a:lnTo>
                    <a:pt x="696" y="1188"/>
                  </a:lnTo>
                  <a:lnTo>
                    <a:pt x="643" y="1197"/>
                  </a:lnTo>
                  <a:lnTo>
                    <a:pt x="579" y="1197"/>
                  </a:lnTo>
                  <a:lnTo>
                    <a:pt x="579" y="1197"/>
                  </a:lnTo>
                  <a:lnTo>
                    <a:pt x="521" y="1197"/>
                  </a:lnTo>
                  <a:lnTo>
                    <a:pt x="463" y="1188"/>
                  </a:lnTo>
                  <a:lnTo>
                    <a:pt x="409" y="1173"/>
                  </a:lnTo>
                  <a:lnTo>
                    <a:pt x="356" y="1154"/>
                  </a:lnTo>
                  <a:lnTo>
                    <a:pt x="307" y="1129"/>
                  </a:lnTo>
                  <a:lnTo>
                    <a:pt x="258" y="1095"/>
                  </a:lnTo>
                  <a:lnTo>
                    <a:pt x="214" y="1061"/>
                  </a:lnTo>
                  <a:lnTo>
                    <a:pt x="171" y="1022"/>
                  </a:lnTo>
                  <a:lnTo>
                    <a:pt x="137" y="983"/>
                  </a:lnTo>
                  <a:lnTo>
                    <a:pt x="103" y="935"/>
                  </a:lnTo>
                  <a:lnTo>
                    <a:pt x="73" y="886"/>
                  </a:lnTo>
                  <a:lnTo>
                    <a:pt x="49" y="832"/>
                  </a:lnTo>
                  <a:lnTo>
                    <a:pt x="30" y="779"/>
                  </a:lnTo>
                  <a:lnTo>
                    <a:pt x="15" y="721"/>
                  </a:lnTo>
                  <a:lnTo>
                    <a:pt x="5" y="66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5" y="541"/>
                  </a:lnTo>
                  <a:lnTo>
                    <a:pt x="15" y="477"/>
                  </a:lnTo>
                  <a:lnTo>
                    <a:pt x="30" y="424"/>
                  </a:lnTo>
                  <a:lnTo>
                    <a:pt x="49" y="365"/>
                  </a:lnTo>
                  <a:lnTo>
                    <a:pt x="73" y="317"/>
                  </a:lnTo>
                  <a:lnTo>
                    <a:pt x="103" y="263"/>
                  </a:lnTo>
                  <a:lnTo>
                    <a:pt x="137" y="219"/>
                  </a:lnTo>
                  <a:lnTo>
                    <a:pt x="171" y="176"/>
                  </a:lnTo>
                  <a:lnTo>
                    <a:pt x="214" y="137"/>
                  </a:lnTo>
                  <a:lnTo>
                    <a:pt x="258" y="103"/>
                  </a:lnTo>
                  <a:lnTo>
                    <a:pt x="307" y="73"/>
                  </a:lnTo>
                  <a:lnTo>
                    <a:pt x="356" y="49"/>
                  </a:lnTo>
                  <a:lnTo>
                    <a:pt x="409" y="30"/>
                  </a:lnTo>
                  <a:lnTo>
                    <a:pt x="463" y="15"/>
                  </a:lnTo>
                  <a:lnTo>
                    <a:pt x="521" y="5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40080" y="916920"/>
              <a:ext cx="938880" cy="1119240"/>
            </a:xfrm>
            <a:custGeom>
              <a:avLst/>
              <a:gdLst/>
              <a:ahLst/>
              <a:rect l="l" t="t" r="r" b="b"/>
              <a:pathLst>
                <a:path w="1119" h="1158">
                  <a:moveTo>
                    <a:pt x="559" y="0"/>
                  </a:moveTo>
                  <a:lnTo>
                    <a:pt x="559" y="0"/>
                  </a:lnTo>
                  <a:lnTo>
                    <a:pt x="618" y="5"/>
                  </a:lnTo>
                  <a:lnTo>
                    <a:pt x="671" y="14"/>
                  </a:lnTo>
                  <a:lnTo>
                    <a:pt x="725" y="29"/>
                  </a:lnTo>
                  <a:lnTo>
                    <a:pt x="778" y="48"/>
                  </a:lnTo>
                  <a:lnTo>
                    <a:pt x="827" y="73"/>
                  </a:lnTo>
                  <a:lnTo>
                    <a:pt x="875" y="102"/>
                  </a:lnTo>
                  <a:lnTo>
                    <a:pt x="914" y="131"/>
                  </a:lnTo>
                  <a:lnTo>
                    <a:pt x="958" y="170"/>
                  </a:lnTo>
                  <a:lnTo>
                    <a:pt x="992" y="214"/>
                  </a:lnTo>
                  <a:lnTo>
                    <a:pt x="1026" y="258"/>
                  </a:lnTo>
                  <a:lnTo>
                    <a:pt x="1051" y="306"/>
                  </a:lnTo>
                  <a:lnTo>
                    <a:pt x="1075" y="355"/>
                  </a:lnTo>
                  <a:lnTo>
                    <a:pt x="1094" y="408"/>
                  </a:lnTo>
                  <a:lnTo>
                    <a:pt x="1109" y="462"/>
                  </a:lnTo>
                  <a:lnTo>
                    <a:pt x="1119" y="520"/>
                  </a:lnTo>
                  <a:lnTo>
                    <a:pt x="1119" y="579"/>
                  </a:lnTo>
                  <a:lnTo>
                    <a:pt x="1119" y="579"/>
                  </a:lnTo>
                  <a:lnTo>
                    <a:pt x="1119" y="637"/>
                  </a:lnTo>
                  <a:lnTo>
                    <a:pt x="1109" y="696"/>
                  </a:lnTo>
                  <a:lnTo>
                    <a:pt x="1094" y="749"/>
                  </a:lnTo>
                  <a:lnTo>
                    <a:pt x="1075" y="803"/>
                  </a:lnTo>
                  <a:lnTo>
                    <a:pt x="1051" y="856"/>
                  </a:lnTo>
                  <a:lnTo>
                    <a:pt x="1026" y="900"/>
                  </a:lnTo>
                  <a:lnTo>
                    <a:pt x="992" y="949"/>
                  </a:lnTo>
                  <a:lnTo>
                    <a:pt x="958" y="988"/>
                  </a:lnTo>
                  <a:lnTo>
                    <a:pt x="914" y="1026"/>
                  </a:lnTo>
                  <a:lnTo>
                    <a:pt x="875" y="1061"/>
                  </a:lnTo>
                  <a:lnTo>
                    <a:pt x="827" y="1090"/>
                  </a:lnTo>
                  <a:lnTo>
                    <a:pt x="778" y="1114"/>
                  </a:lnTo>
                  <a:lnTo>
                    <a:pt x="725" y="1134"/>
                  </a:lnTo>
                  <a:lnTo>
                    <a:pt x="671" y="1148"/>
                  </a:lnTo>
                  <a:lnTo>
                    <a:pt x="618" y="1153"/>
                  </a:lnTo>
                  <a:lnTo>
                    <a:pt x="559" y="1158"/>
                  </a:lnTo>
                  <a:lnTo>
                    <a:pt x="559" y="1158"/>
                  </a:lnTo>
                  <a:lnTo>
                    <a:pt x="501" y="1153"/>
                  </a:lnTo>
                  <a:lnTo>
                    <a:pt x="447" y="1148"/>
                  </a:lnTo>
                  <a:lnTo>
                    <a:pt x="394" y="1134"/>
                  </a:lnTo>
                  <a:lnTo>
                    <a:pt x="340" y="1114"/>
                  </a:lnTo>
                  <a:lnTo>
                    <a:pt x="292" y="1090"/>
                  </a:lnTo>
                  <a:lnTo>
                    <a:pt x="248" y="1061"/>
                  </a:lnTo>
                  <a:lnTo>
                    <a:pt x="204" y="1026"/>
                  </a:lnTo>
                  <a:lnTo>
                    <a:pt x="165" y="988"/>
                  </a:lnTo>
                  <a:lnTo>
                    <a:pt x="126" y="949"/>
                  </a:lnTo>
                  <a:lnTo>
                    <a:pt x="97" y="900"/>
                  </a:lnTo>
                  <a:lnTo>
                    <a:pt x="68" y="856"/>
                  </a:lnTo>
                  <a:lnTo>
                    <a:pt x="43" y="803"/>
                  </a:lnTo>
                  <a:lnTo>
                    <a:pt x="24" y="749"/>
                  </a:lnTo>
                  <a:lnTo>
                    <a:pt x="9" y="696"/>
                  </a:lnTo>
                  <a:lnTo>
                    <a:pt x="5" y="637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5" y="520"/>
                  </a:lnTo>
                  <a:lnTo>
                    <a:pt x="9" y="462"/>
                  </a:lnTo>
                  <a:lnTo>
                    <a:pt x="24" y="408"/>
                  </a:lnTo>
                  <a:lnTo>
                    <a:pt x="43" y="355"/>
                  </a:lnTo>
                  <a:lnTo>
                    <a:pt x="68" y="306"/>
                  </a:lnTo>
                  <a:lnTo>
                    <a:pt x="97" y="258"/>
                  </a:lnTo>
                  <a:lnTo>
                    <a:pt x="126" y="214"/>
                  </a:lnTo>
                  <a:lnTo>
                    <a:pt x="165" y="170"/>
                  </a:lnTo>
                  <a:lnTo>
                    <a:pt x="204" y="131"/>
                  </a:lnTo>
                  <a:lnTo>
                    <a:pt x="248" y="102"/>
                  </a:lnTo>
                  <a:lnTo>
                    <a:pt x="292" y="73"/>
                  </a:lnTo>
                  <a:lnTo>
                    <a:pt x="340" y="48"/>
                  </a:lnTo>
                  <a:lnTo>
                    <a:pt x="394" y="29"/>
                  </a:lnTo>
                  <a:lnTo>
                    <a:pt x="447" y="14"/>
                  </a:lnTo>
                  <a:lnTo>
                    <a:pt x="501" y="5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5920" y="940320"/>
              <a:ext cx="910440" cy="1076400"/>
            </a:xfrm>
            <a:custGeom>
              <a:avLst/>
              <a:gdLst/>
              <a:ahLst/>
              <a:rect l="l" t="t" r="r" b="b"/>
              <a:pathLst>
                <a:path w="1085" h="1114">
                  <a:moveTo>
                    <a:pt x="545" y="0"/>
                  </a:moveTo>
                  <a:lnTo>
                    <a:pt x="545" y="0"/>
                  </a:lnTo>
                  <a:lnTo>
                    <a:pt x="599" y="5"/>
                  </a:lnTo>
                  <a:lnTo>
                    <a:pt x="652" y="15"/>
                  </a:lnTo>
                  <a:lnTo>
                    <a:pt x="706" y="29"/>
                  </a:lnTo>
                  <a:lnTo>
                    <a:pt x="754" y="49"/>
                  </a:lnTo>
                  <a:lnTo>
                    <a:pt x="803" y="68"/>
                  </a:lnTo>
                  <a:lnTo>
                    <a:pt x="847" y="97"/>
                  </a:lnTo>
                  <a:lnTo>
                    <a:pt x="891" y="131"/>
                  </a:lnTo>
                  <a:lnTo>
                    <a:pt x="929" y="165"/>
                  </a:lnTo>
                  <a:lnTo>
                    <a:pt x="964" y="204"/>
                  </a:lnTo>
                  <a:lnTo>
                    <a:pt x="993" y="248"/>
                  </a:lnTo>
                  <a:lnTo>
                    <a:pt x="1022" y="292"/>
                  </a:lnTo>
                  <a:lnTo>
                    <a:pt x="1046" y="341"/>
                  </a:lnTo>
                  <a:lnTo>
                    <a:pt x="1061" y="394"/>
                  </a:lnTo>
                  <a:lnTo>
                    <a:pt x="1075" y="448"/>
                  </a:lnTo>
                  <a:lnTo>
                    <a:pt x="1085" y="501"/>
                  </a:lnTo>
                  <a:lnTo>
                    <a:pt x="1085" y="560"/>
                  </a:lnTo>
                  <a:lnTo>
                    <a:pt x="1085" y="560"/>
                  </a:lnTo>
                  <a:lnTo>
                    <a:pt x="1085" y="618"/>
                  </a:lnTo>
                  <a:lnTo>
                    <a:pt x="1075" y="672"/>
                  </a:lnTo>
                  <a:lnTo>
                    <a:pt x="1061" y="725"/>
                  </a:lnTo>
                  <a:lnTo>
                    <a:pt x="1046" y="774"/>
                  </a:lnTo>
                  <a:lnTo>
                    <a:pt x="1022" y="822"/>
                  </a:lnTo>
                  <a:lnTo>
                    <a:pt x="993" y="871"/>
                  </a:lnTo>
                  <a:lnTo>
                    <a:pt x="964" y="915"/>
                  </a:lnTo>
                  <a:lnTo>
                    <a:pt x="929" y="954"/>
                  </a:lnTo>
                  <a:lnTo>
                    <a:pt x="891" y="988"/>
                  </a:lnTo>
                  <a:lnTo>
                    <a:pt x="847" y="1022"/>
                  </a:lnTo>
                  <a:lnTo>
                    <a:pt x="803" y="1051"/>
                  </a:lnTo>
                  <a:lnTo>
                    <a:pt x="754" y="1071"/>
                  </a:lnTo>
                  <a:lnTo>
                    <a:pt x="706" y="1090"/>
                  </a:lnTo>
                  <a:lnTo>
                    <a:pt x="652" y="1105"/>
                  </a:lnTo>
                  <a:lnTo>
                    <a:pt x="599" y="1114"/>
                  </a:lnTo>
                  <a:lnTo>
                    <a:pt x="545" y="1114"/>
                  </a:lnTo>
                  <a:lnTo>
                    <a:pt x="545" y="1114"/>
                  </a:lnTo>
                  <a:lnTo>
                    <a:pt x="492" y="1114"/>
                  </a:lnTo>
                  <a:lnTo>
                    <a:pt x="438" y="1105"/>
                  </a:lnTo>
                  <a:lnTo>
                    <a:pt x="385" y="1090"/>
                  </a:lnTo>
                  <a:lnTo>
                    <a:pt x="336" y="1071"/>
                  </a:lnTo>
                  <a:lnTo>
                    <a:pt x="287" y="1051"/>
                  </a:lnTo>
                  <a:lnTo>
                    <a:pt x="243" y="1022"/>
                  </a:lnTo>
                  <a:lnTo>
                    <a:pt x="200" y="988"/>
                  </a:lnTo>
                  <a:lnTo>
                    <a:pt x="161" y="954"/>
                  </a:lnTo>
                  <a:lnTo>
                    <a:pt x="127" y="915"/>
                  </a:lnTo>
                  <a:lnTo>
                    <a:pt x="97" y="871"/>
                  </a:lnTo>
                  <a:lnTo>
                    <a:pt x="68" y="822"/>
                  </a:lnTo>
                  <a:lnTo>
                    <a:pt x="44" y="774"/>
                  </a:lnTo>
                  <a:lnTo>
                    <a:pt x="29" y="725"/>
                  </a:lnTo>
                  <a:lnTo>
                    <a:pt x="15" y="672"/>
                  </a:lnTo>
                  <a:lnTo>
                    <a:pt x="5" y="618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5" y="501"/>
                  </a:lnTo>
                  <a:lnTo>
                    <a:pt x="15" y="448"/>
                  </a:lnTo>
                  <a:lnTo>
                    <a:pt x="29" y="394"/>
                  </a:lnTo>
                  <a:lnTo>
                    <a:pt x="44" y="341"/>
                  </a:lnTo>
                  <a:lnTo>
                    <a:pt x="68" y="292"/>
                  </a:lnTo>
                  <a:lnTo>
                    <a:pt x="97" y="248"/>
                  </a:lnTo>
                  <a:lnTo>
                    <a:pt x="127" y="204"/>
                  </a:lnTo>
                  <a:lnTo>
                    <a:pt x="161" y="165"/>
                  </a:lnTo>
                  <a:lnTo>
                    <a:pt x="200" y="131"/>
                  </a:lnTo>
                  <a:lnTo>
                    <a:pt x="243" y="97"/>
                  </a:lnTo>
                  <a:lnTo>
                    <a:pt x="287" y="68"/>
                  </a:lnTo>
                  <a:lnTo>
                    <a:pt x="336" y="49"/>
                  </a:lnTo>
                  <a:lnTo>
                    <a:pt x="385" y="29"/>
                  </a:lnTo>
                  <a:lnTo>
                    <a:pt x="438" y="15"/>
                  </a:lnTo>
                  <a:lnTo>
                    <a:pt x="492" y="5"/>
                  </a:lnTo>
                  <a:lnTo>
                    <a:pt x="545" y="0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6080" y="968400"/>
              <a:ext cx="882000" cy="1035000"/>
            </a:xfrm>
            <a:custGeom>
              <a:avLst/>
              <a:gdLst/>
              <a:ahLst/>
              <a:rect l="l" t="t" r="r" b="b"/>
              <a:pathLst>
                <a:path w="1051" h="1071">
                  <a:moveTo>
                    <a:pt x="526" y="0"/>
                  </a:moveTo>
                  <a:lnTo>
                    <a:pt x="526" y="0"/>
                  </a:lnTo>
                  <a:lnTo>
                    <a:pt x="579" y="0"/>
                  </a:lnTo>
                  <a:lnTo>
                    <a:pt x="628" y="10"/>
                  </a:lnTo>
                  <a:lnTo>
                    <a:pt x="682" y="25"/>
                  </a:lnTo>
                  <a:lnTo>
                    <a:pt x="730" y="39"/>
                  </a:lnTo>
                  <a:lnTo>
                    <a:pt x="774" y="64"/>
                  </a:lnTo>
                  <a:lnTo>
                    <a:pt x="818" y="93"/>
                  </a:lnTo>
                  <a:lnTo>
                    <a:pt x="857" y="122"/>
                  </a:lnTo>
                  <a:lnTo>
                    <a:pt x="896" y="156"/>
                  </a:lnTo>
                  <a:lnTo>
                    <a:pt x="930" y="195"/>
                  </a:lnTo>
                  <a:lnTo>
                    <a:pt x="959" y="234"/>
                  </a:lnTo>
                  <a:lnTo>
                    <a:pt x="988" y="278"/>
                  </a:lnTo>
                  <a:lnTo>
                    <a:pt x="1008" y="326"/>
                  </a:lnTo>
                  <a:lnTo>
                    <a:pt x="1027" y="375"/>
                  </a:lnTo>
                  <a:lnTo>
                    <a:pt x="1037" y="428"/>
                  </a:lnTo>
                  <a:lnTo>
                    <a:pt x="1047" y="482"/>
                  </a:lnTo>
                  <a:lnTo>
                    <a:pt x="1051" y="536"/>
                  </a:lnTo>
                  <a:lnTo>
                    <a:pt x="1051" y="536"/>
                  </a:lnTo>
                  <a:lnTo>
                    <a:pt x="1047" y="589"/>
                  </a:lnTo>
                  <a:lnTo>
                    <a:pt x="1037" y="643"/>
                  </a:lnTo>
                  <a:lnTo>
                    <a:pt x="1027" y="691"/>
                  </a:lnTo>
                  <a:lnTo>
                    <a:pt x="1008" y="745"/>
                  </a:lnTo>
                  <a:lnTo>
                    <a:pt x="988" y="789"/>
                  </a:lnTo>
                  <a:lnTo>
                    <a:pt x="959" y="832"/>
                  </a:lnTo>
                  <a:lnTo>
                    <a:pt x="930" y="876"/>
                  </a:lnTo>
                  <a:lnTo>
                    <a:pt x="896" y="915"/>
                  </a:lnTo>
                  <a:lnTo>
                    <a:pt x="857" y="949"/>
                  </a:lnTo>
                  <a:lnTo>
                    <a:pt x="818" y="978"/>
                  </a:lnTo>
                  <a:lnTo>
                    <a:pt x="774" y="1008"/>
                  </a:lnTo>
                  <a:lnTo>
                    <a:pt x="730" y="1027"/>
                  </a:lnTo>
                  <a:lnTo>
                    <a:pt x="682" y="1046"/>
                  </a:lnTo>
                  <a:lnTo>
                    <a:pt x="628" y="1061"/>
                  </a:lnTo>
                  <a:lnTo>
                    <a:pt x="579" y="1066"/>
                  </a:lnTo>
                  <a:lnTo>
                    <a:pt x="526" y="1071"/>
                  </a:lnTo>
                  <a:lnTo>
                    <a:pt x="526" y="1071"/>
                  </a:lnTo>
                  <a:lnTo>
                    <a:pt x="472" y="1066"/>
                  </a:lnTo>
                  <a:lnTo>
                    <a:pt x="419" y="1061"/>
                  </a:lnTo>
                  <a:lnTo>
                    <a:pt x="370" y="1046"/>
                  </a:lnTo>
                  <a:lnTo>
                    <a:pt x="322" y="1027"/>
                  </a:lnTo>
                  <a:lnTo>
                    <a:pt x="273" y="1008"/>
                  </a:lnTo>
                  <a:lnTo>
                    <a:pt x="234" y="978"/>
                  </a:lnTo>
                  <a:lnTo>
                    <a:pt x="190" y="949"/>
                  </a:lnTo>
                  <a:lnTo>
                    <a:pt x="156" y="915"/>
                  </a:lnTo>
                  <a:lnTo>
                    <a:pt x="122" y="876"/>
                  </a:lnTo>
                  <a:lnTo>
                    <a:pt x="88" y="832"/>
                  </a:lnTo>
                  <a:lnTo>
                    <a:pt x="64" y="789"/>
                  </a:lnTo>
                  <a:lnTo>
                    <a:pt x="39" y="745"/>
                  </a:lnTo>
                  <a:lnTo>
                    <a:pt x="25" y="691"/>
                  </a:lnTo>
                  <a:lnTo>
                    <a:pt x="10" y="643"/>
                  </a:lnTo>
                  <a:lnTo>
                    <a:pt x="5" y="589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5" y="482"/>
                  </a:lnTo>
                  <a:lnTo>
                    <a:pt x="10" y="428"/>
                  </a:lnTo>
                  <a:lnTo>
                    <a:pt x="25" y="375"/>
                  </a:lnTo>
                  <a:lnTo>
                    <a:pt x="39" y="326"/>
                  </a:lnTo>
                  <a:lnTo>
                    <a:pt x="64" y="278"/>
                  </a:lnTo>
                  <a:lnTo>
                    <a:pt x="88" y="234"/>
                  </a:lnTo>
                  <a:lnTo>
                    <a:pt x="122" y="195"/>
                  </a:lnTo>
                  <a:lnTo>
                    <a:pt x="156" y="156"/>
                  </a:lnTo>
                  <a:lnTo>
                    <a:pt x="190" y="122"/>
                  </a:lnTo>
                  <a:lnTo>
                    <a:pt x="234" y="93"/>
                  </a:lnTo>
                  <a:lnTo>
                    <a:pt x="273" y="64"/>
                  </a:lnTo>
                  <a:lnTo>
                    <a:pt x="322" y="39"/>
                  </a:lnTo>
                  <a:lnTo>
                    <a:pt x="370" y="25"/>
                  </a:lnTo>
                  <a:lnTo>
                    <a:pt x="419" y="10"/>
                  </a:lnTo>
                  <a:lnTo>
                    <a:pt x="472" y="0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92640" y="992520"/>
              <a:ext cx="853200" cy="991440"/>
            </a:xfrm>
            <a:custGeom>
              <a:avLst/>
              <a:gdLst/>
              <a:ahLst/>
              <a:rect l="l" t="t" r="r" b="b"/>
              <a:pathLst>
                <a:path w="1017" h="1026">
                  <a:moveTo>
                    <a:pt x="511" y="0"/>
                  </a:moveTo>
                  <a:lnTo>
                    <a:pt x="511" y="0"/>
                  </a:lnTo>
                  <a:lnTo>
                    <a:pt x="559" y="0"/>
                  </a:lnTo>
                  <a:lnTo>
                    <a:pt x="613" y="9"/>
                  </a:lnTo>
                  <a:lnTo>
                    <a:pt x="657" y="24"/>
                  </a:lnTo>
                  <a:lnTo>
                    <a:pt x="705" y="39"/>
                  </a:lnTo>
                  <a:lnTo>
                    <a:pt x="749" y="63"/>
                  </a:lnTo>
                  <a:lnTo>
                    <a:pt x="793" y="87"/>
                  </a:lnTo>
                  <a:lnTo>
                    <a:pt x="832" y="116"/>
                  </a:lnTo>
                  <a:lnTo>
                    <a:pt x="866" y="150"/>
                  </a:lnTo>
                  <a:lnTo>
                    <a:pt x="900" y="184"/>
                  </a:lnTo>
                  <a:lnTo>
                    <a:pt x="929" y="228"/>
                  </a:lnTo>
                  <a:lnTo>
                    <a:pt x="954" y="267"/>
                  </a:lnTo>
                  <a:lnTo>
                    <a:pt x="973" y="316"/>
                  </a:lnTo>
                  <a:lnTo>
                    <a:pt x="992" y="360"/>
                  </a:lnTo>
                  <a:lnTo>
                    <a:pt x="1007" y="408"/>
                  </a:lnTo>
                  <a:lnTo>
                    <a:pt x="1012" y="462"/>
                  </a:lnTo>
                  <a:lnTo>
                    <a:pt x="1017" y="515"/>
                  </a:lnTo>
                  <a:lnTo>
                    <a:pt x="1017" y="515"/>
                  </a:lnTo>
                  <a:lnTo>
                    <a:pt x="1012" y="564"/>
                  </a:lnTo>
                  <a:lnTo>
                    <a:pt x="1007" y="618"/>
                  </a:lnTo>
                  <a:lnTo>
                    <a:pt x="992" y="666"/>
                  </a:lnTo>
                  <a:lnTo>
                    <a:pt x="973" y="715"/>
                  </a:lnTo>
                  <a:lnTo>
                    <a:pt x="954" y="759"/>
                  </a:lnTo>
                  <a:lnTo>
                    <a:pt x="929" y="802"/>
                  </a:lnTo>
                  <a:lnTo>
                    <a:pt x="900" y="841"/>
                  </a:lnTo>
                  <a:lnTo>
                    <a:pt x="866" y="875"/>
                  </a:lnTo>
                  <a:lnTo>
                    <a:pt x="832" y="910"/>
                  </a:lnTo>
                  <a:lnTo>
                    <a:pt x="793" y="939"/>
                  </a:lnTo>
                  <a:lnTo>
                    <a:pt x="749" y="963"/>
                  </a:lnTo>
                  <a:lnTo>
                    <a:pt x="705" y="987"/>
                  </a:lnTo>
                  <a:lnTo>
                    <a:pt x="657" y="1007"/>
                  </a:lnTo>
                  <a:lnTo>
                    <a:pt x="613" y="1017"/>
                  </a:lnTo>
                  <a:lnTo>
                    <a:pt x="559" y="1026"/>
                  </a:lnTo>
                  <a:lnTo>
                    <a:pt x="511" y="1026"/>
                  </a:lnTo>
                  <a:lnTo>
                    <a:pt x="511" y="1026"/>
                  </a:lnTo>
                  <a:lnTo>
                    <a:pt x="457" y="1026"/>
                  </a:lnTo>
                  <a:lnTo>
                    <a:pt x="409" y="1017"/>
                  </a:lnTo>
                  <a:lnTo>
                    <a:pt x="360" y="1007"/>
                  </a:lnTo>
                  <a:lnTo>
                    <a:pt x="311" y="987"/>
                  </a:lnTo>
                  <a:lnTo>
                    <a:pt x="268" y="963"/>
                  </a:lnTo>
                  <a:lnTo>
                    <a:pt x="224" y="939"/>
                  </a:lnTo>
                  <a:lnTo>
                    <a:pt x="185" y="910"/>
                  </a:lnTo>
                  <a:lnTo>
                    <a:pt x="151" y="875"/>
                  </a:lnTo>
                  <a:lnTo>
                    <a:pt x="117" y="841"/>
                  </a:lnTo>
                  <a:lnTo>
                    <a:pt x="88" y="802"/>
                  </a:lnTo>
                  <a:lnTo>
                    <a:pt x="63" y="759"/>
                  </a:lnTo>
                  <a:lnTo>
                    <a:pt x="44" y="715"/>
                  </a:lnTo>
                  <a:lnTo>
                    <a:pt x="24" y="666"/>
                  </a:lnTo>
                  <a:lnTo>
                    <a:pt x="15" y="618"/>
                  </a:lnTo>
                  <a:lnTo>
                    <a:pt x="5" y="564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5" y="462"/>
                  </a:lnTo>
                  <a:lnTo>
                    <a:pt x="15" y="408"/>
                  </a:lnTo>
                  <a:lnTo>
                    <a:pt x="24" y="360"/>
                  </a:lnTo>
                  <a:lnTo>
                    <a:pt x="44" y="316"/>
                  </a:lnTo>
                  <a:lnTo>
                    <a:pt x="63" y="267"/>
                  </a:lnTo>
                  <a:lnTo>
                    <a:pt x="88" y="228"/>
                  </a:lnTo>
                  <a:lnTo>
                    <a:pt x="117" y="184"/>
                  </a:lnTo>
                  <a:lnTo>
                    <a:pt x="151" y="150"/>
                  </a:lnTo>
                  <a:lnTo>
                    <a:pt x="185" y="116"/>
                  </a:lnTo>
                  <a:lnTo>
                    <a:pt x="224" y="87"/>
                  </a:lnTo>
                  <a:lnTo>
                    <a:pt x="268" y="63"/>
                  </a:lnTo>
                  <a:lnTo>
                    <a:pt x="311" y="39"/>
                  </a:lnTo>
                  <a:lnTo>
                    <a:pt x="360" y="24"/>
                  </a:lnTo>
                  <a:lnTo>
                    <a:pt x="409" y="9"/>
                  </a:lnTo>
                  <a:lnTo>
                    <a:pt x="457" y="0"/>
                  </a:lnTo>
                  <a:lnTo>
                    <a:pt x="511" y="0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13160" y="1015560"/>
              <a:ext cx="820800" cy="954720"/>
            </a:xfrm>
            <a:custGeom>
              <a:avLst/>
              <a:gdLst/>
              <a:ahLst/>
              <a:rect l="l" t="t" r="r" b="b"/>
              <a:pathLst>
                <a:path w="978" h="988">
                  <a:moveTo>
                    <a:pt x="487" y="0"/>
                  </a:moveTo>
                  <a:lnTo>
                    <a:pt x="487" y="0"/>
                  </a:lnTo>
                  <a:lnTo>
                    <a:pt x="540" y="5"/>
                  </a:lnTo>
                  <a:lnTo>
                    <a:pt x="589" y="10"/>
                  </a:lnTo>
                  <a:lnTo>
                    <a:pt x="633" y="24"/>
                  </a:lnTo>
                  <a:lnTo>
                    <a:pt x="677" y="39"/>
                  </a:lnTo>
                  <a:lnTo>
                    <a:pt x="720" y="58"/>
                  </a:lnTo>
                  <a:lnTo>
                    <a:pt x="759" y="83"/>
                  </a:lnTo>
                  <a:lnTo>
                    <a:pt x="798" y="112"/>
                  </a:lnTo>
                  <a:lnTo>
                    <a:pt x="832" y="146"/>
                  </a:lnTo>
                  <a:lnTo>
                    <a:pt x="866" y="180"/>
                  </a:lnTo>
                  <a:lnTo>
                    <a:pt x="896" y="219"/>
                  </a:lnTo>
                  <a:lnTo>
                    <a:pt x="920" y="258"/>
                  </a:lnTo>
                  <a:lnTo>
                    <a:pt x="939" y="302"/>
                  </a:lnTo>
                  <a:lnTo>
                    <a:pt x="954" y="345"/>
                  </a:lnTo>
                  <a:lnTo>
                    <a:pt x="968" y="394"/>
                  </a:lnTo>
                  <a:lnTo>
                    <a:pt x="973" y="443"/>
                  </a:lnTo>
                  <a:lnTo>
                    <a:pt x="978" y="491"/>
                  </a:lnTo>
                  <a:lnTo>
                    <a:pt x="978" y="491"/>
                  </a:lnTo>
                  <a:lnTo>
                    <a:pt x="973" y="545"/>
                  </a:lnTo>
                  <a:lnTo>
                    <a:pt x="968" y="594"/>
                  </a:lnTo>
                  <a:lnTo>
                    <a:pt x="954" y="637"/>
                  </a:lnTo>
                  <a:lnTo>
                    <a:pt x="939" y="686"/>
                  </a:lnTo>
                  <a:lnTo>
                    <a:pt x="920" y="730"/>
                  </a:lnTo>
                  <a:lnTo>
                    <a:pt x="896" y="769"/>
                  </a:lnTo>
                  <a:lnTo>
                    <a:pt x="866" y="808"/>
                  </a:lnTo>
                  <a:lnTo>
                    <a:pt x="832" y="842"/>
                  </a:lnTo>
                  <a:lnTo>
                    <a:pt x="798" y="876"/>
                  </a:lnTo>
                  <a:lnTo>
                    <a:pt x="759" y="900"/>
                  </a:lnTo>
                  <a:lnTo>
                    <a:pt x="720" y="924"/>
                  </a:lnTo>
                  <a:lnTo>
                    <a:pt x="677" y="949"/>
                  </a:lnTo>
                  <a:lnTo>
                    <a:pt x="633" y="963"/>
                  </a:lnTo>
                  <a:lnTo>
                    <a:pt x="589" y="978"/>
                  </a:lnTo>
                  <a:lnTo>
                    <a:pt x="540" y="983"/>
                  </a:lnTo>
                  <a:lnTo>
                    <a:pt x="487" y="988"/>
                  </a:lnTo>
                  <a:lnTo>
                    <a:pt x="487" y="988"/>
                  </a:lnTo>
                  <a:lnTo>
                    <a:pt x="438" y="983"/>
                  </a:lnTo>
                  <a:lnTo>
                    <a:pt x="390" y="978"/>
                  </a:lnTo>
                  <a:lnTo>
                    <a:pt x="346" y="963"/>
                  </a:lnTo>
                  <a:lnTo>
                    <a:pt x="297" y="949"/>
                  </a:lnTo>
                  <a:lnTo>
                    <a:pt x="258" y="924"/>
                  </a:lnTo>
                  <a:lnTo>
                    <a:pt x="214" y="900"/>
                  </a:lnTo>
                  <a:lnTo>
                    <a:pt x="180" y="876"/>
                  </a:lnTo>
                  <a:lnTo>
                    <a:pt x="141" y="842"/>
                  </a:lnTo>
                  <a:lnTo>
                    <a:pt x="112" y="808"/>
                  </a:lnTo>
                  <a:lnTo>
                    <a:pt x="83" y="769"/>
                  </a:lnTo>
                  <a:lnTo>
                    <a:pt x="59" y="730"/>
                  </a:lnTo>
                  <a:lnTo>
                    <a:pt x="39" y="686"/>
                  </a:lnTo>
                  <a:lnTo>
                    <a:pt x="20" y="637"/>
                  </a:lnTo>
                  <a:lnTo>
                    <a:pt x="10" y="594"/>
                  </a:lnTo>
                  <a:lnTo>
                    <a:pt x="0" y="545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0" y="443"/>
                  </a:lnTo>
                  <a:lnTo>
                    <a:pt x="10" y="394"/>
                  </a:lnTo>
                  <a:lnTo>
                    <a:pt x="20" y="345"/>
                  </a:lnTo>
                  <a:lnTo>
                    <a:pt x="39" y="302"/>
                  </a:lnTo>
                  <a:lnTo>
                    <a:pt x="59" y="258"/>
                  </a:lnTo>
                  <a:lnTo>
                    <a:pt x="83" y="219"/>
                  </a:lnTo>
                  <a:lnTo>
                    <a:pt x="112" y="180"/>
                  </a:lnTo>
                  <a:lnTo>
                    <a:pt x="141" y="146"/>
                  </a:lnTo>
                  <a:lnTo>
                    <a:pt x="180" y="112"/>
                  </a:lnTo>
                  <a:lnTo>
                    <a:pt x="214" y="83"/>
                  </a:lnTo>
                  <a:lnTo>
                    <a:pt x="258" y="58"/>
                  </a:lnTo>
                  <a:lnTo>
                    <a:pt x="297" y="39"/>
                  </a:lnTo>
                  <a:lnTo>
                    <a:pt x="346" y="24"/>
                  </a:lnTo>
                  <a:lnTo>
                    <a:pt x="390" y="10"/>
                  </a:lnTo>
                  <a:lnTo>
                    <a:pt x="438" y="5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29720" y="1038960"/>
              <a:ext cx="792000" cy="9118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472" y="0"/>
                  </a:moveTo>
                  <a:lnTo>
                    <a:pt x="472" y="0"/>
                  </a:lnTo>
                  <a:lnTo>
                    <a:pt x="520" y="5"/>
                  </a:lnTo>
                  <a:lnTo>
                    <a:pt x="569" y="10"/>
                  </a:lnTo>
                  <a:lnTo>
                    <a:pt x="613" y="25"/>
                  </a:lnTo>
                  <a:lnTo>
                    <a:pt x="657" y="39"/>
                  </a:lnTo>
                  <a:lnTo>
                    <a:pt x="695" y="59"/>
                  </a:lnTo>
                  <a:lnTo>
                    <a:pt x="734" y="83"/>
                  </a:lnTo>
                  <a:lnTo>
                    <a:pt x="773" y="112"/>
                  </a:lnTo>
                  <a:lnTo>
                    <a:pt x="803" y="141"/>
                  </a:lnTo>
                  <a:lnTo>
                    <a:pt x="837" y="175"/>
                  </a:lnTo>
                  <a:lnTo>
                    <a:pt x="861" y="209"/>
                  </a:lnTo>
                  <a:lnTo>
                    <a:pt x="885" y="248"/>
                  </a:lnTo>
                  <a:lnTo>
                    <a:pt x="905" y="292"/>
                  </a:lnTo>
                  <a:lnTo>
                    <a:pt x="924" y="331"/>
                  </a:lnTo>
                  <a:lnTo>
                    <a:pt x="934" y="380"/>
                  </a:lnTo>
                  <a:lnTo>
                    <a:pt x="939" y="424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39" y="521"/>
                  </a:lnTo>
                  <a:lnTo>
                    <a:pt x="934" y="570"/>
                  </a:lnTo>
                  <a:lnTo>
                    <a:pt x="924" y="613"/>
                  </a:lnTo>
                  <a:lnTo>
                    <a:pt x="905" y="657"/>
                  </a:lnTo>
                  <a:lnTo>
                    <a:pt x="885" y="696"/>
                  </a:lnTo>
                  <a:lnTo>
                    <a:pt x="861" y="735"/>
                  </a:lnTo>
                  <a:lnTo>
                    <a:pt x="837" y="774"/>
                  </a:lnTo>
                  <a:lnTo>
                    <a:pt x="803" y="808"/>
                  </a:lnTo>
                  <a:lnTo>
                    <a:pt x="773" y="837"/>
                  </a:lnTo>
                  <a:lnTo>
                    <a:pt x="734" y="866"/>
                  </a:lnTo>
                  <a:lnTo>
                    <a:pt x="695" y="886"/>
                  </a:lnTo>
                  <a:lnTo>
                    <a:pt x="657" y="910"/>
                  </a:lnTo>
                  <a:lnTo>
                    <a:pt x="613" y="925"/>
                  </a:lnTo>
                  <a:lnTo>
                    <a:pt x="569" y="935"/>
                  </a:lnTo>
                  <a:lnTo>
                    <a:pt x="520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23" y="944"/>
                  </a:lnTo>
                  <a:lnTo>
                    <a:pt x="379" y="935"/>
                  </a:lnTo>
                  <a:lnTo>
                    <a:pt x="331" y="925"/>
                  </a:lnTo>
                  <a:lnTo>
                    <a:pt x="292" y="910"/>
                  </a:lnTo>
                  <a:lnTo>
                    <a:pt x="248" y="886"/>
                  </a:lnTo>
                  <a:lnTo>
                    <a:pt x="209" y="866"/>
                  </a:lnTo>
                  <a:lnTo>
                    <a:pt x="175" y="837"/>
                  </a:lnTo>
                  <a:lnTo>
                    <a:pt x="141" y="808"/>
                  </a:lnTo>
                  <a:lnTo>
                    <a:pt x="112" y="774"/>
                  </a:lnTo>
                  <a:lnTo>
                    <a:pt x="82" y="735"/>
                  </a:lnTo>
                  <a:lnTo>
                    <a:pt x="58" y="696"/>
                  </a:lnTo>
                  <a:lnTo>
                    <a:pt x="39" y="657"/>
                  </a:lnTo>
                  <a:lnTo>
                    <a:pt x="24" y="613"/>
                  </a:lnTo>
                  <a:lnTo>
                    <a:pt x="9" y="570"/>
                  </a:lnTo>
                  <a:lnTo>
                    <a:pt x="5" y="521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5" y="424"/>
                  </a:lnTo>
                  <a:lnTo>
                    <a:pt x="9" y="380"/>
                  </a:lnTo>
                  <a:lnTo>
                    <a:pt x="24" y="331"/>
                  </a:lnTo>
                  <a:lnTo>
                    <a:pt x="39" y="292"/>
                  </a:lnTo>
                  <a:lnTo>
                    <a:pt x="58" y="248"/>
                  </a:lnTo>
                  <a:lnTo>
                    <a:pt x="82" y="209"/>
                  </a:lnTo>
                  <a:lnTo>
                    <a:pt x="112" y="175"/>
                  </a:lnTo>
                  <a:lnTo>
                    <a:pt x="141" y="141"/>
                  </a:lnTo>
                  <a:lnTo>
                    <a:pt x="175" y="112"/>
                  </a:lnTo>
                  <a:lnTo>
                    <a:pt x="209" y="83"/>
                  </a:lnTo>
                  <a:lnTo>
                    <a:pt x="248" y="59"/>
                  </a:lnTo>
                  <a:lnTo>
                    <a:pt x="292" y="39"/>
                  </a:lnTo>
                  <a:lnTo>
                    <a:pt x="331" y="25"/>
                  </a:lnTo>
                  <a:lnTo>
                    <a:pt x="379" y="10"/>
                  </a:lnTo>
                  <a:lnTo>
                    <a:pt x="423" y="5"/>
                  </a:lnTo>
                  <a:lnTo>
                    <a:pt x="472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60000" y="1325880"/>
              <a:ext cx="273600" cy="19296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190" y="15"/>
                  </a:moveTo>
                  <a:lnTo>
                    <a:pt x="190" y="15"/>
                  </a:lnTo>
                  <a:lnTo>
                    <a:pt x="224" y="24"/>
                  </a:lnTo>
                  <a:lnTo>
                    <a:pt x="253" y="39"/>
                  </a:lnTo>
                  <a:lnTo>
                    <a:pt x="278" y="54"/>
                  </a:lnTo>
                  <a:lnTo>
                    <a:pt x="297" y="73"/>
                  </a:lnTo>
                  <a:lnTo>
                    <a:pt x="312" y="93"/>
                  </a:lnTo>
                  <a:lnTo>
                    <a:pt x="321" y="112"/>
                  </a:lnTo>
                  <a:lnTo>
                    <a:pt x="326" y="131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16" y="166"/>
                  </a:lnTo>
                  <a:lnTo>
                    <a:pt x="302" y="180"/>
                  </a:lnTo>
                  <a:lnTo>
                    <a:pt x="282" y="190"/>
                  </a:lnTo>
                  <a:lnTo>
                    <a:pt x="263" y="195"/>
                  </a:lnTo>
                  <a:lnTo>
                    <a:pt x="234" y="200"/>
                  </a:lnTo>
                  <a:lnTo>
                    <a:pt x="205" y="200"/>
                  </a:lnTo>
                  <a:lnTo>
                    <a:pt x="171" y="195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07" y="175"/>
                  </a:lnTo>
                  <a:lnTo>
                    <a:pt x="78" y="166"/>
                  </a:lnTo>
                  <a:lnTo>
                    <a:pt x="54" y="146"/>
                  </a:lnTo>
                  <a:lnTo>
                    <a:pt x="34" y="131"/>
                  </a:lnTo>
                  <a:lnTo>
                    <a:pt x="20" y="112"/>
                  </a:lnTo>
                  <a:lnTo>
                    <a:pt x="5" y="93"/>
                  </a:lnTo>
                  <a:lnTo>
                    <a:pt x="0" y="73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5" y="34"/>
                  </a:lnTo>
                  <a:lnTo>
                    <a:pt x="25" y="24"/>
                  </a:lnTo>
                  <a:lnTo>
                    <a:pt x="44" y="15"/>
                  </a:lnTo>
                  <a:lnTo>
                    <a:pt x="68" y="5"/>
                  </a:lnTo>
                  <a:lnTo>
                    <a:pt x="98" y="0"/>
                  </a:lnTo>
                  <a:lnTo>
                    <a:pt x="127" y="0"/>
                  </a:lnTo>
                  <a:lnTo>
                    <a:pt x="156" y="5"/>
                  </a:lnTo>
                  <a:lnTo>
                    <a:pt x="190" y="15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68640" y="1330560"/>
              <a:ext cx="26100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80" y="10"/>
                  </a:moveTo>
                  <a:lnTo>
                    <a:pt x="180" y="10"/>
                  </a:lnTo>
                  <a:lnTo>
                    <a:pt x="209" y="24"/>
                  </a:lnTo>
                  <a:lnTo>
                    <a:pt x="238" y="34"/>
                  </a:lnTo>
                  <a:lnTo>
                    <a:pt x="263" y="53"/>
                  </a:lnTo>
                  <a:lnTo>
                    <a:pt x="282" y="68"/>
                  </a:lnTo>
                  <a:lnTo>
                    <a:pt x="297" y="88"/>
                  </a:lnTo>
                  <a:lnTo>
                    <a:pt x="306" y="107"/>
                  </a:lnTo>
                  <a:lnTo>
                    <a:pt x="311" y="122"/>
                  </a:lnTo>
                  <a:lnTo>
                    <a:pt x="311" y="141"/>
                  </a:lnTo>
                  <a:lnTo>
                    <a:pt x="311" y="141"/>
                  </a:lnTo>
                  <a:lnTo>
                    <a:pt x="302" y="156"/>
                  </a:lnTo>
                  <a:lnTo>
                    <a:pt x="287" y="170"/>
                  </a:lnTo>
                  <a:lnTo>
                    <a:pt x="268" y="180"/>
                  </a:lnTo>
                  <a:lnTo>
                    <a:pt x="248" y="185"/>
                  </a:lnTo>
                  <a:lnTo>
                    <a:pt x="219" y="190"/>
                  </a:lnTo>
                  <a:lnTo>
                    <a:pt x="195" y="190"/>
                  </a:lnTo>
                  <a:lnTo>
                    <a:pt x="161" y="185"/>
                  </a:lnTo>
                  <a:lnTo>
                    <a:pt x="131" y="180"/>
                  </a:lnTo>
                  <a:lnTo>
                    <a:pt x="131" y="180"/>
                  </a:lnTo>
                  <a:lnTo>
                    <a:pt x="102" y="170"/>
                  </a:lnTo>
                  <a:lnTo>
                    <a:pt x="73" y="156"/>
                  </a:lnTo>
                  <a:lnTo>
                    <a:pt x="49" y="141"/>
                  </a:lnTo>
                  <a:lnTo>
                    <a:pt x="29" y="122"/>
                  </a:lnTo>
                  <a:lnTo>
                    <a:pt x="15" y="107"/>
                  </a:lnTo>
                  <a:lnTo>
                    <a:pt x="5" y="88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8" y="0"/>
                  </a:lnTo>
                  <a:lnTo>
                    <a:pt x="117" y="0"/>
                  </a:lnTo>
                  <a:lnTo>
                    <a:pt x="151" y="5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72600" y="1335240"/>
              <a:ext cx="252720" cy="173880"/>
            </a:xfrm>
            <a:custGeom>
              <a:avLst/>
              <a:gdLst/>
              <a:ahLst/>
              <a:rect l="l" t="t" r="r" b="b"/>
              <a:pathLst>
                <a:path w="301" h="180">
                  <a:moveTo>
                    <a:pt x="175" y="10"/>
                  </a:moveTo>
                  <a:lnTo>
                    <a:pt x="175" y="10"/>
                  </a:lnTo>
                  <a:lnTo>
                    <a:pt x="204" y="19"/>
                  </a:lnTo>
                  <a:lnTo>
                    <a:pt x="229" y="34"/>
                  </a:lnTo>
                  <a:lnTo>
                    <a:pt x="253" y="48"/>
                  </a:lnTo>
                  <a:lnTo>
                    <a:pt x="272" y="63"/>
                  </a:lnTo>
                  <a:lnTo>
                    <a:pt x="287" y="83"/>
                  </a:lnTo>
                  <a:lnTo>
                    <a:pt x="297" y="97"/>
                  </a:lnTo>
                  <a:lnTo>
                    <a:pt x="301" y="117"/>
                  </a:lnTo>
                  <a:lnTo>
                    <a:pt x="297" y="136"/>
                  </a:lnTo>
                  <a:lnTo>
                    <a:pt x="297" y="136"/>
                  </a:lnTo>
                  <a:lnTo>
                    <a:pt x="292" y="151"/>
                  </a:lnTo>
                  <a:lnTo>
                    <a:pt x="277" y="160"/>
                  </a:lnTo>
                  <a:lnTo>
                    <a:pt x="258" y="170"/>
                  </a:lnTo>
                  <a:lnTo>
                    <a:pt x="238" y="180"/>
                  </a:lnTo>
                  <a:lnTo>
                    <a:pt x="214" y="180"/>
                  </a:lnTo>
                  <a:lnTo>
                    <a:pt x="185" y="180"/>
                  </a:lnTo>
                  <a:lnTo>
                    <a:pt x="156" y="180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97" y="160"/>
                  </a:lnTo>
                  <a:lnTo>
                    <a:pt x="73" y="146"/>
                  </a:lnTo>
                  <a:lnTo>
                    <a:pt x="48" y="131"/>
                  </a:lnTo>
                  <a:lnTo>
                    <a:pt x="29" y="117"/>
                  </a:lnTo>
                  <a:lnTo>
                    <a:pt x="14" y="102"/>
                  </a:lnTo>
                  <a:lnTo>
                    <a:pt x="5" y="83"/>
                  </a:lnTo>
                  <a:lnTo>
                    <a:pt x="0" y="63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7" y="0"/>
                  </a:lnTo>
                  <a:lnTo>
                    <a:pt x="117" y="0"/>
                  </a:lnTo>
                  <a:lnTo>
                    <a:pt x="146" y="5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81240" y="1340280"/>
              <a:ext cx="236520" cy="168840"/>
            </a:xfrm>
            <a:custGeom>
              <a:avLst/>
              <a:gdLst/>
              <a:ahLst/>
              <a:rect l="l" t="t" r="r" b="b"/>
              <a:pathLst>
                <a:path w="282" h="175">
                  <a:moveTo>
                    <a:pt x="165" y="9"/>
                  </a:moveTo>
                  <a:lnTo>
                    <a:pt x="165" y="9"/>
                  </a:lnTo>
                  <a:lnTo>
                    <a:pt x="189" y="19"/>
                  </a:lnTo>
                  <a:lnTo>
                    <a:pt x="214" y="29"/>
                  </a:lnTo>
                  <a:lnTo>
                    <a:pt x="238" y="43"/>
                  </a:lnTo>
                  <a:lnTo>
                    <a:pt x="257" y="63"/>
                  </a:lnTo>
                  <a:lnTo>
                    <a:pt x="272" y="78"/>
                  </a:lnTo>
                  <a:lnTo>
                    <a:pt x="277" y="92"/>
                  </a:lnTo>
                  <a:lnTo>
                    <a:pt x="282" y="112"/>
                  </a:lnTo>
                  <a:lnTo>
                    <a:pt x="282" y="126"/>
                  </a:lnTo>
                  <a:lnTo>
                    <a:pt x="282" y="126"/>
                  </a:lnTo>
                  <a:lnTo>
                    <a:pt x="272" y="141"/>
                  </a:lnTo>
                  <a:lnTo>
                    <a:pt x="262" y="155"/>
                  </a:lnTo>
                  <a:lnTo>
                    <a:pt x="243" y="165"/>
                  </a:lnTo>
                  <a:lnTo>
                    <a:pt x="223" y="170"/>
                  </a:lnTo>
                  <a:lnTo>
                    <a:pt x="199" y="175"/>
                  </a:lnTo>
                  <a:lnTo>
                    <a:pt x="175" y="175"/>
                  </a:lnTo>
                  <a:lnTo>
                    <a:pt x="146" y="170"/>
                  </a:lnTo>
                  <a:lnTo>
                    <a:pt x="116" y="160"/>
                  </a:lnTo>
                  <a:lnTo>
                    <a:pt x="116" y="160"/>
                  </a:lnTo>
                  <a:lnTo>
                    <a:pt x="92" y="151"/>
                  </a:lnTo>
                  <a:lnTo>
                    <a:pt x="63" y="141"/>
                  </a:lnTo>
                  <a:lnTo>
                    <a:pt x="43" y="126"/>
                  </a:lnTo>
                  <a:lnTo>
                    <a:pt x="24" y="112"/>
                  </a:lnTo>
                  <a:lnTo>
                    <a:pt x="9" y="9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9"/>
                  </a:lnTo>
                  <a:lnTo>
                    <a:pt x="19" y="19"/>
                  </a:lnTo>
                  <a:lnTo>
                    <a:pt x="34" y="9"/>
                  </a:lnTo>
                  <a:lnTo>
                    <a:pt x="58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6" y="0"/>
                  </a:lnTo>
                  <a:lnTo>
                    <a:pt x="165" y="9"/>
                  </a:lnTo>
                  <a:lnTo>
                    <a:pt x="165" y="9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84480" y="1345320"/>
              <a:ext cx="228960" cy="15912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56" y="9"/>
                  </a:moveTo>
                  <a:lnTo>
                    <a:pt x="156" y="9"/>
                  </a:lnTo>
                  <a:lnTo>
                    <a:pt x="185" y="19"/>
                  </a:lnTo>
                  <a:lnTo>
                    <a:pt x="210" y="29"/>
                  </a:lnTo>
                  <a:lnTo>
                    <a:pt x="229" y="43"/>
                  </a:lnTo>
                  <a:lnTo>
                    <a:pt x="249" y="58"/>
                  </a:lnTo>
                  <a:lnTo>
                    <a:pt x="258" y="73"/>
                  </a:lnTo>
                  <a:lnTo>
                    <a:pt x="268" y="87"/>
                  </a:lnTo>
                  <a:lnTo>
                    <a:pt x="273" y="107"/>
                  </a:lnTo>
                  <a:lnTo>
                    <a:pt x="273" y="121"/>
                  </a:lnTo>
                  <a:lnTo>
                    <a:pt x="273" y="121"/>
                  </a:lnTo>
                  <a:lnTo>
                    <a:pt x="263" y="136"/>
                  </a:lnTo>
                  <a:lnTo>
                    <a:pt x="253" y="146"/>
                  </a:lnTo>
                  <a:lnTo>
                    <a:pt x="234" y="155"/>
                  </a:lnTo>
                  <a:lnTo>
                    <a:pt x="215" y="160"/>
                  </a:lnTo>
                  <a:lnTo>
                    <a:pt x="195" y="165"/>
                  </a:lnTo>
                  <a:lnTo>
                    <a:pt x="171" y="165"/>
                  </a:lnTo>
                  <a:lnTo>
                    <a:pt x="142" y="160"/>
                  </a:lnTo>
                  <a:lnTo>
                    <a:pt x="117" y="155"/>
                  </a:lnTo>
                  <a:lnTo>
                    <a:pt x="117" y="155"/>
                  </a:lnTo>
                  <a:lnTo>
                    <a:pt x="88" y="146"/>
                  </a:lnTo>
                  <a:lnTo>
                    <a:pt x="64" y="131"/>
                  </a:lnTo>
                  <a:lnTo>
                    <a:pt x="44" y="121"/>
                  </a:lnTo>
                  <a:lnTo>
                    <a:pt x="25" y="107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0" y="29"/>
                  </a:lnTo>
                  <a:lnTo>
                    <a:pt x="20" y="14"/>
                  </a:lnTo>
                  <a:lnTo>
                    <a:pt x="34" y="9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103" y="0"/>
                  </a:lnTo>
                  <a:lnTo>
                    <a:pt x="132" y="0"/>
                  </a:lnTo>
                  <a:lnTo>
                    <a:pt x="156" y="9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88800" y="1345320"/>
              <a:ext cx="220680" cy="154440"/>
            </a:xfrm>
            <a:custGeom>
              <a:avLst/>
              <a:gdLst/>
              <a:ahLst/>
              <a:rect l="l" t="t" r="r" b="b"/>
              <a:pathLst>
                <a:path w="263" h="160">
                  <a:moveTo>
                    <a:pt x="151" y="9"/>
                  </a:moveTo>
                  <a:lnTo>
                    <a:pt x="151" y="9"/>
                  </a:lnTo>
                  <a:lnTo>
                    <a:pt x="175" y="19"/>
                  </a:lnTo>
                  <a:lnTo>
                    <a:pt x="200" y="29"/>
                  </a:lnTo>
                  <a:lnTo>
                    <a:pt x="219" y="43"/>
                  </a:lnTo>
                  <a:lnTo>
                    <a:pt x="234" y="58"/>
                  </a:lnTo>
                  <a:lnTo>
                    <a:pt x="248" y="73"/>
                  </a:lnTo>
                  <a:lnTo>
                    <a:pt x="258" y="87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8" y="116"/>
                  </a:lnTo>
                  <a:lnTo>
                    <a:pt x="253" y="131"/>
                  </a:lnTo>
                  <a:lnTo>
                    <a:pt x="244" y="141"/>
                  </a:lnTo>
                  <a:lnTo>
                    <a:pt x="224" y="150"/>
                  </a:lnTo>
                  <a:lnTo>
                    <a:pt x="210" y="155"/>
                  </a:lnTo>
                  <a:lnTo>
                    <a:pt x="185" y="160"/>
                  </a:lnTo>
                  <a:lnTo>
                    <a:pt x="161" y="160"/>
                  </a:lnTo>
                  <a:lnTo>
                    <a:pt x="137" y="155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88" y="141"/>
                  </a:lnTo>
                  <a:lnTo>
                    <a:pt x="64" y="131"/>
                  </a:lnTo>
                  <a:lnTo>
                    <a:pt x="44" y="116"/>
                  </a:lnTo>
                  <a:lnTo>
                    <a:pt x="25" y="102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29"/>
                  </a:lnTo>
                  <a:lnTo>
                    <a:pt x="20" y="19"/>
                  </a:lnTo>
                  <a:lnTo>
                    <a:pt x="34" y="9"/>
                  </a:lnTo>
                  <a:lnTo>
                    <a:pt x="54" y="4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27" y="4"/>
                  </a:lnTo>
                  <a:lnTo>
                    <a:pt x="151" y="9"/>
                  </a:lnTo>
                  <a:lnTo>
                    <a:pt x="151" y="9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97080" y="1348920"/>
              <a:ext cx="203760" cy="145800"/>
            </a:xfrm>
            <a:custGeom>
              <a:avLst/>
              <a:gdLst/>
              <a:ahLst/>
              <a:rect l="l" t="t" r="r" b="b"/>
              <a:pathLst>
                <a:path w="243" h="151">
                  <a:moveTo>
                    <a:pt x="141" y="10"/>
                  </a:moveTo>
                  <a:lnTo>
                    <a:pt x="141" y="10"/>
                  </a:lnTo>
                  <a:lnTo>
                    <a:pt x="185" y="30"/>
                  </a:lnTo>
                  <a:lnTo>
                    <a:pt x="219" y="54"/>
                  </a:lnTo>
                  <a:lnTo>
                    <a:pt x="234" y="69"/>
                  </a:lnTo>
                  <a:lnTo>
                    <a:pt x="238" y="83"/>
                  </a:lnTo>
                  <a:lnTo>
                    <a:pt x="243" y="98"/>
                  </a:lnTo>
                  <a:lnTo>
                    <a:pt x="243" y="112"/>
                  </a:lnTo>
                  <a:lnTo>
                    <a:pt x="243" y="112"/>
                  </a:lnTo>
                  <a:lnTo>
                    <a:pt x="238" y="127"/>
                  </a:lnTo>
                  <a:lnTo>
                    <a:pt x="224" y="137"/>
                  </a:lnTo>
                  <a:lnTo>
                    <a:pt x="209" y="142"/>
                  </a:lnTo>
                  <a:lnTo>
                    <a:pt x="195" y="146"/>
                  </a:lnTo>
                  <a:lnTo>
                    <a:pt x="151" y="151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58" y="122"/>
                  </a:lnTo>
                  <a:lnTo>
                    <a:pt x="24" y="98"/>
                  </a:lnTo>
                  <a:lnTo>
                    <a:pt x="10" y="83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30"/>
                  </a:lnTo>
                  <a:lnTo>
                    <a:pt x="19" y="20"/>
                  </a:lnTo>
                  <a:lnTo>
                    <a:pt x="29" y="10"/>
                  </a:lnTo>
                  <a:lnTo>
                    <a:pt x="49" y="5"/>
                  </a:lnTo>
                  <a:lnTo>
                    <a:pt x="92" y="0"/>
                  </a:lnTo>
                  <a:lnTo>
                    <a:pt x="141" y="10"/>
                  </a:lnTo>
                  <a:lnTo>
                    <a:pt x="141" y="10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01400" y="135396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36" y="10"/>
                  </a:moveTo>
                  <a:lnTo>
                    <a:pt x="136" y="10"/>
                  </a:lnTo>
                  <a:lnTo>
                    <a:pt x="180" y="29"/>
                  </a:lnTo>
                  <a:lnTo>
                    <a:pt x="209" y="49"/>
                  </a:lnTo>
                  <a:lnTo>
                    <a:pt x="224" y="64"/>
                  </a:lnTo>
                  <a:lnTo>
                    <a:pt x="229" y="78"/>
                  </a:lnTo>
                  <a:lnTo>
                    <a:pt x="233" y="93"/>
                  </a:lnTo>
                  <a:lnTo>
                    <a:pt x="229" y="107"/>
                  </a:lnTo>
                  <a:lnTo>
                    <a:pt x="229" y="107"/>
                  </a:lnTo>
                  <a:lnTo>
                    <a:pt x="224" y="117"/>
                  </a:lnTo>
                  <a:lnTo>
                    <a:pt x="214" y="127"/>
                  </a:lnTo>
                  <a:lnTo>
                    <a:pt x="199" y="137"/>
                  </a:lnTo>
                  <a:lnTo>
                    <a:pt x="185" y="141"/>
                  </a:lnTo>
                  <a:lnTo>
                    <a:pt x="146" y="141"/>
                  </a:lnTo>
                  <a:lnTo>
                    <a:pt x="97" y="132"/>
                  </a:lnTo>
                  <a:lnTo>
                    <a:pt x="97" y="132"/>
                  </a:lnTo>
                  <a:lnTo>
                    <a:pt x="53" y="117"/>
                  </a:lnTo>
                  <a:lnTo>
                    <a:pt x="24" y="93"/>
                  </a:lnTo>
                  <a:lnTo>
                    <a:pt x="10" y="78"/>
                  </a:lnTo>
                  <a:lnTo>
                    <a:pt x="5" y="64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25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9" y="5"/>
                  </a:lnTo>
                  <a:lnTo>
                    <a:pt x="87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05360" y="135864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126" y="10"/>
                  </a:moveTo>
                  <a:lnTo>
                    <a:pt x="126" y="10"/>
                  </a:lnTo>
                  <a:lnTo>
                    <a:pt x="170" y="24"/>
                  </a:lnTo>
                  <a:lnTo>
                    <a:pt x="199" y="49"/>
                  </a:lnTo>
                  <a:lnTo>
                    <a:pt x="209" y="59"/>
                  </a:lnTo>
                  <a:lnTo>
                    <a:pt x="219" y="73"/>
                  </a:lnTo>
                  <a:lnTo>
                    <a:pt x="219" y="88"/>
                  </a:lnTo>
                  <a:lnTo>
                    <a:pt x="219" y="97"/>
                  </a:lnTo>
                  <a:lnTo>
                    <a:pt x="219" y="97"/>
                  </a:lnTo>
                  <a:lnTo>
                    <a:pt x="214" y="107"/>
                  </a:lnTo>
                  <a:lnTo>
                    <a:pt x="204" y="117"/>
                  </a:lnTo>
                  <a:lnTo>
                    <a:pt x="190" y="127"/>
                  </a:lnTo>
                  <a:lnTo>
                    <a:pt x="175" y="132"/>
                  </a:lnTo>
                  <a:lnTo>
                    <a:pt x="136" y="132"/>
                  </a:lnTo>
                  <a:lnTo>
                    <a:pt x="92" y="127"/>
                  </a:lnTo>
                  <a:lnTo>
                    <a:pt x="92" y="127"/>
                  </a:lnTo>
                  <a:lnTo>
                    <a:pt x="53" y="107"/>
                  </a:lnTo>
                  <a:lnTo>
                    <a:pt x="24" y="88"/>
                  </a:lnTo>
                  <a:lnTo>
                    <a:pt x="14" y="73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9" y="24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8" y="5"/>
                  </a:lnTo>
                  <a:lnTo>
                    <a:pt x="87" y="0"/>
                  </a:lnTo>
                  <a:lnTo>
                    <a:pt x="126" y="1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12920" y="1363320"/>
              <a:ext cx="171720" cy="11772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117" y="5"/>
                  </a:moveTo>
                  <a:lnTo>
                    <a:pt x="117" y="5"/>
                  </a:lnTo>
                  <a:lnTo>
                    <a:pt x="156" y="24"/>
                  </a:lnTo>
                  <a:lnTo>
                    <a:pt x="185" y="44"/>
                  </a:lnTo>
                  <a:lnTo>
                    <a:pt x="195" y="54"/>
                  </a:lnTo>
                  <a:lnTo>
                    <a:pt x="200" y="68"/>
                  </a:lnTo>
                  <a:lnTo>
                    <a:pt x="205" y="78"/>
                  </a:lnTo>
                  <a:lnTo>
                    <a:pt x="205" y="92"/>
                  </a:lnTo>
                  <a:lnTo>
                    <a:pt x="205" y="92"/>
                  </a:lnTo>
                  <a:lnTo>
                    <a:pt x="200" y="102"/>
                  </a:lnTo>
                  <a:lnTo>
                    <a:pt x="190" y="112"/>
                  </a:lnTo>
                  <a:lnTo>
                    <a:pt x="176" y="117"/>
                  </a:lnTo>
                  <a:lnTo>
                    <a:pt x="161" y="122"/>
                  </a:lnTo>
                  <a:lnTo>
                    <a:pt x="127" y="122"/>
                  </a:lnTo>
                  <a:lnTo>
                    <a:pt x="88" y="117"/>
                  </a:lnTo>
                  <a:lnTo>
                    <a:pt x="88" y="117"/>
                  </a:lnTo>
                  <a:lnTo>
                    <a:pt x="49" y="102"/>
                  </a:lnTo>
                  <a:lnTo>
                    <a:pt x="20" y="78"/>
                  </a:lnTo>
                  <a:lnTo>
                    <a:pt x="10" y="68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44" y="0"/>
                  </a:lnTo>
                  <a:lnTo>
                    <a:pt x="78" y="0"/>
                  </a:lnTo>
                  <a:lnTo>
                    <a:pt x="117" y="5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17240" y="1368360"/>
              <a:ext cx="163440" cy="1130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12" y="5"/>
                  </a:moveTo>
                  <a:lnTo>
                    <a:pt x="112" y="5"/>
                  </a:lnTo>
                  <a:lnTo>
                    <a:pt x="146" y="19"/>
                  </a:lnTo>
                  <a:lnTo>
                    <a:pt x="176" y="39"/>
                  </a:lnTo>
                  <a:lnTo>
                    <a:pt x="190" y="63"/>
                  </a:lnTo>
                  <a:lnTo>
                    <a:pt x="195" y="73"/>
                  </a:lnTo>
                  <a:lnTo>
                    <a:pt x="190" y="83"/>
                  </a:lnTo>
                  <a:lnTo>
                    <a:pt x="190" y="83"/>
                  </a:lnTo>
                  <a:lnTo>
                    <a:pt x="185" y="92"/>
                  </a:lnTo>
                  <a:lnTo>
                    <a:pt x="180" y="102"/>
                  </a:lnTo>
                  <a:lnTo>
                    <a:pt x="151" y="112"/>
                  </a:lnTo>
                  <a:lnTo>
                    <a:pt x="122" y="117"/>
                  </a:lnTo>
                  <a:lnTo>
                    <a:pt x="83" y="107"/>
                  </a:lnTo>
                  <a:lnTo>
                    <a:pt x="83" y="107"/>
                  </a:lnTo>
                  <a:lnTo>
                    <a:pt x="49" y="92"/>
                  </a:lnTo>
                  <a:lnTo>
                    <a:pt x="20" y="73"/>
                  </a:lnTo>
                  <a:lnTo>
                    <a:pt x="5" y="5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39" y="0"/>
                  </a:lnTo>
                  <a:lnTo>
                    <a:pt x="73" y="0"/>
                  </a:lnTo>
                  <a:lnTo>
                    <a:pt x="112" y="5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25520" y="1373040"/>
              <a:ext cx="146880" cy="10332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102" y="5"/>
                  </a:moveTo>
                  <a:lnTo>
                    <a:pt x="102" y="5"/>
                  </a:lnTo>
                  <a:lnTo>
                    <a:pt x="136" y="19"/>
                  </a:lnTo>
                  <a:lnTo>
                    <a:pt x="161" y="34"/>
                  </a:lnTo>
                  <a:lnTo>
                    <a:pt x="175" y="58"/>
                  </a:lnTo>
                  <a:lnTo>
                    <a:pt x="175" y="68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0" y="87"/>
                  </a:lnTo>
                  <a:lnTo>
                    <a:pt x="161" y="92"/>
                  </a:lnTo>
                  <a:lnTo>
                    <a:pt x="141" y="102"/>
                  </a:lnTo>
                  <a:lnTo>
                    <a:pt x="107" y="107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39" y="87"/>
                  </a:lnTo>
                  <a:lnTo>
                    <a:pt x="15" y="68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5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17120" y="1353960"/>
              <a:ext cx="273600" cy="188280"/>
            </a:xfrm>
            <a:custGeom>
              <a:avLst/>
              <a:gdLst/>
              <a:ahLst/>
              <a:rect l="l" t="t" r="r" b="b"/>
              <a:pathLst>
                <a:path w="326" h="195">
                  <a:moveTo>
                    <a:pt x="136" y="10"/>
                  </a:moveTo>
                  <a:lnTo>
                    <a:pt x="136" y="10"/>
                  </a:lnTo>
                  <a:lnTo>
                    <a:pt x="170" y="0"/>
                  </a:lnTo>
                  <a:lnTo>
                    <a:pt x="204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82" y="10"/>
                  </a:lnTo>
                  <a:lnTo>
                    <a:pt x="302" y="20"/>
                  </a:lnTo>
                  <a:lnTo>
                    <a:pt x="316" y="34"/>
                  </a:lnTo>
                  <a:lnTo>
                    <a:pt x="326" y="54"/>
                  </a:lnTo>
                  <a:lnTo>
                    <a:pt x="326" y="54"/>
                  </a:lnTo>
                  <a:lnTo>
                    <a:pt x="326" y="68"/>
                  </a:lnTo>
                  <a:lnTo>
                    <a:pt x="321" y="88"/>
                  </a:lnTo>
                  <a:lnTo>
                    <a:pt x="312" y="107"/>
                  </a:lnTo>
                  <a:lnTo>
                    <a:pt x="292" y="127"/>
                  </a:lnTo>
                  <a:lnTo>
                    <a:pt x="273" y="146"/>
                  </a:lnTo>
                  <a:lnTo>
                    <a:pt x="248" y="161"/>
                  </a:lnTo>
                  <a:lnTo>
                    <a:pt x="219" y="175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56" y="190"/>
                  </a:lnTo>
                  <a:lnTo>
                    <a:pt x="122" y="195"/>
                  </a:lnTo>
                  <a:lnTo>
                    <a:pt x="93" y="195"/>
                  </a:lnTo>
                  <a:lnTo>
                    <a:pt x="63" y="190"/>
                  </a:lnTo>
                  <a:lnTo>
                    <a:pt x="39" y="185"/>
                  </a:lnTo>
                  <a:lnTo>
                    <a:pt x="24" y="171"/>
                  </a:lnTo>
                  <a:lnTo>
                    <a:pt x="10" y="16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8" y="34"/>
                  </a:lnTo>
                  <a:lnTo>
                    <a:pt x="107" y="2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21440" y="1353960"/>
              <a:ext cx="26064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31" y="10"/>
                  </a:moveTo>
                  <a:lnTo>
                    <a:pt x="131" y="10"/>
                  </a:lnTo>
                  <a:lnTo>
                    <a:pt x="165" y="5"/>
                  </a:lnTo>
                  <a:lnTo>
                    <a:pt x="195" y="0"/>
                  </a:lnTo>
                  <a:lnTo>
                    <a:pt x="224" y="0"/>
                  </a:lnTo>
                  <a:lnTo>
                    <a:pt x="248" y="5"/>
                  </a:lnTo>
                  <a:lnTo>
                    <a:pt x="272" y="15"/>
                  </a:lnTo>
                  <a:lnTo>
                    <a:pt x="292" y="25"/>
                  </a:lnTo>
                  <a:lnTo>
                    <a:pt x="307" y="39"/>
                  </a:lnTo>
                  <a:lnTo>
                    <a:pt x="311" y="54"/>
                  </a:lnTo>
                  <a:lnTo>
                    <a:pt x="311" y="54"/>
                  </a:lnTo>
                  <a:lnTo>
                    <a:pt x="311" y="73"/>
                  </a:lnTo>
                  <a:lnTo>
                    <a:pt x="307" y="88"/>
                  </a:lnTo>
                  <a:lnTo>
                    <a:pt x="297" y="107"/>
                  </a:lnTo>
                  <a:lnTo>
                    <a:pt x="282" y="127"/>
                  </a:lnTo>
                  <a:lnTo>
                    <a:pt x="263" y="141"/>
                  </a:lnTo>
                  <a:lnTo>
                    <a:pt x="238" y="156"/>
                  </a:lnTo>
                  <a:lnTo>
                    <a:pt x="209" y="171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51" y="190"/>
                  </a:lnTo>
                  <a:lnTo>
                    <a:pt x="117" y="190"/>
                  </a:lnTo>
                  <a:lnTo>
                    <a:pt x="88" y="190"/>
                  </a:lnTo>
                  <a:lnTo>
                    <a:pt x="63" y="185"/>
                  </a:lnTo>
                  <a:lnTo>
                    <a:pt x="44" y="180"/>
                  </a:lnTo>
                  <a:lnTo>
                    <a:pt x="24" y="171"/>
                  </a:lnTo>
                  <a:lnTo>
                    <a:pt x="10" y="15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5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25400" y="1358640"/>
              <a:ext cx="253440" cy="173880"/>
            </a:xfrm>
            <a:custGeom>
              <a:avLst/>
              <a:gdLst/>
              <a:ahLst/>
              <a:rect l="l" t="t" r="r" b="b"/>
              <a:pathLst>
                <a:path w="302" h="180">
                  <a:moveTo>
                    <a:pt x="131" y="10"/>
                  </a:moveTo>
                  <a:lnTo>
                    <a:pt x="131" y="10"/>
                  </a:lnTo>
                  <a:lnTo>
                    <a:pt x="160" y="5"/>
                  </a:lnTo>
                  <a:lnTo>
                    <a:pt x="190" y="0"/>
                  </a:lnTo>
                  <a:lnTo>
                    <a:pt x="214" y="0"/>
                  </a:lnTo>
                  <a:lnTo>
                    <a:pt x="243" y="5"/>
                  </a:lnTo>
                  <a:lnTo>
                    <a:pt x="263" y="10"/>
                  </a:lnTo>
                  <a:lnTo>
                    <a:pt x="282" y="24"/>
                  </a:lnTo>
                  <a:lnTo>
                    <a:pt x="292" y="34"/>
                  </a:lnTo>
                  <a:lnTo>
                    <a:pt x="302" y="49"/>
                  </a:lnTo>
                  <a:lnTo>
                    <a:pt x="302" y="49"/>
                  </a:lnTo>
                  <a:lnTo>
                    <a:pt x="302" y="68"/>
                  </a:lnTo>
                  <a:lnTo>
                    <a:pt x="297" y="83"/>
                  </a:lnTo>
                  <a:lnTo>
                    <a:pt x="287" y="102"/>
                  </a:lnTo>
                  <a:lnTo>
                    <a:pt x="272" y="122"/>
                  </a:lnTo>
                  <a:lnTo>
                    <a:pt x="253" y="136"/>
                  </a:lnTo>
                  <a:lnTo>
                    <a:pt x="229" y="151"/>
                  </a:lnTo>
                  <a:lnTo>
                    <a:pt x="204" y="161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46" y="180"/>
                  </a:lnTo>
                  <a:lnTo>
                    <a:pt x="117" y="180"/>
                  </a:lnTo>
                  <a:lnTo>
                    <a:pt x="87" y="180"/>
                  </a:lnTo>
                  <a:lnTo>
                    <a:pt x="63" y="180"/>
                  </a:lnTo>
                  <a:lnTo>
                    <a:pt x="44" y="170"/>
                  </a:lnTo>
                  <a:lnTo>
                    <a:pt x="24" y="161"/>
                  </a:lnTo>
                  <a:lnTo>
                    <a:pt x="10" y="146"/>
                  </a:lnTo>
                  <a:lnTo>
                    <a:pt x="5" y="132"/>
                  </a:lnTo>
                  <a:lnTo>
                    <a:pt x="5" y="132"/>
                  </a:lnTo>
                  <a:lnTo>
                    <a:pt x="0" y="117"/>
                  </a:lnTo>
                  <a:lnTo>
                    <a:pt x="5" y="97"/>
                  </a:lnTo>
                  <a:lnTo>
                    <a:pt x="14" y="83"/>
                  </a:lnTo>
                  <a:lnTo>
                    <a:pt x="29" y="63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0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34040" y="1363320"/>
              <a:ext cx="240840" cy="16920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121" y="10"/>
                  </a:moveTo>
                  <a:lnTo>
                    <a:pt x="121" y="10"/>
                  </a:lnTo>
                  <a:lnTo>
                    <a:pt x="150" y="5"/>
                  </a:lnTo>
                  <a:lnTo>
                    <a:pt x="175" y="0"/>
                  </a:lnTo>
                  <a:lnTo>
                    <a:pt x="204" y="0"/>
                  </a:lnTo>
                  <a:lnTo>
                    <a:pt x="228" y="5"/>
                  </a:lnTo>
                  <a:lnTo>
                    <a:pt x="248" y="10"/>
                  </a:lnTo>
                  <a:lnTo>
                    <a:pt x="262" y="19"/>
                  </a:lnTo>
                  <a:lnTo>
                    <a:pt x="277" y="34"/>
                  </a:lnTo>
                  <a:lnTo>
                    <a:pt x="282" y="49"/>
                  </a:lnTo>
                  <a:lnTo>
                    <a:pt x="282" y="49"/>
                  </a:lnTo>
                  <a:lnTo>
                    <a:pt x="287" y="63"/>
                  </a:lnTo>
                  <a:lnTo>
                    <a:pt x="282" y="78"/>
                  </a:lnTo>
                  <a:lnTo>
                    <a:pt x="272" y="97"/>
                  </a:lnTo>
                  <a:lnTo>
                    <a:pt x="257" y="112"/>
                  </a:lnTo>
                  <a:lnTo>
                    <a:pt x="238" y="127"/>
                  </a:lnTo>
                  <a:lnTo>
                    <a:pt x="219" y="141"/>
                  </a:lnTo>
                  <a:lnTo>
                    <a:pt x="189" y="156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36" y="170"/>
                  </a:lnTo>
                  <a:lnTo>
                    <a:pt x="107" y="175"/>
                  </a:lnTo>
                  <a:lnTo>
                    <a:pt x="82" y="170"/>
                  </a:lnTo>
                  <a:lnTo>
                    <a:pt x="58" y="170"/>
                  </a:lnTo>
                  <a:lnTo>
                    <a:pt x="39" y="161"/>
                  </a:lnTo>
                  <a:lnTo>
                    <a:pt x="19" y="151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4" y="92"/>
                  </a:lnTo>
                  <a:lnTo>
                    <a:pt x="14" y="78"/>
                  </a:lnTo>
                  <a:lnTo>
                    <a:pt x="29" y="58"/>
                  </a:lnTo>
                  <a:lnTo>
                    <a:pt x="43" y="44"/>
                  </a:lnTo>
                  <a:lnTo>
                    <a:pt x="68" y="29"/>
                  </a:lnTo>
                  <a:lnTo>
                    <a:pt x="92" y="19"/>
                  </a:lnTo>
                  <a:lnTo>
                    <a:pt x="121" y="10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37280" y="1368360"/>
              <a:ext cx="228960" cy="15948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17" y="10"/>
                  </a:moveTo>
                  <a:lnTo>
                    <a:pt x="117" y="10"/>
                  </a:lnTo>
                  <a:lnTo>
                    <a:pt x="146" y="0"/>
                  </a:lnTo>
                  <a:lnTo>
                    <a:pt x="171" y="0"/>
                  </a:lnTo>
                  <a:lnTo>
                    <a:pt x="195" y="0"/>
                  </a:lnTo>
                  <a:lnTo>
                    <a:pt x="219" y="5"/>
                  </a:lnTo>
                  <a:lnTo>
                    <a:pt x="239" y="10"/>
                  </a:lnTo>
                  <a:lnTo>
                    <a:pt x="253" y="19"/>
                  </a:lnTo>
                  <a:lnTo>
                    <a:pt x="268" y="29"/>
                  </a:lnTo>
                  <a:lnTo>
                    <a:pt x="273" y="44"/>
                  </a:lnTo>
                  <a:lnTo>
                    <a:pt x="273" y="44"/>
                  </a:lnTo>
                  <a:lnTo>
                    <a:pt x="273" y="58"/>
                  </a:lnTo>
                  <a:lnTo>
                    <a:pt x="268" y="78"/>
                  </a:lnTo>
                  <a:lnTo>
                    <a:pt x="263" y="92"/>
                  </a:lnTo>
                  <a:lnTo>
                    <a:pt x="249" y="107"/>
                  </a:lnTo>
                  <a:lnTo>
                    <a:pt x="229" y="122"/>
                  </a:lnTo>
                  <a:lnTo>
                    <a:pt x="210" y="136"/>
                  </a:lnTo>
                  <a:lnTo>
                    <a:pt x="185" y="146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32" y="160"/>
                  </a:lnTo>
                  <a:lnTo>
                    <a:pt x="103" y="165"/>
                  </a:lnTo>
                  <a:lnTo>
                    <a:pt x="78" y="165"/>
                  </a:lnTo>
                  <a:lnTo>
                    <a:pt x="59" y="160"/>
                  </a:lnTo>
                  <a:lnTo>
                    <a:pt x="39" y="156"/>
                  </a:lnTo>
                  <a:lnTo>
                    <a:pt x="20" y="146"/>
                  </a:lnTo>
                  <a:lnTo>
                    <a:pt x="10" y="131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44" y="44"/>
                  </a:lnTo>
                  <a:lnTo>
                    <a:pt x="69" y="29"/>
                  </a:lnTo>
                  <a:lnTo>
                    <a:pt x="93" y="19"/>
                  </a:lnTo>
                  <a:lnTo>
                    <a:pt x="117" y="10"/>
                  </a:lnTo>
                  <a:lnTo>
                    <a:pt x="117" y="10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5560" y="1373040"/>
              <a:ext cx="216360" cy="14976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107" y="5"/>
                  </a:moveTo>
                  <a:lnTo>
                    <a:pt x="107" y="5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24" y="9"/>
                  </a:lnTo>
                  <a:lnTo>
                    <a:pt x="239" y="14"/>
                  </a:lnTo>
                  <a:lnTo>
                    <a:pt x="248" y="29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8" y="53"/>
                  </a:lnTo>
                  <a:lnTo>
                    <a:pt x="253" y="73"/>
                  </a:lnTo>
                  <a:lnTo>
                    <a:pt x="243" y="87"/>
                  </a:lnTo>
                  <a:lnTo>
                    <a:pt x="234" y="102"/>
                  </a:lnTo>
                  <a:lnTo>
                    <a:pt x="214" y="117"/>
                  </a:lnTo>
                  <a:lnTo>
                    <a:pt x="195" y="126"/>
                  </a:lnTo>
                  <a:lnTo>
                    <a:pt x="170" y="136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22" y="151"/>
                  </a:lnTo>
                  <a:lnTo>
                    <a:pt x="98" y="155"/>
                  </a:lnTo>
                  <a:lnTo>
                    <a:pt x="73" y="155"/>
                  </a:lnTo>
                  <a:lnTo>
                    <a:pt x="49" y="151"/>
                  </a:lnTo>
                  <a:lnTo>
                    <a:pt x="34" y="146"/>
                  </a:lnTo>
                  <a:lnTo>
                    <a:pt x="15" y="136"/>
                  </a:lnTo>
                  <a:lnTo>
                    <a:pt x="5" y="12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0" y="68"/>
                  </a:lnTo>
                  <a:lnTo>
                    <a:pt x="25" y="53"/>
                  </a:lnTo>
                  <a:lnTo>
                    <a:pt x="39" y="39"/>
                  </a:lnTo>
                  <a:lnTo>
                    <a:pt x="59" y="24"/>
                  </a:lnTo>
                  <a:lnTo>
                    <a:pt x="83" y="14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49880" y="1378080"/>
              <a:ext cx="208080" cy="140760"/>
            </a:xfrm>
            <a:custGeom>
              <a:avLst/>
              <a:gdLst/>
              <a:ahLst/>
              <a:rect l="l" t="t" r="r" b="b"/>
              <a:pathLst>
                <a:path w="248" h="146">
                  <a:moveTo>
                    <a:pt x="102" y="4"/>
                  </a:moveTo>
                  <a:lnTo>
                    <a:pt x="102" y="4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14" y="4"/>
                  </a:lnTo>
                  <a:lnTo>
                    <a:pt x="229" y="14"/>
                  </a:lnTo>
                  <a:lnTo>
                    <a:pt x="238" y="24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8" y="53"/>
                  </a:lnTo>
                  <a:lnTo>
                    <a:pt x="243" y="68"/>
                  </a:lnTo>
                  <a:lnTo>
                    <a:pt x="234" y="82"/>
                  </a:lnTo>
                  <a:lnTo>
                    <a:pt x="224" y="97"/>
                  </a:lnTo>
                  <a:lnTo>
                    <a:pt x="185" y="121"/>
                  </a:lnTo>
                  <a:lnTo>
                    <a:pt x="141" y="136"/>
                  </a:lnTo>
                  <a:lnTo>
                    <a:pt x="141" y="136"/>
                  </a:lnTo>
                  <a:lnTo>
                    <a:pt x="93" y="146"/>
                  </a:lnTo>
                  <a:lnTo>
                    <a:pt x="49" y="141"/>
                  </a:lnTo>
                  <a:lnTo>
                    <a:pt x="34" y="136"/>
                  </a:lnTo>
                  <a:lnTo>
                    <a:pt x="20" y="131"/>
                  </a:lnTo>
                  <a:lnTo>
                    <a:pt x="10" y="11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0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54200" y="137808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02" y="9"/>
                  </a:moveTo>
                  <a:lnTo>
                    <a:pt x="102" y="9"/>
                  </a:lnTo>
                  <a:lnTo>
                    <a:pt x="146" y="0"/>
                  </a:lnTo>
                  <a:lnTo>
                    <a:pt x="185" y="4"/>
                  </a:lnTo>
                  <a:lnTo>
                    <a:pt x="204" y="9"/>
                  </a:lnTo>
                  <a:lnTo>
                    <a:pt x="219" y="19"/>
                  </a:lnTo>
                  <a:lnTo>
                    <a:pt x="229" y="29"/>
                  </a:lnTo>
                  <a:lnTo>
                    <a:pt x="233" y="39"/>
                  </a:lnTo>
                  <a:lnTo>
                    <a:pt x="233" y="39"/>
                  </a:lnTo>
                  <a:lnTo>
                    <a:pt x="233" y="53"/>
                  </a:lnTo>
                  <a:lnTo>
                    <a:pt x="229" y="68"/>
                  </a:lnTo>
                  <a:lnTo>
                    <a:pt x="224" y="82"/>
                  </a:lnTo>
                  <a:lnTo>
                    <a:pt x="209" y="92"/>
                  </a:lnTo>
                  <a:lnTo>
                    <a:pt x="180" y="116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88" y="141"/>
                  </a:lnTo>
                  <a:lnTo>
                    <a:pt x="49" y="141"/>
                  </a:lnTo>
                  <a:lnTo>
                    <a:pt x="34" y="131"/>
                  </a:lnTo>
                  <a:lnTo>
                    <a:pt x="19" y="126"/>
                  </a:lnTo>
                  <a:lnTo>
                    <a:pt x="10" y="116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5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9"/>
                  </a:lnTo>
                  <a:lnTo>
                    <a:pt x="102" y="9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2480" y="138204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92" y="10"/>
                  </a:moveTo>
                  <a:lnTo>
                    <a:pt x="92" y="10"/>
                  </a:lnTo>
                  <a:lnTo>
                    <a:pt x="136" y="0"/>
                  </a:lnTo>
                  <a:lnTo>
                    <a:pt x="175" y="5"/>
                  </a:lnTo>
                  <a:lnTo>
                    <a:pt x="189" y="10"/>
                  </a:lnTo>
                  <a:lnTo>
                    <a:pt x="199" y="15"/>
                  </a:lnTo>
                  <a:lnTo>
                    <a:pt x="209" y="25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19" y="49"/>
                  </a:lnTo>
                  <a:lnTo>
                    <a:pt x="214" y="64"/>
                  </a:lnTo>
                  <a:lnTo>
                    <a:pt x="209" y="73"/>
                  </a:lnTo>
                  <a:lnTo>
                    <a:pt x="194" y="88"/>
                  </a:lnTo>
                  <a:lnTo>
                    <a:pt x="165" y="112"/>
                  </a:lnTo>
                  <a:lnTo>
                    <a:pt x="126" y="127"/>
                  </a:lnTo>
                  <a:lnTo>
                    <a:pt x="126" y="127"/>
                  </a:lnTo>
                  <a:lnTo>
                    <a:pt x="82" y="132"/>
                  </a:lnTo>
                  <a:lnTo>
                    <a:pt x="43" y="132"/>
                  </a:lnTo>
                  <a:lnTo>
                    <a:pt x="29" y="127"/>
                  </a:lnTo>
                  <a:lnTo>
                    <a:pt x="14" y="117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9" y="59"/>
                  </a:lnTo>
                  <a:lnTo>
                    <a:pt x="19" y="49"/>
                  </a:lnTo>
                  <a:lnTo>
                    <a:pt x="48" y="25"/>
                  </a:lnTo>
                  <a:lnTo>
                    <a:pt x="92" y="10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6800" y="1386720"/>
              <a:ext cx="171000" cy="12240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87" y="5"/>
                  </a:moveTo>
                  <a:lnTo>
                    <a:pt x="87" y="5"/>
                  </a:lnTo>
                  <a:lnTo>
                    <a:pt x="126" y="0"/>
                  </a:lnTo>
                  <a:lnTo>
                    <a:pt x="165" y="5"/>
                  </a:lnTo>
                  <a:lnTo>
                    <a:pt x="180" y="10"/>
                  </a:lnTo>
                  <a:lnTo>
                    <a:pt x="189" y="15"/>
                  </a:lnTo>
                  <a:lnTo>
                    <a:pt x="199" y="25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204" y="44"/>
                  </a:lnTo>
                  <a:lnTo>
                    <a:pt x="204" y="59"/>
                  </a:lnTo>
                  <a:lnTo>
                    <a:pt x="194" y="68"/>
                  </a:lnTo>
                  <a:lnTo>
                    <a:pt x="184" y="83"/>
                  </a:lnTo>
                  <a:lnTo>
                    <a:pt x="155" y="103"/>
                  </a:lnTo>
                  <a:lnTo>
                    <a:pt x="116" y="117"/>
                  </a:lnTo>
                  <a:lnTo>
                    <a:pt x="116" y="117"/>
                  </a:lnTo>
                  <a:lnTo>
                    <a:pt x="77" y="127"/>
                  </a:lnTo>
                  <a:lnTo>
                    <a:pt x="43" y="122"/>
                  </a:lnTo>
                  <a:lnTo>
                    <a:pt x="29" y="117"/>
                  </a:lnTo>
                  <a:lnTo>
                    <a:pt x="14" y="112"/>
                  </a:lnTo>
                  <a:lnTo>
                    <a:pt x="4" y="10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4" y="68"/>
                  </a:lnTo>
                  <a:lnTo>
                    <a:pt x="9" y="54"/>
                  </a:lnTo>
                  <a:lnTo>
                    <a:pt x="19" y="44"/>
                  </a:lnTo>
                  <a:lnTo>
                    <a:pt x="48" y="25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74360" y="1391400"/>
              <a:ext cx="159480" cy="113040"/>
            </a:xfrm>
            <a:custGeom>
              <a:avLst/>
              <a:gdLst/>
              <a:ahLst/>
              <a:rect l="l" t="t" r="r" b="b"/>
              <a:pathLst>
                <a:path w="190" h="117">
                  <a:moveTo>
                    <a:pt x="78" y="5"/>
                  </a:moveTo>
                  <a:lnTo>
                    <a:pt x="78" y="5"/>
                  </a:lnTo>
                  <a:lnTo>
                    <a:pt x="117" y="0"/>
                  </a:lnTo>
                  <a:lnTo>
                    <a:pt x="151" y="0"/>
                  </a:lnTo>
                  <a:lnTo>
                    <a:pt x="175" y="15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0" y="29"/>
                  </a:lnTo>
                  <a:lnTo>
                    <a:pt x="190" y="44"/>
                  </a:lnTo>
                  <a:lnTo>
                    <a:pt x="185" y="54"/>
                  </a:lnTo>
                  <a:lnTo>
                    <a:pt x="171" y="73"/>
                  </a:lnTo>
                  <a:lnTo>
                    <a:pt x="146" y="93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68" y="117"/>
                  </a:lnTo>
                  <a:lnTo>
                    <a:pt x="39" y="112"/>
                  </a:lnTo>
                  <a:lnTo>
                    <a:pt x="10" y="102"/>
                  </a:lnTo>
                  <a:lnTo>
                    <a:pt x="5" y="9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5" y="39"/>
                  </a:lnTo>
                  <a:lnTo>
                    <a:pt x="44" y="20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378320" y="1396440"/>
              <a:ext cx="150840" cy="103320"/>
            </a:xfrm>
            <a:custGeom>
              <a:avLst/>
              <a:gdLst/>
              <a:ahLst/>
              <a:rect l="l" t="t" r="r" b="b"/>
              <a:pathLst>
                <a:path w="180" h="107">
                  <a:moveTo>
                    <a:pt x="73" y="5"/>
                  </a:moveTo>
                  <a:lnTo>
                    <a:pt x="73" y="5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0" y="20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80" y="39"/>
                  </a:lnTo>
                  <a:lnTo>
                    <a:pt x="175" y="49"/>
                  </a:lnTo>
                  <a:lnTo>
                    <a:pt x="161" y="68"/>
                  </a:lnTo>
                  <a:lnTo>
                    <a:pt x="136" y="88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68" y="107"/>
                  </a:lnTo>
                  <a:lnTo>
                    <a:pt x="34" y="102"/>
                  </a:lnTo>
                  <a:lnTo>
                    <a:pt x="15" y="93"/>
                  </a:lnTo>
                  <a:lnTo>
                    <a:pt x="5" y="8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15" y="34"/>
                  </a:lnTo>
                  <a:lnTo>
                    <a:pt x="44" y="2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31240" y="160812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02800" y="1575360"/>
              <a:ext cx="612360" cy="488880"/>
            </a:xfrm>
            <a:custGeom>
              <a:avLst/>
              <a:gdLst/>
              <a:ahLst/>
              <a:rect l="l" t="t" r="r" b="b"/>
              <a:pathLst>
                <a:path w="730" h="506">
                  <a:moveTo>
                    <a:pt x="20" y="44"/>
                  </a:moveTo>
                  <a:lnTo>
                    <a:pt x="20" y="44"/>
                  </a:lnTo>
                  <a:lnTo>
                    <a:pt x="34" y="83"/>
                  </a:lnTo>
                  <a:lnTo>
                    <a:pt x="83" y="180"/>
                  </a:lnTo>
                  <a:lnTo>
                    <a:pt x="112" y="238"/>
                  </a:lnTo>
                  <a:lnTo>
                    <a:pt x="156" y="297"/>
                  </a:lnTo>
                  <a:lnTo>
                    <a:pt x="200" y="360"/>
                  </a:lnTo>
                  <a:lnTo>
                    <a:pt x="253" y="418"/>
                  </a:lnTo>
                  <a:lnTo>
                    <a:pt x="253" y="418"/>
                  </a:lnTo>
                  <a:lnTo>
                    <a:pt x="297" y="453"/>
                  </a:lnTo>
                  <a:lnTo>
                    <a:pt x="331" y="477"/>
                  </a:lnTo>
                  <a:lnTo>
                    <a:pt x="365" y="491"/>
                  </a:lnTo>
                  <a:lnTo>
                    <a:pt x="399" y="501"/>
                  </a:lnTo>
                  <a:lnTo>
                    <a:pt x="428" y="506"/>
                  </a:lnTo>
                  <a:lnTo>
                    <a:pt x="448" y="506"/>
                  </a:lnTo>
                  <a:lnTo>
                    <a:pt x="482" y="496"/>
                  </a:lnTo>
                  <a:lnTo>
                    <a:pt x="482" y="496"/>
                  </a:lnTo>
                  <a:lnTo>
                    <a:pt x="501" y="487"/>
                  </a:lnTo>
                  <a:lnTo>
                    <a:pt x="516" y="472"/>
                  </a:lnTo>
                  <a:lnTo>
                    <a:pt x="540" y="438"/>
                  </a:lnTo>
                  <a:lnTo>
                    <a:pt x="560" y="399"/>
                  </a:lnTo>
                  <a:lnTo>
                    <a:pt x="570" y="360"/>
                  </a:lnTo>
                  <a:lnTo>
                    <a:pt x="570" y="360"/>
                  </a:lnTo>
                  <a:lnTo>
                    <a:pt x="574" y="326"/>
                  </a:lnTo>
                  <a:lnTo>
                    <a:pt x="589" y="287"/>
                  </a:lnTo>
                  <a:lnTo>
                    <a:pt x="608" y="243"/>
                  </a:lnTo>
                  <a:lnTo>
                    <a:pt x="633" y="204"/>
                  </a:lnTo>
                  <a:lnTo>
                    <a:pt x="686" y="131"/>
                  </a:lnTo>
                  <a:lnTo>
                    <a:pt x="730" y="73"/>
                  </a:lnTo>
                  <a:lnTo>
                    <a:pt x="706" y="29"/>
                  </a:lnTo>
                  <a:lnTo>
                    <a:pt x="706" y="29"/>
                  </a:lnTo>
                  <a:lnTo>
                    <a:pt x="662" y="53"/>
                  </a:lnTo>
                  <a:lnTo>
                    <a:pt x="618" y="78"/>
                  </a:lnTo>
                  <a:lnTo>
                    <a:pt x="574" y="92"/>
                  </a:lnTo>
                  <a:lnTo>
                    <a:pt x="526" y="102"/>
                  </a:lnTo>
                  <a:lnTo>
                    <a:pt x="482" y="112"/>
                  </a:lnTo>
                  <a:lnTo>
                    <a:pt x="438" y="112"/>
                  </a:lnTo>
                  <a:lnTo>
                    <a:pt x="394" y="112"/>
                  </a:lnTo>
                  <a:lnTo>
                    <a:pt x="351" y="112"/>
                  </a:lnTo>
                  <a:lnTo>
                    <a:pt x="268" y="97"/>
                  </a:lnTo>
                  <a:lnTo>
                    <a:pt x="180" y="68"/>
                  </a:lnTo>
                  <a:lnTo>
                    <a:pt x="98" y="3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44"/>
                  </a:lnTo>
                  <a:close/>
                  <a:moveTo>
                    <a:pt x="283" y="365"/>
                  </a:moveTo>
                  <a:lnTo>
                    <a:pt x="283" y="365"/>
                  </a:lnTo>
                  <a:lnTo>
                    <a:pt x="244" y="326"/>
                  </a:lnTo>
                  <a:lnTo>
                    <a:pt x="210" y="287"/>
                  </a:lnTo>
                  <a:lnTo>
                    <a:pt x="151" y="204"/>
                  </a:lnTo>
                  <a:lnTo>
                    <a:pt x="107" y="13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200" y="122"/>
                  </a:lnTo>
                  <a:lnTo>
                    <a:pt x="268" y="141"/>
                  </a:lnTo>
                  <a:lnTo>
                    <a:pt x="336" y="156"/>
                  </a:lnTo>
                  <a:lnTo>
                    <a:pt x="409" y="165"/>
                  </a:lnTo>
                  <a:lnTo>
                    <a:pt x="487" y="161"/>
                  </a:lnTo>
                  <a:lnTo>
                    <a:pt x="526" y="156"/>
                  </a:lnTo>
                  <a:lnTo>
                    <a:pt x="565" y="146"/>
                  </a:lnTo>
                  <a:lnTo>
                    <a:pt x="604" y="136"/>
                  </a:lnTo>
                  <a:lnTo>
                    <a:pt x="643" y="122"/>
                  </a:lnTo>
                  <a:lnTo>
                    <a:pt x="643" y="122"/>
                  </a:lnTo>
                  <a:lnTo>
                    <a:pt x="599" y="180"/>
                  </a:lnTo>
                  <a:lnTo>
                    <a:pt x="560" y="243"/>
                  </a:lnTo>
                  <a:lnTo>
                    <a:pt x="531" y="307"/>
                  </a:lnTo>
                  <a:lnTo>
                    <a:pt x="521" y="336"/>
                  </a:lnTo>
                  <a:lnTo>
                    <a:pt x="516" y="360"/>
                  </a:lnTo>
                  <a:lnTo>
                    <a:pt x="516" y="360"/>
                  </a:lnTo>
                  <a:lnTo>
                    <a:pt x="516" y="384"/>
                  </a:lnTo>
                  <a:lnTo>
                    <a:pt x="506" y="404"/>
                  </a:lnTo>
                  <a:lnTo>
                    <a:pt x="487" y="418"/>
                  </a:lnTo>
                  <a:lnTo>
                    <a:pt x="467" y="433"/>
                  </a:lnTo>
                  <a:lnTo>
                    <a:pt x="467" y="433"/>
                  </a:lnTo>
                  <a:lnTo>
                    <a:pt x="443" y="438"/>
                  </a:lnTo>
                  <a:lnTo>
                    <a:pt x="424" y="438"/>
                  </a:lnTo>
                  <a:lnTo>
                    <a:pt x="399" y="438"/>
                  </a:lnTo>
                  <a:lnTo>
                    <a:pt x="375" y="428"/>
                  </a:lnTo>
                  <a:lnTo>
                    <a:pt x="346" y="414"/>
                  </a:lnTo>
                  <a:lnTo>
                    <a:pt x="317" y="394"/>
                  </a:lnTo>
                  <a:lnTo>
                    <a:pt x="283" y="365"/>
                  </a:lnTo>
                  <a:lnTo>
                    <a:pt x="283" y="365"/>
                  </a:lnTo>
                  <a:close/>
                </a:path>
              </a:pathLst>
            </a:custGeom>
            <a:solidFill>
              <a:srgbClr val="e25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31240" y="160812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5560" y="1523160"/>
              <a:ext cx="82080" cy="9936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0"/>
                  </a:moveTo>
                  <a:lnTo>
                    <a:pt x="93" y="0"/>
                  </a:lnTo>
                  <a:lnTo>
                    <a:pt x="98" y="10"/>
                  </a:lnTo>
                  <a:lnTo>
                    <a:pt x="98" y="25"/>
                  </a:lnTo>
                  <a:lnTo>
                    <a:pt x="98" y="44"/>
                  </a:lnTo>
                  <a:lnTo>
                    <a:pt x="88" y="59"/>
                  </a:lnTo>
                  <a:lnTo>
                    <a:pt x="73" y="78"/>
                  </a:lnTo>
                  <a:lnTo>
                    <a:pt x="44" y="9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" y="98"/>
                  </a:lnTo>
                  <a:lnTo>
                    <a:pt x="44" y="73"/>
                  </a:lnTo>
                  <a:lnTo>
                    <a:pt x="59" y="59"/>
                  </a:lnTo>
                  <a:lnTo>
                    <a:pt x="73" y="39"/>
                  </a:lnTo>
                  <a:lnTo>
                    <a:pt x="88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82760" y="1565640"/>
              <a:ext cx="85320" cy="10800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10" y="0"/>
                  </a:moveTo>
                  <a:lnTo>
                    <a:pt x="10" y="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49"/>
                  </a:lnTo>
                  <a:lnTo>
                    <a:pt x="10" y="63"/>
                  </a:lnTo>
                  <a:lnTo>
                    <a:pt x="29" y="83"/>
                  </a:lnTo>
                  <a:lnTo>
                    <a:pt x="59" y="98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88" y="102"/>
                  </a:lnTo>
                  <a:lnTo>
                    <a:pt x="59" y="78"/>
                  </a:lnTo>
                  <a:lnTo>
                    <a:pt x="39" y="63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84680" y="2049840"/>
              <a:ext cx="171000" cy="7524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204" y="0"/>
                  </a:moveTo>
                  <a:lnTo>
                    <a:pt x="204" y="0"/>
                  </a:lnTo>
                  <a:lnTo>
                    <a:pt x="180" y="30"/>
                  </a:lnTo>
                  <a:lnTo>
                    <a:pt x="161" y="49"/>
                  </a:lnTo>
                  <a:lnTo>
                    <a:pt x="136" y="64"/>
                  </a:lnTo>
                  <a:lnTo>
                    <a:pt x="107" y="73"/>
                  </a:lnTo>
                  <a:lnTo>
                    <a:pt x="92" y="78"/>
                  </a:lnTo>
                  <a:lnTo>
                    <a:pt x="73" y="73"/>
                  </a:lnTo>
                  <a:lnTo>
                    <a:pt x="54" y="69"/>
                  </a:lnTo>
                  <a:lnTo>
                    <a:pt x="39" y="59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5" y="30"/>
                  </a:lnTo>
                  <a:lnTo>
                    <a:pt x="29" y="39"/>
                  </a:lnTo>
                  <a:lnTo>
                    <a:pt x="54" y="44"/>
                  </a:lnTo>
                  <a:lnTo>
                    <a:pt x="83" y="49"/>
                  </a:lnTo>
                  <a:lnTo>
                    <a:pt x="117" y="44"/>
                  </a:lnTo>
                  <a:lnTo>
                    <a:pt x="161" y="3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6080" y="1114200"/>
              <a:ext cx="367200" cy="226080"/>
            </a:xfrm>
            <a:custGeom>
              <a:avLst/>
              <a:gdLst/>
              <a:ahLst/>
              <a:rect l="l" t="t" r="r" b="b"/>
              <a:pathLst>
                <a:path w="438" h="234">
                  <a:moveTo>
                    <a:pt x="438" y="234"/>
                  </a:moveTo>
                  <a:lnTo>
                    <a:pt x="438" y="234"/>
                  </a:lnTo>
                  <a:lnTo>
                    <a:pt x="424" y="195"/>
                  </a:lnTo>
                  <a:lnTo>
                    <a:pt x="399" y="161"/>
                  </a:lnTo>
                  <a:lnTo>
                    <a:pt x="365" y="117"/>
                  </a:lnTo>
                  <a:lnTo>
                    <a:pt x="326" y="73"/>
                  </a:lnTo>
                  <a:lnTo>
                    <a:pt x="302" y="54"/>
                  </a:lnTo>
                  <a:lnTo>
                    <a:pt x="273" y="39"/>
                  </a:lnTo>
                  <a:lnTo>
                    <a:pt x="244" y="24"/>
                  </a:lnTo>
                  <a:lnTo>
                    <a:pt x="215" y="10"/>
                  </a:lnTo>
                  <a:lnTo>
                    <a:pt x="181" y="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2" y="5"/>
                  </a:lnTo>
                  <a:lnTo>
                    <a:pt x="83" y="10"/>
                  </a:lnTo>
                  <a:lnTo>
                    <a:pt x="64" y="15"/>
                  </a:lnTo>
                  <a:lnTo>
                    <a:pt x="44" y="24"/>
                  </a:lnTo>
                  <a:lnTo>
                    <a:pt x="30" y="39"/>
                  </a:lnTo>
                  <a:lnTo>
                    <a:pt x="15" y="49"/>
                  </a:lnTo>
                  <a:lnTo>
                    <a:pt x="5" y="78"/>
                  </a:lnTo>
                  <a:lnTo>
                    <a:pt x="0" y="107"/>
                  </a:lnTo>
                  <a:lnTo>
                    <a:pt x="0" y="131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30" y="151"/>
                  </a:lnTo>
                  <a:lnTo>
                    <a:pt x="98" y="141"/>
                  </a:lnTo>
                  <a:lnTo>
                    <a:pt x="137" y="141"/>
                  </a:lnTo>
                  <a:lnTo>
                    <a:pt x="185" y="141"/>
                  </a:lnTo>
                  <a:lnTo>
                    <a:pt x="234" y="151"/>
                  </a:lnTo>
                  <a:lnTo>
                    <a:pt x="278" y="170"/>
                  </a:lnTo>
                  <a:lnTo>
                    <a:pt x="278" y="170"/>
                  </a:lnTo>
                  <a:lnTo>
                    <a:pt x="356" y="204"/>
                  </a:lnTo>
                  <a:lnTo>
                    <a:pt x="409" y="224"/>
                  </a:lnTo>
                  <a:lnTo>
                    <a:pt x="434" y="229"/>
                  </a:lnTo>
                  <a:lnTo>
                    <a:pt x="438" y="234"/>
                  </a:lnTo>
                  <a:lnTo>
                    <a:pt x="438" y="234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366800" y="1307520"/>
              <a:ext cx="276840" cy="74160"/>
            </a:xfrm>
            <a:custGeom>
              <a:avLst/>
              <a:gdLst/>
              <a:ahLst/>
              <a:rect l="l" t="t" r="r" b="b"/>
              <a:pathLst>
                <a:path w="330" h="77">
                  <a:moveTo>
                    <a:pt x="330" y="29"/>
                  </a:moveTo>
                  <a:lnTo>
                    <a:pt x="330" y="29"/>
                  </a:lnTo>
                  <a:lnTo>
                    <a:pt x="311" y="24"/>
                  </a:lnTo>
                  <a:lnTo>
                    <a:pt x="253" y="4"/>
                  </a:lnTo>
                  <a:lnTo>
                    <a:pt x="218" y="0"/>
                  </a:lnTo>
                  <a:lnTo>
                    <a:pt x="180" y="0"/>
                  </a:lnTo>
                  <a:lnTo>
                    <a:pt x="141" y="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48" y="43"/>
                  </a:lnTo>
                  <a:lnTo>
                    <a:pt x="19" y="63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2" y="48"/>
                  </a:lnTo>
                  <a:lnTo>
                    <a:pt x="170" y="29"/>
                  </a:lnTo>
                  <a:lnTo>
                    <a:pt x="204" y="24"/>
                  </a:lnTo>
                  <a:lnTo>
                    <a:pt x="233" y="24"/>
                  </a:lnTo>
                  <a:lnTo>
                    <a:pt x="233" y="24"/>
                  </a:lnTo>
                  <a:lnTo>
                    <a:pt x="311" y="29"/>
                  </a:lnTo>
                  <a:lnTo>
                    <a:pt x="330" y="29"/>
                  </a:lnTo>
                  <a:lnTo>
                    <a:pt x="330" y="29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94720" y="925920"/>
              <a:ext cx="502560" cy="244080"/>
            </a:xfrm>
            <a:custGeom>
              <a:avLst/>
              <a:gdLst/>
              <a:ahLst/>
              <a:rect l="l" t="t" r="r" b="b"/>
              <a:pathLst>
                <a:path w="599" h="253">
                  <a:moveTo>
                    <a:pt x="579" y="117"/>
                  </a:moveTo>
                  <a:lnTo>
                    <a:pt x="579" y="117"/>
                  </a:lnTo>
                  <a:lnTo>
                    <a:pt x="579" y="142"/>
                  </a:lnTo>
                  <a:lnTo>
                    <a:pt x="579" y="161"/>
                  </a:lnTo>
                  <a:lnTo>
                    <a:pt x="574" y="185"/>
                  </a:lnTo>
                  <a:lnTo>
                    <a:pt x="569" y="195"/>
                  </a:lnTo>
                  <a:lnTo>
                    <a:pt x="560" y="205"/>
                  </a:lnTo>
                  <a:lnTo>
                    <a:pt x="555" y="210"/>
                  </a:lnTo>
                  <a:lnTo>
                    <a:pt x="540" y="210"/>
                  </a:lnTo>
                  <a:lnTo>
                    <a:pt x="526" y="210"/>
                  </a:lnTo>
                  <a:lnTo>
                    <a:pt x="506" y="200"/>
                  </a:lnTo>
                  <a:lnTo>
                    <a:pt x="487" y="190"/>
                  </a:lnTo>
                  <a:lnTo>
                    <a:pt x="462" y="171"/>
                  </a:lnTo>
                  <a:lnTo>
                    <a:pt x="462" y="171"/>
                  </a:lnTo>
                  <a:lnTo>
                    <a:pt x="365" y="98"/>
                  </a:lnTo>
                  <a:lnTo>
                    <a:pt x="321" y="64"/>
                  </a:lnTo>
                  <a:lnTo>
                    <a:pt x="282" y="39"/>
                  </a:lnTo>
                  <a:lnTo>
                    <a:pt x="243" y="20"/>
                  </a:lnTo>
                  <a:lnTo>
                    <a:pt x="205" y="5"/>
                  </a:lnTo>
                  <a:lnTo>
                    <a:pt x="166" y="0"/>
                  </a:lnTo>
                  <a:lnTo>
                    <a:pt x="122" y="5"/>
                  </a:lnTo>
                  <a:lnTo>
                    <a:pt x="122" y="5"/>
                  </a:lnTo>
                  <a:lnTo>
                    <a:pt x="83" y="15"/>
                  </a:lnTo>
                  <a:lnTo>
                    <a:pt x="54" y="25"/>
                  </a:lnTo>
                  <a:lnTo>
                    <a:pt x="34" y="39"/>
                  </a:lnTo>
                  <a:lnTo>
                    <a:pt x="20" y="54"/>
                  </a:lnTo>
                  <a:lnTo>
                    <a:pt x="10" y="69"/>
                  </a:lnTo>
                  <a:lnTo>
                    <a:pt x="5" y="8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5" y="78"/>
                  </a:lnTo>
                  <a:lnTo>
                    <a:pt x="34" y="64"/>
                  </a:lnTo>
                  <a:lnTo>
                    <a:pt x="59" y="44"/>
                  </a:lnTo>
                  <a:lnTo>
                    <a:pt x="88" y="35"/>
                  </a:lnTo>
                  <a:lnTo>
                    <a:pt x="117" y="25"/>
                  </a:lnTo>
                  <a:lnTo>
                    <a:pt x="151" y="25"/>
                  </a:lnTo>
                  <a:lnTo>
                    <a:pt x="170" y="30"/>
                  </a:lnTo>
                  <a:lnTo>
                    <a:pt x="185" y="39"/>
                  </a:lnTo>
                  <a:lnTo>
                    <a:pt x="185" y="39"/>
                  </a:lnTo>
                  <a:lnTo>
                    <a:pt x="229" y="64"/>
                  </a:lnTo>
                  <a:lnTo>
                    <a:pt x="273" y="103"/>
                  </a:lnTo>
                  <a:lnTo>
                    <a:pt x="380" y="180"/>
                  </a:lnTo>
                  <a:lnTo>
                    <a:pt x="433" y="215"/>
                  </a:lnTo>
                  <a:lnTo>
                    <a:pt x="482" y="244"/>
                  </a:lnTo>
                  <a:lnTo>
                    <a:pt x="501" y="249"/>
                  </a:lnTo>
                  <a:lnTo>
                    <a:pt x="526" y="253"/>
                  </a:lnTo>
                  <a:lnTo>
                    <a:pt x="540" y="253"/>
                  </a:lnTo>
                  <a:lnTo>
                    <a:pt x="560" y="249"/>
                  </a:lnTo>
                  <a:lnTo>
                    <a:pt x="560" y="249"/>
                  </a:lnTo>
                  <a:lnTo>
                    <a:pt x="579" y="229"/>
                  </a:lnTo>
                  <a:lnTo>
                    <a:pt x="594" y="210"/>
                  </a:lnTo>
                  <a:lnTo>
                    <a:pt x="599" y="185"/>
                  </a:lnTo>
                  <a:lnTo>
                    <a:pt x="599" y="166"/>
                  </a:lnTo>
                  <a:lnTo>
                    <a:pt x="594" y="146"/>
                  </a:lnTo>
                  <a:lnTo>
                    <a:pt x="584" y="132"/>
                  </a:lnTo>
                  <a:lnTo>
                    <a:pt x="579" y="117"/>
                  </a:lnTo>
                  <a:lnTo>
                    <a:pt x="579" y="117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60240" y="1236960"/>
              <a:ext cx="380160" cy="98280"/>
            </a:xfrm>
            <a:custGeom>
              <a:avLst/>
              <a:gdLst/>
              <a:ahLst/>
              <a:rect l="l" t="t" r="r" b="b"/>
              <a:pathLst>
                <a:path w="453" h="102">
                  <a:moveTo>
                    <a:pt x="453" y="102"/>
                  </a:moveTo>
                  <a:lnTo>
                    <a:pt x="453" y="102"/>
                  </a:lnTo>
                  <a:lnTo>
                    <a:pt x="418" y="82"/>
                  </a:lnTo>
                  <a:lnTo>
                    <a:pt x="336" y="48"/>
                  </a:lnTo>
                  <a:lnTo>
                    <a:pt x="282" y="29"/>
                  </a:lnTo>
                  <a:lnTo>
                    <a:pt x="224" y="14"/>
                  </a:lnTo>
                  <a:lnTo>
                    <a:pt x="165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54" y="4"/>
                  </a:lnTo>
                  <a:lnTo>
                    <a:pt x="24" y="9"/>
                  </a:lnTo>
                  <a:lnTo>
                    <a:pt x="5" y="1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5" y="43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15" y="43"/>
                  </a:lnTo>
                  <a:lnTo>
                    <a:pt x="24" y="39"/>
                  </a:lnTo>
                  <a:lnTo>
                    <a:pt x="39" y="34"/>
                  </a:lnTo>
                  <a:lnTo>
                    <a:pt x="63" y="29"/>
                  </a:lnTo>
                  <a:lnTo>
                    <a:pt x="92" y="29"/>
                  </a:lnTo>
                  <a:lnTo>
                    <a:pt x="136" y="29"/>
                  </a:lnTo>
                  <a:lnTo>
                    <a:pt x="190" y="39"/>
                  </a:lnTo>
                  <a:lnTo>
                    <a:pt x="190" y="39"/>
                  </a:lnTo>
                  <a:lnTo>
                    <a:pt x="302" y="58"/>
                  </a:lnTo>
                  <a:lnTo>
                    <a:pt x="384" y="77"/>
                  </a:lnTo>
                  <a:lnTo>
                    <a:pt x="453" y="102"/>
                  </a:lnTo>
                  <a:lnTo>
                    <a:pt x="453" y="1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54000" y="1777320"/>
              <a:ext cx="273240" cy="168840"/>
            </a:xfrm>
            <a:custGeom>
              <a:avLst/>
              <a:gdLst/>
              <a:ahLst/>
              <a:rect l="l" t="t" r="r" b="b"/>
              <a:pathLst>
                <a:path w="326" h="175">
                  <a:moveTo>
                    <a:pt x="0" y="68"/>
                  </a:moveTo>
                  <a:lnTo>
                    <a:pt x="0" y="68"/>
                  </a:lnTo>
                  <a:lnTo>
                    <a:pt x="30" y="49"/>
                  </a:lnTo>
                  <a:lnTo>
                    <a:pt x="64" y="25"/>
                  </a:lnTo>
                  <a:lnTo>
                    <a:pt x="103" y="10"/>
                  </a:lnTo>
                  <a:lnTo>
                    <a:pt x="117" y="5"/>
                  </a:lnTo>
                  <a:lnTo>
                    <a:pt x="132" y="5"/>
                  </a:lnTo>
                  <a:lnTo>
                    <a:pt x="132" y="5"/>
                  </a:lnTo>
                  <a:lnTo>
                    <a:pt x="156" y="15"/>
                  </a:lnTo>
                  <a:lnTo>
                    <a:pt x="171" y="25"/>
                  </a:lnTo>
                  <a:lnTo>
                    <a:pt x="180" y="29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205" y="1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44" y="0"/>
                  </a:lnTo>
                  <a:lnTo>
                    <a:pt x="253" y="5"/>
                  </a:lnTo>
                  <a:lnTo>
                    <a:pt x="268" y="20"/>
                  </a:lnTo>
                  <a:lnTo>
                    <a:pt x="268" y="20"/>
                  </a:lnTo>
                  <a:lnTo>
                    <a:pt x="287" y="54"/>
                  </a:lnTo>
                  <a:lnTo>
                    <a:pt x="297" y="78"/>
                  </a:lnTo>
                  <a:lnTo>
                    <a:pt x="307" y="98"/>
                  </a:lnTo>
                  <a:lnTo>
                    <a:pt x="312" y="102"/>
                  </a:lnTo>
                  <a:lnTo>
                    <a:pt x="321" y="112"/>
                  </a:lnTo>
                  <a:lnTo>
                    <a:pt x="321" y="112"/>
                  </a:lnTo>
                  <a:lnTo>
                    <a:pt x="326" y="117"/>
                  </a:lnTo>
                  <a:lnTo>
                    <a:pt x="326" y="127"/>
                  </a:lnTo>
                  <a:lnTo>
                    <a:pt x="317" y="136"/>
                  </a:lnTo>
                  <a:lnTo>
                    <a:pt x="307" y="151"/>
                  </a:lnTo>
                  <a:lnTo>
                    <a:pt x="292" y="161"/>
                  </a:lnTo>
                  <a:lnTo>
                    <a:pt x="273" y="171"/>
                  </a:lnTo>
                  <a:lnTo>
                    <a:pt x="253" y="175"/>
                  </a:lnTo>
                  <a:lnTo>
                    <a:pt x="234" y="175"/>
                  </a:lnTo>
                  <a:lnTo>
                    <a:pt x="234" y="175"/>
                  </a:lnTo>
                  <a:lnTo>
                    <a:pt x="214" y="166"/>
                  </a:lnTo>
                  <a:lnTo>
                    <a:pt x="195" y="161"/>
                  </a:lnTo>
                  <a:lnTo>
                    <a:pt x="171" y="141"/>
                  </a:lnTo>
                  <a:lnTo>
                    <a:pt x="156" y="127"/>
                  </a:lnTo>
                  <a:lnTo>
                    <a:pt x="146" y="122"/>
                  </a:lnTo>
                  <a:lnTo>
                    <a:pt x="146" y="122"/>
                  </a:lnTo>
                  <a:lnTo>
                    <a:pt x="137" y="127"/>
                  </a:lnTo>
                  <a:lnTo>
                    <a:pt x="132" y="136"/>
                  </a:lnTo>
                  <a:lnTo>
                    <a:pt x="127" y="166"/>
                  </a:lnTo>
                  <a:lnTo>
                    <a:pt x="127" y="166"/>
                  </a:lnTo>
                  <a:lnTo>
                    <a:pt x="122" y="171"/>
                  </a:lnTo>
                  <a:lnTo>
                    <a:pt x="117" y="175"/>
                  </a:lnTo>
                  <a:lnTo>
                    <a:pt x="93" y="175"/>
                  </a:lnTo>
                  <a:lnTo>
                    <a:pt x="93" y="175"/>
                  </a:lnTo>
                  <a:lnTo>
                    <a:pt x="88" y="171"/>
                  </a:lnTo>
                  <a:lnTo>
                    <a:pt x="88" y="171"/>
                  </a:lnTo>
                  <a:lnTo>
                    <a:pt x="44" y="12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280" y="1824480"/>
              <a:ext cx="135000" cy="121320"/>
            </a:xfrm>
            <a:custGeom>
              <a:avLst/>
              <a:gdLst/>
              <a:ahLst/>
              <a:rect l="l" t="t" r="r" b="b"/>
              <a:pathLst>
                <a:path w="161" h="126">
                  <a:moveTo>
                    <a:pt x="0" y="34"/>
                  </a:moveTo>
                  <a:lnTo>
                    <a:pt x="0" y="34"/>
                  </a:lnTo>
                  <a:lnTo>
                    <a:pt x="20" y="19"/>
                  </a:lnTo>
                  <a:lnTo>
                    <a:pt x="44" y="5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102" y="24"/>
                  </a:lnTo>
                  <a:lnTo>
                    <a:pt x="112" y="39"/>
                  </a:lnTo>
                  <a:lnTo>
                    <a:pt x="122" y="5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27" y="78"/>
                  </a:lnTo>
                  <a:lnTo>
                    <a:pt x="122" y="87"/>
                  </a:lnTo>
                  <a:lnTo>
                    <a:pt x="117" y="117"/>
                  </a:lnTo>
                  <a:lnTo>
                    <a:pt x="117" y="117"/>
                  </a:lnTo>
                  <a:lnTo>
                    <a:pt x="112" y="122"/>
                  </a:lnTo>
                  <a:lnTo>
                    <a:pt x="107" y="126"/>
                  </a:lnTo>
                  <a:lnTo>
                    <a:pt x="83" y="126"/>
                  </a:lnTo>
                  <a:lnTo>
                    <a:pt x="83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39" y="78"/>
                  </a:lnTo>
                  <a:lnTo>
                    <a:pt x="0" y="34"/>
                  </a:lnTo>
                  <a:lnTo>
                    <a:pt x="0" y="34"/>
                  </a:lnTo>
                  <a:close/>
                  <a:moveTo>
                    <a:pt x="146" y="83"/>
                  </a:moveTo>
                  <a:lnTo>
                    <a:pt x="146" y="83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46" y="83"/>
                  </a:lnTo>
                  <a:lnTo>
                    <a:pt x="146" y="83"/>
                  </a:lnTo>
                  <a:close/>
                </a:path>
              </a:pathLst>
            </a:custGeom>
            <a:solidFill>
              <a:srgbClr val="b10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04840" y="1801440"/>
              <a:ext cx="65160" cy="7920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10" y="0"/>
                  </a:moveTo>
                  <a:lnTo>
                    <a:pt x="10" y="0"/>
                  </a:lnTo>
                  <a:lnTo>
                    <a:pt x="30" y="14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9" y="58"/>
                  </a:lnTo>
                  <a:lnTo>
                    <a:pt x="54" y="68"/>
                  </a:lnTo>
                  <a:lnTo>
                    <a:pt x="64" y="73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64" y="82"/>
                  </a:lnTo>
                  <a:lnTo>
                    <a:pt x="49" y="82"/>
                  </a:lnTo>
                  <a:lnTo>
                    <a:pt x="39" y="77"/>
                  </a:lnTo>
                  <a:lnTo>
                    <a:pt x="30" y="6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7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99360" y="1904760"/>
              <a:ext cx="253080" cy="111960"/>
            </a:xfrm>
            <a:custGeom>
              <a:avLst/>
              <a:gdLst/>
              <a:ahLst/>
              <a:rect l="l" t="t" r="r" b="b"/>
              <a:pathLst>
                <a:path w="302" h="116">
                  <a:moveTo>
                    <a:pt x="10" y="4"/>
                  </a:moveTo>
                  <a:lnTo>
                    <a:pt x="10" y="4"/>
                  </a:lnTo>
                  <a:lnTo>
                    <a:pt x="24" y="14"/>
                  </a:lnTo>
                  <a:lnTo>
                    <a:pt x="63" y="34"/>
                  </a:lnTo>
                  <a:lnTo>
                    <a:pt x="92" y="43"/>
                  </a:lnTo>
                  <a:lnTo>
                    <a:pt x="121" y="53"/>
                  </a:lnTo>
                  <a:lnTo>
                    <a:pt x="151" y="58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233" y="48"/>
                  </a:lnTo>
                  <a:lnTo>
                    <a:pt x="267" y="34"/>
                  </a:lnTo>
                  <a:lnTo>
                    <a:pt x="287" y="1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19"/>
                  </a:lnTo>
                  <a:lnTo>
                    <a:pt x="302" y="19"/>
                  </a:lnTo>
                  <a:lnTo>
                    <a:pt x="297" y="53"/>
                  </a:lnTo>
                  <a:lnTo>
                    <a:pt x="282" y="77"/>
                  </a:lnTo>
                  <a:lnTo>
                    <a:pt x="258" y="102"/>
                  </a:lnTo>
                  <a:lnTo>
                    <a:pt x="243" y="112"/>
                  </a:lnTo>
                  <a:lnTo>
                    <a:pt x="224" y="116"/>
                  </a:lnTo>
                  <a:lnTo>
                    <a:pt x="204" y="116"/>
                  </a:lnTo>
                  <a:lnTo>
                    <a:pt x="185" y="116"/>
                  </a:lnTo>
                  <a:lnTo>
                    <a:pt x="160" y="116"/>
                  </a:lnTo>
                  <a:lnTo>
                    <a:pt x="136" y="107"/>
                  </a:lnTo>
                  <a:lnTo>
                    <a:pt x="112" y="97"/>
                  </a:lnTo>
                  <a:lnTo>
                    <a:pt x="87" y="82"/>
                  </a:lnTo>
                  <a:lnTo>
                    <a:pt x="63" y="63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31240" y="1608120"/>
              <a:ext cx="551160" cy="126360"/>
            </a:xfrm>
            <a:custGeom>
              <a:avLst/>
              <a:gdLst/>
              <a:ahLst/>
              <a:rect l="l" t="t" r="r" b="b"/>
              <a:pathLst>
                <a:path w="657" h="131">
                  <a:moveTo>
                    <a:pt x="34" y="68"/>
                  </a:moveTo>
                  <a:lnTo>
                    <a:pt x="34" y="68"/>
                  </a:lnTo>
                  <a:lnTo>
                    <a:pt x="107" y="88"/>
                  </a:lnTo>
                  <a:lnTo>
                    <a:pt x="210" y="117"/>
                  </a:lnTo>
                  <a:lnTo>
                    <a:pt x="268" y="127"/>
                  </a:lnTo>
                  <a:lnTo>
                    <a:pt x="326" y="131"/>
                  </a:lnTo>
                  <a:lnTo>
                    <a:pt x="385" y="131"/>
                  </a:lnTo>
                  <a:lnTo>
                    <a:pt x="433" y="127"/>
                  </a:lnTo>
                  <a:lnTo>
                    <a:pt x="433" y="127"/>
                  </a:lnTo>
                  <a:lnTo>
                    <a:pt x="579" y="92"/>
                  </a:lnTo>
                  <a:lnTo>
                    <a:pt x="609" y="78"/>
                  </a:lnTo>
                  <a:lnTo>
                    <a:pt x="628" y="68"/>
                  </a:lnTo>
                  <a:lnTo>
                    <a:pt x="628" y="68"/>
                  </a:lnTo>
                  <a:lnTo>
                    <a:pt x="657" y="44"/>
                  </a:lnTo>
                  <a:lnTo>
                    <a:pt x="657" y="44"/>
                  </a:lnTo>
                  <a:lnTo>
                    <a:pt x="609" y="63"/>
                  </a:lnTo>
                  <a:lnTo>
                    <a:pt x="560" y="83"/>
                  </a:lnTo>
                  <a:lnTo>
                    <a:pt x="516" y="97"/>
                  </a:lnTo>
                  <a:lnTo>
                    <a:pt x="472" y="107"/>
                  </a:lnTo>
                  <a:lnTo>
                    <a:pt x="429" y="107"/>
                  </a:lnTo>
                  <a:lnTo>
                    <a:pt x="385" y="112"/>
                  </a:lnTo>
                  <a:lnTo>
                    <a:pt x="341" y="107"/>
                  </a:lnTo>
                  <a:lnTo>
                    <a:pt x="302" y="102"/>
                  </a:lnTo>
                  <a:lnTo>
                    <a:pt x="219" y="83"/>
                  </a:lnTo>
                  <a:lnTo>
                    <a:pt x="146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68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62480" y="1429200"/>
              <a:ext cx="20160" cy="27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4" y="0"/>
                  </a:moveTo>
                  <a:lnTo>
                    <a:pt x="14" y="0"/>
                  </a:lnTo>
                  <a:lnTo>
                    <a:pt x="24" y="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98480" y="1391400"/>
              <a:ext cx="24840" cy="27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11080" y="144864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03120" y="630000"/>
              <a:ext cx="236520" cy="234720"/>
            </a:xfrm>
            <a:custGeom>
              <a:avLst/>
              <a:gdLst/>
              <a:ahLst/>
              <a:rect l="l" t="t" r="r" b="b"/>
              <a:pathLst>
                <a:path w="282" h="243">
                  <a:moveTo>
                    <a:pt x="282" y="83"/>
                  </a:moveTo>
                  <a:lnTo>
                    <a:pt x="282" y="83"/>
                  </a:lnTo>
                  <a:lnTo>
                    <a:pt x="258" y="58"/>
                  </a:lnTo>
                  <a:lnTo>
                    <a:pt x="234" y="39"/>
                  </a:lnTo>
                  <a:lnTo>
                    <a:pt x="204" y="19"/>
                  </a:lnTo>
                  <a:lnTo>
                    <a:pt x="175" y="5"/>
                  </a:lnTo>
                  <a:lnTo>
                    <a:pt x="156" y="0"/>
                  </a:lnTo>
                  <a:lnTo>
                    <a:pt x="141" y="0"/>
                  </a:lnTo>
                  <a:lnTo>
                    <a:pt x="122" y="5"/>
                  </a:lnTo>
                  <a:lnTo>
                    <a:pt x="107" y="10"/>
                  </a:lnTo>
                  <a:lnTo>
                    <a:pt x="93" y="24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49" y="83"/>
                  </a:lnTo>
                  <a:lnTo>
                    <a:pt x="29" y="122"/>
                  </a:lnTo>
                  <a:lnTo>
                    <a:pt x="15" y="156"/>
                  </a:lnTo>
                  <a:lnTo>
                    <a:pt x="5" y="190"/>
                  </a:lnTo>
                  <a:lnTo>
                    <a:pt x="0" y="219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10" y="243"/>
                  </a:lnTo>
                  <a:lnTo>
                    <a:pt x="24" y="243"/>
                  </a:lnTo>
                  <a:lnTo>
                    <a:pt x="24" y="243"/>
                  </a:lnTo>
                  <a:lnTo>
                    <a:pt x="44" y="229"/>
                  </a:lnTo>
                  <a:lnTo>
                    <a:pt x="63" y="199"/>
                  </a:lnTo>
                  <a:lnTo>
                    <a:pt x="102" y="126"/>
                  </a:lnTo>
                  <a:lnTo>
                    <a:pt x="127" y="92"/>
                  </a:lnTo>
                  <a:lnTo>
                    <a:pt x="146" y="63"/>
                  </a:lnTo>
                  <a:lnTo>
                    <a:pt x="161" y="53"/>
                  </a:lnTo>
                  <a:lnTo>
                    <a:pt x="175" y="44"/>
                  </a:lnTo>
                  <a:lnTo>
                    <a:pt x="185" y="44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43" y="63"/>
                  </a:lnTo>
                  <a:lnTo>
                    <a:pt x="268" y="73"/>
                  </a:lnTo>
                  <a:lnTo>
                    <a:pt x="282" y="83"/>
                  </a:lnTo>
                  <a:lnTo>
                    <a:pt x="282" y="83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03120" y="808920"/>
              <a:ext cx="318960" cy="531360"/>
            </a:xfrm>
            <a:custGeom>
              <a:avLst/>
              <a:gdLst/>
              <a:ahLst/>
              <a:rect l="l" t="t" r="r" b="b"/>
              <a:pathLst>
                <a:path w="380" h="550">
                  <a:moveTo>
                    <a:pt x="78" y="550"/>
                  </a:moveTo>
                  <a:lnTo>
                    <a:pt x="78" y="550"/>
                  </a:lnTo>
                  <a:lnTo>
                    <a:pt x="63" y="550"/>
                  </a:lnTo>
                  <a:lnTo>
                    <a:pt x="63" y="550"/>
                  </a:lnTo>
                  <a:lnTo>
                    <a:pt x="44" y="525"/>
                  </a:lnTo>
                  <a:lnTo>
                    <a:pt x="29" y="491"/>
                  </a:lnTo>
                  <a:lnTo>
                    <a:pt x="20" y="457"/>
                  </a:lnTo>
                  <a:lnTo>
                    <a:pt x="10" y="418"/>
                  </a:lnTo>
                  <a:lnTo>
                    <a:pt x="0" y="379"/>
                  </a:lnTo>
                  <a:lnTo>
                    <a:pt x="0" y="336"/>
                  </a:lnTo>
                  <a:lnTo>
                    <a:pt x="0" y="292"/>
                  </a:lnTo>
                  <a:lnTo>
                    <a:pt x="5" y="248"/>
                  </a:lnTo>
                  <a:lnTo>
                    <a:pt x="5" y="248"/>
                  </a:lnTo>
                  <a:lnTo>
                    <a:pt x="20" y="190"/>
                  </a:lnTo>
                  <a:lnTo>
                    <a:pt x="39" y="136"/>
                  </a:lnTo>
                  <a:lnTo>
                    <a:pt x="68" y="92"/>
                  </a:lnTo>
                  <a:lnTo>
                    <a:pt x="97" y="53"/>
                  </a:lnTo>
                  <a:lnTo>
                    <a:pt x="131" y="24"/>
                  </a:lnTo>
                  <a:lnTo>
                    <a:pt x="166" y="5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43" y="5"/>
                  </a:lnTo>
                  <a:lnTo>
                    <a:pt x="243" y="5"/>
                  </a:lnTo>
                  <a:lnTo>
                    <a:pt x="258" y="10"/>
                  </a:lnTo>
                  <a:lnTo>
                    <a:pt x="277" y="19"/>
                  </a:lnTo>
                  <a:lnTo>
                    <a:pt x="307" y="44"/>
                  </a:lnTo>
                  <a:lnTo>
                    <a:pt x="336" y="83"/>
                  </a:lnTo>
                  <a:lnTo>
                    <a:pt x="355" y="126"/>
                  </a:lnTo>
                  <a:lnTo>
                    <a:pt x="370" y="175"/>
                  </a:lnTo>
                  <a:lnTo>
                    <a:pt x="380" y="233"/>
                  </a:lnTo>
                  <a:lnTo>
                    <a:pt x="380" y="292"/>
                  </a:lnTo>
                  <a:lnTo>
                    <a:pt x="375" y="350"/>
                  </a:lnTo>
                  <a:lnTo>
                    <a:pt x="375" y="350"/>
                  </a:lnTo>
                  <a:lnTo>
                    <a:pt x="360" y="409"/>
                  </a:lnTo>
                  <a:lnTo>
                    <a:pt x="341" y="457"/>
                  </a:lnTo>
                  <a:lnTo>
                    <a:pt x="321" y="496"/>
                  </a:lnTo>
                  <a:lnTo>
                    <a:pt x="297" y="530"/>
                  </a:lnTo>
                  <a:lnTo>
                    <a:pt x="297" y="530"/>
                  </a:lnTo>
                  <a:lnTo>
                    <a:pt x="268" y="525"/>
                  </a:lnTo>
                  <a:lnTo>
                    <a:pt x="224" y="520"/>
                  </a:lnTo>
                  <a:lnTo>
                    <a:pt x="224" y="520"/>
                  </a:lnTo>
                  <a:lnTo>
                    <a:pt x="170" y="520"/>
                  </a:lnTo>
                  <a:lnTo>
                    <a:pt x="117" y="530"/>
                  </a:lnTo>
                  <a:lnTo>
                    <a:pt x="117" y="530"/>
                  </a:lnTo>
                  <a:lnTo>
                    <a:pt x="78" y="550"/>
                  </a:lnTo>
                  <a:lnTo>
                    <a:pt x="78" y="550"/>
                  </a:lnTo>
                  <a:close/>
                </a:path>
              </a:pathLst>
            </a:cu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844160" y="822240"/>
              <a:ext cx="293760" cy="513000"/>
            </a:xfrm>
            <a:custGeom>
              <a:avLst/>
              <a:gdLst/>
              <a:ahLst/>
              <a:rect l="l" t="t" r="r" b="b"/>
              <a:pathLst>
                <a:path w="350" h="531">
                  <a:moveTo>
                    <a:pt x="224" y="5"/>
                  </a:moveTo>
                  <a:lnTo>
                    <a:pt x="224" y="5"/>
                  </a:lnTo>
                  <a:lnTo>
                    <a:pt x="209" y="0"/>
                  </a:lnTo>
                  <a:lnTo>
                    <a:pt x="190" y="0"/>
                  </a:lnTo>
                  <a:lnTo>
                    <a:pt x="155" y="10"/>
                  </a:lnTo>
                  <a:lnTo>
                    <a:pt x="121" y="30"/>
                  </a:lnTo>
                  <a:lnTo>
                    <a:pt x="92" y="54"/>
                  </a:lnTo>
                  <a:lnTo>
                    <a:pt x="63" y="93"/>
                  </a:lnTo>
                  <a:lnTo>
                    <a:pt x="39" y="137"/>
                  </a:lnTo>
                  <a:lnTo>
                    <a:pt x="19" y="185"/>
                  </a:lnTo>
                  <a:lnTo>
                    <a:pt x="10" y="244"/>
                  </a:lnTo>
                  <a:lnTo>
                    <a:pt x="10" y="244"/>
                  </a:lnTo>
                  <a:lnTo>
                    <a:pt x="0" y="287"/>
                  </a:lnTo>
                  <a:lnTo>
                    <a:pt x="0" y="326"/>
                  </a:lnTo>
                  <a:lnTo>
                    <a:pt x="0" y="365"/>
                  </a:lnTo>
                  <a:lnTo>
                    <a:pt x="5" y="399"/>
                  </a:lnTo>
                  <a:lnTo>
                    <a:pt x="14" y="433"/>
                  </a:lnTo>
                  <a:lnTo>
                    <a:pt x="24" y="468"/>
                  </a:lnTo>
                  <a:lnTo>
                    <a:pt x="39" y="497"/>
                  </a:lnTo>
                  <a:lnTo>
                    <a:pt x="53" y="521"/>
                  </a:lnTo>
                  <a:lnTo>
                    <a:pt x="53" y="521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121" y="506"/>
                  </a:lnTo>
                  <a:lnTo>
                    <a:pt x="175" y="506"/>
                  </a:lnTo>
                  <a:lnTo>
                    <a:pt x="175" y="506"/>
                  </a:lnTo>
                  <a:lnTo>
                    <a:pt x="224" y="511"/>
                  </a:lnTo>
                  <a:lnTo>
                    <a:pt x="248" y="521"/>
                  </a:lnTo>
                  <a:lnTo>
                    <a:pt x="248" y="521"/>
                  </a:lnTo>
                  <a:lnTo>
                    <a:pt x="263" y="531"/>
                  </a:lnTo>
                  <a:lnTo>
                    <a:pt x="263" y="531"/>
                  </a:lnTo>
                  <a:lnTo>
                    <a:pt x="287" y="492"/>
                  </a:lnTo>
                  <a:lnTo>
                    <a:pt x="311" y="448"/>
                  </a:lnTo>
                  <a:lnTo>
                    <a:pt x="331" y="399"/>
                  </a:lnTo>
                  <a:lnTo>
                    <a:pt x="345" y="341"/>
                  </a:lnTo>
                  <a:lnTo>
                    <a:pt x="345" y="341"/>
                  </a:lnTo>
                  <a:lnTo>
                    <a:pt x="350" y="283"/>
                  </a:lnTo>
                  <a:lnTo>
                    <a:pt x="350" y="224"/>
                  </a:lnTo>
                  <a:lnTo>
                    <a:pt x="340" y="171"/>
                  </a:lnTo>
                  <a:lnTo>
                    <a:pt x="331" y="122"/>
                  </a:lnTo>
                  <a:lnTo>
                    <a:pt x="311" y="83"/>
                  </a:lnTo>
                  <a:lnTo>
                    <a:pt x="287" y="44"/>
                  </a:lnTo>
                  <a:lnTo>
                    <a:pt x="258" y="20"/>
                  </a:lnTo>
                  <a:lnTo>
                    <a:pt x="243" y="10"/>
                  </a:lnTo>
                  <a:lnTo>
                    <a:pt x="224" y="5"/>
                  </a:lnTo>
                  <a:lnTo>
                    <a:pt x="224" y="5"/>
                  </a:ln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64320" y="855360"/>
              <a:ext cx="257400" cy="465480"/>
            </a:xfrm>
            <a:custGeom>
              <a:avLst/>
              <a:gdLst/>
              <a:ahLst/>
              <a:rect l="l" t="t" r="r" b="b"/>
              <a:pathLst>
                <a:path w="307" h="482">
                  <a:moveTo>
                    <a:pt x="190" y="0"/>
                  </a:move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5"/>
                  </a:lnTo>
                  <a:lnTo>
                    <a:pt x="15" y="409"/>
                  </a:lnTo>
                  <a:lnTo>
                    <a:pt x="24" y="434"/>
                  </a:lnTo>
                  <a:lnTo>
                    <a:pt x="39" y="458"/>
                  </a:lnTo>
                  <a:lnTo>
                    <a:pt x="54" y="482"/>
                  </a:lnTo>
                  <a:lnTo>
                    <a:pt x="54" y="482"/>
                  </a:lnTo>
                  <a:lnTo>
                    <a:pt x="102" y="472"/>
                  </a:lnTo>
                  <a:lnTo>
                    <a:pt x="151" y="472"/>
                  </a:lnTo>
                  <a:lnTo>
                    <a:pt x="151" y="472"/>
                  </a:lnTo>
                  <a:lnTo>
                    <a:pt x="190" y="477"/>
                  </a:lnTo>
                  <a:lnTo>
                    <a:pt x="214" y="482"/>
                  </a:lnTo>
                  <a:lnTo>
                    <a:pt x="214" y="482"/>
                  </a:lnTo>
                  <a:lnTo>
                    <a:pt x="243" y="443"/>
                  </a:lnTo>
                  <a:lnTo>
                    <a:pt x="273" y="399"/>
                  </a:lnTo>
                  <a:lnTo>
                    <a:pt x="292" y="346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4320" y="855360"/>
              <a:ext cx="257400" cy="30636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180" y="44"/>
                  </a:moveTo>
                  <a:lnTo>
                    <a:pt x="180" y="44"/>
                  </a:lnTo>
                  <a:lnTo>
                    <a:pt x="209" y="54"/>
                  </a:lnTo>
                  <a:lnTo>
                    <a:pt x="234" y="73"/>
                  </a:lnTo>
                  <a:lnTo>
                    <a:pt x="258" y="103"/>
                  </a:lnTo>
                  <a:lnTo>
                    <a:pt x="273" y="132"/>
                  </a:lnTo>
                  <a:lnTo>
                    <a:pt x="287" y="176"/>
                  </a:lnTo>
                  <a:lnTo>
                    <a:pt x="297" y="219"/>
                  </a:lnTo>
                  <a:lnTo>
                    <a:pt x="302" y="268"/>
                  </a:lnTo>
                  <a:lnTo>
                    <a:pt x="297" y="317"/>
                  </a:lnTo>
                  <a:lnTo>
                    <a:pt x="297" y="317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15" y="205"/>
                  </a:lnTo>
                  <a:lnTo>
                    <a:pt x="29" y="161"/>
                  </a:lnTo>
                  <a:lnTo>
                    <a:pt x="49" y="127"/>
                  </a:lnTo>
                  <a:lnTo>
                    <a:pt x="73" y="98"/>
                  </a:lnTo>
                  <a:lnTo>
                    <a:pt x="97" y="73"/>
                  </a:lnTo>
                  <a:lnTo>
                    <a:pt x="127" y="54"/>
                  </a:lnTo>
                  <a:lnTo>
                    <a:pt x="151" y="44"/>
                  </a:lnTo>
                  <a:lnTo>
                    <a:pt x="180" y="44"/>
                  </a:lnTo>
                  <a:lnTo>
                    <a:pt x="180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09680" y="1001160"/>
              <a:ext cx="183600" cy="27720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132"/>
                  </a:move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9" y="214"/>
                  </a:lnTo>
                  <a:lnTo>
                    <a:pt x="19" y="239"/>
                  </a:lnTo>
                  <a:lnTo>
                    <a:pt x="34" y="258"/>
                  </a:lnTo>
                  <a:lnTo>
                    <a:pt x="48" y="273"/>
                  </a:lnTo>
                  <a:lnTo>
                    <a:pt x="68" y="283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112" y="287"/>
                  </a:lnTo>
                  <a:lnTo>
                    <a:pt x="131" y="283"/>
                  </a:lnTo>
                  <a:lnTo>
                    <a:pt x="150" y="273"/>
                  </a:lnTo>
                  <a:lnTo>
                    <a:pt x="170" y="258"/>
                  </a:lnTo>
                  <a:lnTo>
                    <a:pt x="185" y="239"/>
                  </a:lnTo>
                  <a:lnTo>
                    <a:pt x="199" y="214"/>
                  </a:lnTo>
                  <a:lnTo>
                    <a:pt x="209" y="185"/>
                  </a:lnTo>
                  <a:lnTo>
                    <a:pt x="214" y="156"/>
                  </a:lnTo>
                  <a:lnTo>
                    <a:pt x="214" y="156"/>
                  </a:lnTo>
                  <a:lnTo>
                    <a:pt x="219" y="127"/>
                  </a:lnTo>
                  <a:lnTo>
                    <a:pt x="214" y="102"/>
                  </a:lnTo>
                  <a:lnTo>
                    <a:pt x="209" y="73"/>
                  </a:lnTo>
                  <a:lnTo>
                    <a:pt x="199" y="54"/>
                  </a:lnTo>
                  <a:lnTo>
                    <a:pt x="185" y="34"/>
                  </a:lnTo>
                  <a:lnTo>
                    <a:pt x="165" y="15"/>
                  </a:lnTo>
                  <a:lnTo>
                    <a:pt x="146" y="5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2" y="0"/>
                  </a:lnTo>
                  <a:lnTo>
                    <a:pt x="82" y="5"/>
                  </a:lnTo>
                  <a:lnTo>
                    <a:pt x="63" y="15"/>
                  </a:lnTo>
                  <a:lnTo>
                    <a:pt x="43" y="34"/>
                  </a:lnTo>
                  <a:lnTo>
                    <a:pt x="29" y="54"/>
                  </a:lnTo>
                  <a:lnTo>
                    <a:pt x="14" y="73"/>
                  </a:lnTo>
                  <a:lnTo>
                    <a:pt x="4" y="10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55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25520" y="1029960"/>
              <a:ext cx="146880" cy="2199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0" y="102"/>
                  </a:moveTo>
                  <a:lnTo>
                    <a:pt x="0" y="102"/>
                  </a:lnTo>
                  <a:lnTo>
                    <a:pt x="0" y="126"/>
                  </a:lnTo>
                  <a:lnTo>
                    <a:pt x="5" y="150"/>
                  </a:lnTo>
                  <a:lnTo>
                    <a:pt x="10" y="170"/>
                  </a:lnTo>
                  <a:lnTo>
                    <a:pt x="15" y="189"/>
                  </a:lnTo>
                  <a:lnTo>
                    <a:pt x="29" y="204"/>
                  </a:lnTo>
                  <a:lnTo>
                    <a:pt x="39" y="218"/>
                  </a:lnTo>
                  <a:lnTo>
                    <a:pt x="58" y="223"/>
                  </a:lnTo>
                  <a:lnTo>
                    <a:pt x="73" y="228"/>
                  </a:lnTo>
                  <a:lnTo>
                    <a:pt x="73" y="228"/>
                  </a:lnTo>
                  <a:lnTo>
                    <a:pt x="93" y="228"/>
                  </a:lnTo>
                  <a:lnTo>
                    <a:pt x="107" y="223"/>
                  </a:lnTo>
                  <a:lnTo>
                    <a:pt x="122" y="218"/>
                  </a:lnTo>
                  <a:lnTo>
                    <a:pt x="136" y="204"/>
                  </a:lnTo>
                  <a:lnTo>
                    <a:pt x="151" y="189"/>
                  </a:lnTo>
                  <a:lnTo>
                    <a:pt x="161" y="170"/>
                  </a:lnTo>
                  <a:lnTo>
                    <a:pt x="170" y="150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5" y="102"/>
                  </a:lnTo>
                  <a:lnTo>
                    <a:pt x="175" y="77"/>
                  </a:lnTo>
                  <a:lnTo>
                    <a:pt x="170" y="58"/>
                  </a:lnTo>
                  <a:lnTo>
                    <a:pt x="161" y="38"/>
                  </a:lnTo>
                  <a:lnTo>
                    <a:pt x="151" y="24"/>
                  </a:lnTo>
                  <a:lnTo>
                    <a:pt x="136" y="14"/>
                  </a:lnTo>
                  <a:lnTo>
                    <a:pt x="12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54" y="14"/>
                  </a:lnTo>
                  <a:lnTo>
                    <a:pt x="39" y="24"/>
                  </a:lnTo>
                  <a:lnTo>
                    <a:pt x="24" y="38"/>
                  </a:lnTo>
                  <a:lnTo>
                    <a:pt x="15" y="58"/>
                  </a:lnTo>
                  <a:lnTo>
                    <a:pt x="5" y="8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2ba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50000" y="1076400"/>
              <a:ext cx="97920" cy="136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63"/>
                  </a:moveTo>
                  <a:lnTo>
                    <a:pt x="0" y="63"/>
                  </a:lnTo>
                  <a:lnTo>
                    <a:pt x="5" y="93"/>
                  </a:lnTo>
                  <a:lnTo>
                    <a:pt x="10" y="117"/>
                  </a:lnTo>
                  <a:lnTo>
                    <a:pt x="29" y="136"/>
                  </a:lnTo>
                  <a:lnTo>
                    <a:pt x="39" y="141"/>
                  </a:lnTo>
                  <a:lnTo>
                    <a:pt x="49" y="141"/>
                  </a:lnTo>
                  <a:lnTo>
                    <a:pt x="49" y="141"/>
                  </a:lnTo>
                  <a:lnTo>
                    <a:pt x="59" y="141"/>
                  </a:lnTo>
                  <a:lnTo>
                    <a:pt x="73" y="141"/>
                  </a:lnTo>
                  <a:lnTo>
                    <a:pt x="93" y="127"/>
                  </a:lnTo>
                  <a:lnTo>
                    <a:pt x="107" y="107"/>
                  </a:lnTo>
                  <a:lnTo>
                    <a:pt x="117" y="78"/>
                  </a:lnTo>
                  <a:lnTo>
                    <a:pt x="117" y="78"/>
                  </a:lnTo>
                  <a:lnTo>
                    <a:pt x="112" y="49"/>
                  </a:lnTo>
                  <a:lnTo>
                    <a:pt x="107" y="24"/>
                  </a:lnTo>
                  <a:lnTo>
                    <a:pt x="88" y="1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5" y="15"/>
                  </a:lnTo>
                  <a:lnTo>
                    <a:pt x="10" y="3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06880" y="1076400"/>
              <a:ext cx="41040" cy="51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20"/>
                  </a:moveTo>
                  <a:lnTo>
                    <a:pt x="0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25" y="54"/>
                  </a:lnTo>
                  <a:lnTo>
                    <a:pt x="34" y="49"/>
                  </a:lnTo>
                  <a:lnTo>
                    <a:pt x="39" y="44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9" y="20"/>
                  </a:lnTo>
                  <a:lnTo>
                    <a:pt x="44" y="10"/>
                  </a:lnTo>
                  <a:lnTo>
                    <a:pt x="39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0000" y="1166400"/>
              <a:ext cx="2088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0"/>
                  </a:moveTo>
                  <a:lnTo>
                    <a:pt x="2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0" y="2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48480" y="1297800"/>
              <a:ext cx="269280" cy="93600"/>
            </a:xfrm>
            <a:custGeom>
              <a:avLst/>
              <a:gdLst/>
              <a:ahLst/>
              <a:rect l="l" t="t" r="r" b="b"/>
              <a:pathLst>
                <a:path w="321" h="97">
                  <a:moveTo>
                    <a:pt x="0" y="53"/>
                  </a:moveTo>
                  <a:lnTo>
                    <a:pt x="0" y="53"/>
                  </a:lnTo>
                  <a:lnTo>
                    <a:pt x="29" y="34"/>
                  </a:lnTo>
                  <a:lnTo>
                    <a:pt x="63" y="19"/>
                  </a:lnTo>
                  <a:lnTo>
                    <a:pt x="107" y="5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80" y="5"/>
                  </a:lnTo>
                  <a:lnTo>
                    <a:pt x="209" y="10"/>
                  </a:lnTo>
                  <a:lnTo>
                    <a:pt x="238" y="24"/>
                  </a:lnTo>
                  <a:lnTo>
                    <a:pt x="262" y="39"/>
                  </a:lnTo>
                  <a:lnTo>
                    <a:pt x="292" y="68"/>
                  </a:lnTo>
                  <a:lnTo>
                    <a:pt x="321" y="97"/>
                  </a:lnTo>
                  <a:lnTo>
                    <a:pt x="321" y="97"/>
                  </a:lnTo>
                  <a:lnTo>
                    <a:pt x="301" y="78"/>
                  </a:lnTo>
                  <a:lnTo>
                    <a:pt x="272" y="58"/>
                  </a:lnTo>
                  <a:lnTo>
                    <a:pt x="238" y="44"/>
                  </a:lnTo>
                  <a:lnTo>
                    <a:pt x="194" y="29"/>
                  </a:lnTo>
                  <a:lnTo>
                    <a:pt x="170" y="24"/>
                  </a:lnTo>
                  <a:lnTo>
                    <a:pt x="141" y="24"/>
                  </a:lnTo>
                  <a:lnTo>
                    <a:pt x="107" y="24"/>
                  </a:lnTo>
                  <a:lnTo>
                    <a:pt x="73" y="29"/>
                  </a:lnTo>
                  <a:lnTo>
                    <a:pt x="39" y="3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85000" y="14389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24" y="2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43960" y="14011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5" y="2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32080" y="1457280"/>
              <a:ext cx="24120" cy="28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25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150080" y="498600"/>
              <a:ext cx="61200" cy="70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8" y="48"/>
                  </a:moveTo>
                  <a:lnTo>
                    <a:pt x="68" y="48"/>
                  </a:lnTo>
                  <a:lnTo>
                    <a:pt x="63" y="58"/>
                  </a:lnTo>
                  <a:lnTo>
                    <a:pt x="53" y="68"/>
                  </a:lnTo>
                  <a:lnTo>
                    <a:pt x="39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9" y="68"/>
                  </a:lnTo>
                  <a:lnTo>
                    <a:pt x="5" y="53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4" y="5"/>
                  </a:lnTo>
                  <a:lnTo>
                    <a:pt x="29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58" y="9"/>
                  </a:lnTo>
                  <a:lnTo>
                    <a:pt x="68" y="19"/>
                  </a:lnTo>
                  <a:lnTo>
                    <a:pt x="73" y="34"/>
                  </a:lnTo>
                  <a:lnTo>
                    <a:pt x="68" y="48"/>
                  </a:lnTo>
                  <a:lnTo>
                    <a:pt x="68" y="48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186080" y="59688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9"/>
                  </a:moveTo>
                  <a:lnTo>
                    <a:pt x="49" y="29"/>
                  </a:lnTo>
                  <a:lnTo>
                    <a:pt x="44" y="39"/>
                  </a:lnTo>
                  <a:lnTo>
                    <a:pt x="39" y="44"/>
                  </a:lnTo>
                  <a:lnTo>
                    <a:pt x="3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0" y="4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5"/>
                  </a:lnTo>
                  <a:lnTo>
                    <a:pt x="49" y="10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8840" y="67248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19"/>
                  </a:moveTo>
                  <a:lnTo>
                    <a:pt x="34" y="19"/>
                  </a:lnTo>
                  <a:lnTo>
                    <a:pt x="2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029760" y="1134360"/>
              <a:ext cx="1050840" cy="1399320"/>
              <a:chOff x="3029760" y="1134360"/>
              <a:chExt cx="1050840" cy="1399320"/>
            </a:xfrm>
          </p:grpSpPr>
          <p:sp>
            <p:nvSpPr>
              <p:cNvPr id="352" name=""/>
              <p:cNvSpPr/>
              <p:nvPr/>
            </p:nvSpPr>
            <p:spPr>
              <a:xfrm flipH="1" rot="11716200">
                <a:off x="3602160" y="1176480"/>
                <a:ext cx="403200" cy="621360"/>
              </a:xfrm>
              <a:custGeom>
                <a:avLst/>
                <a:gdLst/>
                <a:ahLst/>
                <a:rect l="l" t="t" r="r" b="b"/>
                <a:pathLst>
                  <a:path w="550" h="628">
                    <a:moveTo>
                      <a:pt x="229" y="20"/>
                    </a:moveTo>
                    <a:lnTo>
                      <a:pt x="229" y="20"/>
                    </a:lnTo>
                    <a:lnTo>
                      <a:pt x="234" y="20"/>
                    </a:lnTo>
                    <a:lnTo>
                      <a:pt x="243" y="20"/>
                    </a:lnTo>
                    <a:lnTo>
                      <a:pt x="253" y="34"/>
                    </a:lnTo>
                    <a:lnTo>
                      <a:pt x="258" y="59"/>
                    </a:lnTo>
                    <a:lnTo>
                      <a:pt x="263" y="88"/>
                    </a:lnTo>
                    <a:lnTo>
                      <a:pt x="273" y="171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97" y="317"/>
                    </a:lnTo>
                    <a:lnTo>
                      <a:pt x="316" y="351"/>
                    </a:lnTo>
                    <a:lnTo>
                      <a:pt x="341" y="380"/>
                    </a:lnTo>
                    <a:lnTo>
                      <a:pt x="370" y="404"/>
                    </a:lnTo>
                    <a:lnTo>
                      <a:pt x="404" y="424"/>
                    </a:lnTo>
                    <a:lnTo>
                      <a:pt x="438" y="438"/>
                    </a:lnTo>
                    <a:lnTo>
                      <a:pt x="477" y="448"/>
                    </a:lnTo>
                    <a:lnTo>
                      <a:pt x="506" y="448"/>
                    </a:lnTo>
                    <a:lnTo>
                      <a:pt x="506" y="448"/>
                    </a:lnTo>
                    <a:lnTo>
                      <a:pt x="516" y="448"/>
                    </a:lnTo>
                    <a:lnTo>
                      <a:pt x="526" y="453"/>
                    </a:lnTo>
                    <a:lnTo>
                      <a:pt x="535" y="472"/>
                    </a:lnTo>
                    <a:lnTo>
                      <a:pt x="545" y="501"/>
                    </a:lnTo>
                    <a:lnTo>
                      <a:pt x="550" y="536"/>
                    </a:lnTo>
                    <a:lnTo>
                      <a:pt x="550" y="599"/>
                    </a:lnTo>
                    <a:lnTo>
                      <a:pt x="550" y="628"/>
                    </a:lnTo>
                    <a:lnTo>
                      <a:pt x="550" y="628"/>
                    </a:lnTo>
                    <a:lnTo>
                      <a:pt x="516" y="623"/>
                    </a:lnTo>
                    <a:lnTo>
                      <a:pt x="438" y="604"/>
                    </a:lnTo>
                    <a:lnTo>
                      <a:pt x="385" y="589"/>
                    </a:lnTo>
                    <a:lnTo>
                      <a:pt x="331" y="570"/>
                    </a:lnTo>
                    <a:lnTo>
                      <a:pt x="277" y="545"/>
                    </a:lnTo>
                    <a:lnTo>
                      <a:pt x="224" y="511"/>
                    </a:lnTo>
                    <a:lnTo>
                      <a:pt x="224" y="511"/>
                    </a:lnTo>
                    <a:lnTo>
                      <a:pt x="204" y="497"/>
                    </a:lnTo>
                    <a:lnTo>
                      <a:pt x="185" y="472"/>
                    </a:lnTo>
                    <a:lnTo>
                      <a:pt x="146" y="419"/>
                    </a:lnTo>
                    <a:lnTo>
                      <a:pt x="112" y="351"/>
                    </a:lnTo>
                    <a:lnTo>
                      <a:pt x="83" y="278"/>
                    </a:lnTo>
                    <a:lnTo>
                      <a:pt x="54" y="200"/>
                    </a:lnTo>
                    <a:lnTo>
                      <a:pt x="29" y="12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73" y="15"/>
                    </a:lnTo>
                    <a:lnTo>
                      <a:pt x="151" y="34"/>
                    </a:lnTo>
                    <a:lnTo>
                      <a:pt x="229" y="20"/>
                    </a:lnTo>
                    <a:lnTo>
                      <a:pt x="22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 rot="11716200">
                <a:off x="3526560" y="161172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1716200">
                <a:off x="3511440" y="1591560"/>
                <a:ext cx="246240" cy="216720"/>
              </a:xfrm>
              <a:custGeom>
                <a:avLst/>
                <a:gdLst/>
                <a:ahLst/>
                <a:rect l="l" t="t" r="r" b="b"/>
                <a:pathLst>
                  <a:path w="336" h="219">
                    <a:moveTo>
                      <a:pt x="141" y="9"/>
                    </a:moveTo>
                    <a:lnTo>
                      <a:pt x="141" y="9"/>
                    </a:lnTo>
                    <a:lnTo>
                      <a:pt x="141" y="9"/>
                    </a:lnTo>
                    <a:lnTo>
                      <a:pt x="98" y="24"/>
                    </a:lnTo>
                    <a:lnTo>
                      <a:pt x="63" y="43"/>
                    </a:lnTo>
                    <a:lnTo>
                      <a:pt x="34" y="6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5" y="107"/>
                    </a:lnTo>
                    <a:lnTo>
                      <a:pt x="0" y="121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0" y="170"/>
                    </a:lnTo>
                    <a:lnTo>
                      <a:pt x="25" y="189"/>
                    </a:lnTo>
                    <a:lnTo>
                      <a:pt x="44" y="199"/>
                    </a:lnTo>
                    <a:lnTo>
                      <a:pt x="68" y="209"/>
                    </a:lnTo>
                    <a:lnTo>
                      <a:pt x="98" y="219"/>
                    </a:lnTo>
                    <a:lnTo>
                      <a:pt x="127" y="219"/>
                    </a:lnTo>
                    <a:lnTo>
                      <a:pt x="161" y="219"/>
                    </a:lnTo>
                    <a:lnTo>
                      <a:pt x="195" y="209"/>
                    </a:lnTo>
                    <a:lnTo>
                      <a:pt x="195" y="209"/>
                    </a:lnTo>
                    <a:lnTo>
                      <a:pt x="234" y="199"/>
                    </a:lnTo>
                    <a:lnTo>
                      <a:pt x="273" y="180"/>
                    </a:lnTo>
                    <a:lnTo>
                      <a:pt x="302" y="155"/>
                    </a:lnTo>
                    <a:lnTo>
                      <a:pt x="321" y="126"/>
                    </a:lnTo>
                    <a:lnTo>
                      <a:pt x="321" y="126"/>
                    </a:lnTo>
                    <a:lnTo>
                      <a:pt x="331" y="112"/>
                    </a:lnTo>
                    <a:lnTo>
                      <a:pt x="331" y="97"/>
                    </a:lnTo>
                    <a:lnTo>
                      <a:pt x="336" y="82"/>
                    </a:lnTo>
                    <a:lnTo>
                      <a:pt x="331" y="68"/>
                    </a:lnTo>
                    <a:lnTo>
                      <a:pt x="331" y="68"/>
                    </a:lnTo>
                    <a:lnTo>
                      <a:pt x="321" y="48"/>
                    </a:lnTo>
                    <a:lnTo>
                      <a:pt x="307" y="34"/>
                    </a:lnTo>
                    <a:lnTo>
                      <a:pt x="287" y="19"/>
                    </a:lnTo>
                    <a:lnTo>
                      <a:pt x="263" y="9"/>
                    </a:lnTo>
                    <a:lnTo>
                      <a:pt x="239" y="4"/>
                    </a:lnTo>
                    <a:lnTo>
                      <a:pt x="205" y="0"/>
                    </a:lnTo>
                    <a:lnTo>
                      <a:pt x="175" y="4"/>
                    </a:lnTo>
                    <a:lnTo>
                      <a:pt x="141" y="9"/>
                    </a:lnTo>
                    <a:lnTo>
                      <a:pt x="141" y="9"/>
                    </a:lnTo>
                    <a:close/>
                    <a:moveTo>
                      <a:pt x="292" y="77"/>
                    </a:moveTo>
                    <a:lnTo>
                      <a:pt x="292" y="77"/>
                    </a:lnTo>
                    <a:lnTo>
                      <a:pt x="292" y="92"/>
                    </a:lnTo>
                    <a:lnTo>
                      <a:pt x="287" y="107"/>
                    </a:lnTo>
                    <a:lnTo>
                      <a:pt x="287" y="107"/>
                    </a:lnTo>
                    <a:lnTo>
                      <a:pt x="273" y="126"/>
                    </a:lnTo>
                    <a:lnTo>
                      <a:pt x="248" y="146"/>
                    </a:lnTo>
                    <a:lnTo>
                      <a:pt x="219" y="160"/>
                    </a:lnTo>
                    <a:lnTo>
                      <a:pt x="185" y="175"/>
                    </a:lnTo>
                    <a:lnTo>
                      <a:pt x="185" y="175"/>
                    </a:lnTo>
                    <a:lnTo>
                      <a:pt x="156" y="180"/>
                    </a:lnTo>
                    <a:lnTo>
                      <a:pt x="132" y="180"/>
                    </a:lnTo>
                    <a:lnTo>
                      <a:pt x="107" y="180"/>
                    </a:lnTo>
                    <a:lnTo>
                      <a:pt x="88" y="175"/>
                    </a:lnTo>
                    <a:lnTo>
                      <a:pt x="68" y="170"/>
                    </a:lnTo>
                    <a:lnTo>
                      <a:pt x="54" y="160"/>
                    </a:lnTo>
                    <a:lnTo>
                      <a:pt x="44" y="150"/>
                    </a:lnTo>
                    <a:lnTo>
                      <a:pt x="39" y="141"/>
                    </a:lnTo>
                    <a:lnTo>
                      <a:pt x="39" y="141"/>
                    </a:lnTo>
                    <a:lnTo>
                      <a:pt x="39" y="131"/>
                    </a:lnTo>
                    <a:lnTo>
                      <a:pt x="39" y="131"/>
                    </a:lnTo>
                    <a:lnTo>
                      <a:pt x="39" y="121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63" y="92"/>
                    </a:lnTo>
                    <a:lnTo>
                      <a:pt x="88" y="73"/>
                    </a:lnTo>
                    <a:lnTo>
                      <a:pt x="117" y="58"/>
                    </a:lnTo>
                    <a:lnTo>
                      <a:pt x="151" y="48"/>
                    </a:lnTo>
                    <a:lnTo>
                      <a:pt x="151" y="48"/>
                    </a:lnTo>
                    <a:lnTo>
                      <a:pt x="175" y="43"/>
                    </a:lnTo>
                    <a:lnTo>
                      <a:pt x="205" y="39"/>
                    </a:lnTo>
                    <a:lnTo>
                      <a:pt x="224" y="39"/>
                    </a:lnTo>
                    <a:lnTo>
                      <a:pt x="248" y="43"/>
                    </a:lnTo>
                    <a:lnTo>
                      <a:pt x="263" y="48"/>
                    </a:lnTo>
                    <a:lnTo>
                      <a:pt x="278" y="58"/>
                    </a:lnTo>
                    <a:lnTo>
                      <a:pt x="287" y="68"/>
                    </a:lnTo>
                    <a:lnTo>
                      <a:pt x="292" y="77"/>
                    </a:lnTo>
                    <a:lnTo>
                      <a:pt x="29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1716200">
                <a:off x="3526560" y="161172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 rot="11716200">
                <a:off x="3148560" y="162792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 rot="11716200">
                <a:off x="3134520" y="1609920"/>
                <a:ext cx="524160" cy="870120"/>
              </a:xfrm>
              <a:custGeom>
                <a:avLst/>
                <a:gdLst/>
                <a:ahLst/>
                <a:rect l="l" t="t" r="r" b="b"/>
                <a:pathLst>
                  <a:path w="715" h="880">
                    <a:moveTo>
                      <a:pt x="413" y="112"/>
                    </a:moveTo>
                    <a:lnTo>
                      <a:pt x="413" y="112"/>
                    </a:lnTo>
                    <a:lnTo>
                      <a:pt x="394" y="160"/>
                    </a:lnTo>
                    <a:lnTo>
                      <a:pt x="389" y="194"/>
                    </a:lnTo>
                    <a:lnTo>
                      <a:pt x="389" y="224"/>
                    </a:lnTo>
                    <a:lnTo>
                      <a:pt x="399" y="248"/>
                    </a:lnTo>
                    <a:lnTo>
                      <a:pt x="399" y="262"/>
                    </a:lnTo>
                    <a:lnTo>
                      <a:pt x="399" y="262"/>
                    </a:lnTo>
                    <a:lnTo>
                      <a:pt x="399" y="277"/>
                    </a:lnTo>
                    <a:lnTo>
                      <a:pt x="399" y="277"/>
                    </a:lnTo>
                    <a:lnTo>
                      <a:pt x="389" y="282"/>
                    </a:lnTo>
                    <a:lnTo>
                      <a:pt x="379" y="282"/>
                    </a:lnTo>
                    <a:lnTo>
                      <a:pt x="360" y="282"/>
                    </a:lnTo>
                    <a:lnTo>
                      <a:pt x="345" y="282"/>
                    </a:lnTo>
                    <a:lnTo>
                      <a:pt x="345" y="282"/>
                    </a:lnTo>
                    <a:lnTo>
                      <a:pt x="306" y="277"/>
                    </a:lnTo>
                    <a:lnTo>
                      <a:pt x="277" y="277"/>
                    </a:lnTo>
                    <a:lnTo>
                      <a:pt x="228" y="282"/>
                    </a:lnTo>
                    <a:lnTo>
                      <a:pt x="228" y="282"/>
                    </a:lnTo>
                    <a:lnTo>
                      <a:pt x="155" y="292"/>
                    </a:lnTo>
                    <a:lnTo>
                      <a:pt x="121" y="301"/>
                    </a:lnTo>
                    <a:lnTo>
                      <a:pt x="87" y="311"/>
                    </a:lnTo>
                    <a:lnTo>
                      <a:pt x="87" y="311"/>
                    </a:lnTo>
                    <a:lnTo>
                      <a:pt x="68" y="321"/>
                    </a:lnTo>
                    <a:lnTo>
                      <a:pt x="39" y="340"/>
                    </a:lnTo>
                    <a:lnTo>
                      <a:pt x="19" y="360"/>
                    </a:lnTo>
                    <a:lnTo>
                      <a:pt x="14" y="374"/>
                    </a:lnTo>
                    <a:lnTo>
                      <a:pt x="9" y="389"/>
                    </a:lnTo>
                    <a:lnTo>
                      <a:pt x="9" y="389"/>
                    </a:lnTo>
                    <a:lnTo>
                      <a:pt x="14" y="408"/>
                    </a:lnTo>
                    <a:lnTo>
                      <a:pt x="14" y="408"/>
                    </a:lnTo>
                    <a:lnTo>
                      <a:pt x="24" y="428"/>
                    </a:lnTo>
                    <a:lnTo>
                      <a:pt x="29" y="438"/>
                    </a:lnTo>
                    <a:lnTo>
                      <a:pt x="29" y="438"/>
                    </a:lnTo>
                    <a:lnTo>
                      <a:pt x="9" y="472"/>
                    </a:lnTo>
                    <a:lnTo>
                      <a:pt x="5" y="491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5" y="535"/>
                    </a:lnTo>
                    <a:lnTo>
                      <a:pt x="9" y="554"/>
                    </a:lnTo>
                    <a:lnTo>
                      <a:pt x="19" y="569"/>
                    </a:lnTo>
                    <a:lnTo>
                      <a:pt x="34" y="579"/>
                    </a:lnTo>
                    <a:lnTo>
                      <a:pt x="34" y="579"/>
                    </a:lnTo>
                    <a:lnTo>
                      <a:pt x="19" y="59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9" y="642"/>
                    </a:lnTo>
                    <a:lnTo>
                      <a:pt x="29" y="671"/>
                    </a:lnTo>
                    <a:lnTo>
                      <a:pt x="44" y="691"/>
                    </a:lnTo>
                    <a:lnTo>
                      <a:pt x="53" y="700"/>
                    </a:lnTo>
                    <a:lnTo>
                      <a:pt x="63" y="705"/>
                    </a:lnTo>
                    <a:lnTo>
                      <a:pt x="63" y="705"/>
                    </a:lnTo>
                    <a:lnTo>
                      <a:pt x="68" y="705"/>
                    </a:lnTo>
                    <a:lnTo>
                      <a:pt x="68" y="705"/>
                    </a:lnTo>
                    <a:lnTo>
                      <a:pt x="68" y="710"/>
                    </a:lnTo>
                    <a:lnTo>
                      <a:pt x="68" y="710"/>
                    </a:lnTo>
                    <a:lnTo>
                      <a:pt x="68" y="725"/>
                    </a:lnTo>
                    <a:lnTo>
                      <a:pt x="78" y="739"/>
                    </a:lnTo>
                    <a:lnTo>
                      <a:pt x="87" y="759"/>
                    </a:lnTo>
                    <a:lnTo>
                      <a:pt x="102" y="778"/>
                    </a:lnTo>
                    <a:lnTo>
                      <a:pt x="102" y="778"/>
                    </a:lnTo>
                    <a:lnTo>
                      <a:pt x="126" y="793"/>
                    </a:lnTo>
                    <a:lnTo>
                      <a:pt x="146" y="807"/>
                    </a:lnTo>
                    <a:lnTo>
                      <a:pt x="204" y="827"/>
                    </a:lnTo>
                    <a:lnTo>
                      <a:pt x="258" y="837"/>
                    </a:lnTo>
                    <a:lnTo>
                      <a:pt x="306" y="846"/>
                    </a:lnTo>
                    <a:lnTo>
                      <a:pt x="306" y="846"/>
                    </a:lnTo>
                    <a:lnTo>
                      <a:pt x="394" y="856"/>
                    </a:lnTo>
                    <a:lnTo>
                      <a:pt x="394" y="856"/>
                    </a:lnTo>
                    <a:lnTo>
                      <a:pt x="428" y="866"/>
                    </a:lnTo>
                    <a:lnTo>
                      <a:pt x="428" y="866"/>
                    </a:lnTo>
                    <a:lnTo>
                      <a:pt x="462" y="876"/>
                    </a:lnTo>
                    <a:lnTo>
                      <a:pt x="462" y="876"/>
                    </a:lnTo>
                    <a:lnTo>
                      <a:pt x="491" y="880"/>
                    </a:lnTo>
                    <a:lnTo>
                      <a:pt x="520" y="876"/>
                    </a:lnTo>
                    <a:lnTo>
                      <a:pt x="584" y="866"/>
                    </a:lnTo>
                    <a:lnTo>
                      <a:pt x="603" y="861"/>
                    </a:lnTo>
                    <a:lnTo>
                      <a:pt x="603" y="861"/>
                    </a:lnTo>
                    <a:lnTo>
                      <a:pt x="622" y="851"/>
                    </a:lnTo>
                    <a:lnTo>
                      <a:pt x="642" y="842"/>
                    </a:lnTo>
                    <a:lnTo>
                      <a:pt x="657" y="827"/>
                    </a:lnTo>
                    <a:lnTo>
                      <a:pt x="666" y="812"/>
                    </a:lnTo>
                    <a:lnTo>
                      <a:pt x="681" y="778"/>
                    </a:lnTo>
                    <a:lnTo>
                      <a:pt x="686" y="744"/>
                    </a:lnTo>
                    <a:lnTo>
                      <a:pt x="686" y="744"/>
                    </a:lnTo>
                    <a:lnTo>
                      <a:pt x="705" y="652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00" y="506"/>
                    </a:lnTo>
                    <a:lnTo>
                      <a:pt x="691" y="477"/>
                    </a:lnTo>
                    <a:lnTo>
                      <a:pt x="681" y="443"/>
                    </a:lnTo>
                    <a:lnTo>
                      <a:pt x="652" y="384"/>
                    </a:lnTo>
                    <a:lnTo>
                      <a:pt x="608" y="321"/>
                    </a:lnTo>
                    <a:lnTo>
                      <a:pt x="608" y="321"/>
                    </a:lnTo>
                    <a:lnTo>
                      <a:pt x="598" y="301"/>
                    </a:lnTo>
                    <a:lnTo>
                      <a:pt x="588" y="277"/>
                    </a:lnTo>
                    <a:lnTo>
                      <a:pt x="584" y="258"/>
                    </a:lnTo>
                    <a:lnTo>
                      <a:pt x="584" y="233"/>
                    </a:lnTo>
                    <a:lnTo>
                      <a:pt x="584" y="233"/>
                    </a:lnTo>
                    <a:lnTo>
                      <a:pt x="588" y="185"/>
                    </a:lnTo>
                    <a:lnTo>
                      <a:pt x="603" y="131"/>
                    </a:lnTo>
                    <a:lnTo>
                      <a:pt x="603" y="131"/>
                    </a:lnTo>
                    <a:lnTo>
                      <a:pt x="618" y="92"/>
                    </a:lnTo>
                    <a:lnTo>
                      <a:pt x="622" y="58"/>
                    </a:lnTo>
                    <a:lnTo>
                      <a:pt x="622" y="58"/>
                    </a:lnTo>
                    <a:lnTo>
                      <a:pt x="618" y="34"/>
                    </a:lnTo>
                    <a:lnTo>
                      <a:pt x="618" y="34"/>
                    </a:lnTo>
                    <a:lnTo>
                      <a:pt x="608" y="19"/>
                    </a:lnTo>
                    <a:lnTo>
                      <a:pt x="598" y="14"/>
                    </a:lnTo>
                    <a:lnTo>
                      <a:pt x="579" y="5"/>
                    </a:lnTo>
                    <a:lnTo>
                      <a:pt x="579" y="5"/>
                    </a:lnTo>
                    <a:lnTo>
                      <a:pt x="559" y="0"/>
                    </a:lnTo>
                    <a:lnTo>
                      <a:pt x="540" y="0"/>
                    </a:lnTo>
                    <a:lnTo>
                      <a:pt x="520" y="9"/>
                    </a:lnTo>
                    <a:lnTo>
                      <a:pt x="496" y="19"/>
                    </a:lnTo>
                    <a:lnTo>
                      <a:pt x="472" y="39"/>
                    </a:lnTo>
                    <a:lnTo>
                      <a:pt x="452" y="58"/>
                    </a:lnTo>
                    <a:lnTo>
                      <a:pt x="433" y="82"/>
                    </a:lnTo>
                    <a:lnTo>
                      <a:pt x="413" y="112"/>
                    </a:lnTo>
                    <a:lnTo>
                      <a:pt x="413" y="112"/>
                    </a:lnTo>
                    <a:close/>
                    <a:moveTo>
                      <a:pt x="428" y="306"/>
                    </a:moveTo>
                    <a:lnTo>
                      <a:pt x="428" y="306"/>
                    </a:lnTo>
                    <a:lnTo>
                      <a:pt x="438" y="287"/>
                    </a:lnTo>
                    <a:lnTo>
                      <a:pt x="438" y="262"/>
                    </a:lnTo>
                    <a:lnTo>
                      <a:pt x="433" y="238"/>
                    </a:lnTo>
                    <a:lnTo>
                      <a:pt x="433" y="238"/>
                    </a:lnTo>
                    <a:lnTo>
                      <a:pt x="428" y="219"/>
                    </a:lnTo>
                    <a:lnTo>
                      <a:pt x="428" y="194"/>
                    </a:lnTo>
                    <a:lnTo>
                      <a:pt x="433" y="165"/>
                    </a:lnTo>
                    <a:lnTo>
                      <a:pt x="447" y="131"/>
                    </a:lnTo>
                    <a:lnTo>
                      <a:pt x="447" y="131"/>
                    </a:lnTo>
                    <a:lnTo>
                      <a:pt x="462" y="107"/>
                    </a:lnTo>
                    <a:lnTo>
                      <a:pt x="481" y="87"/>
                    </a:lnTo>
                    <a:lnTo>
                      <a:pt x="496" y="68"/>
                    </a:lnTo>
                    <a:lnTo>
                      <a:pt x="515" y="53"/>
                    </a:lnTo>
                    <a:lnTo>
                      <a:pt x="545" y="39"/>
                    </a:lnTo>
                    <a:lnTo>
                      <a:pt x="554" y="39"/>
                    </a:lnTo>
                    <a:lnTo>
                      <a:pt x="564" y="39"/>
                    </a:lnTo>
                    <a:lnTo>
                      <a:pt x="564" y="39"/>
                    </a:lnTo>
                    <a:lnTo>
                      <a:pt x="579" y="44"/>
                    </a:lnTo>
                    <a:lnTo>
                      <a:pt x="584" y="48"/>
                    </a:lnTo>
                    <a:lnTo>
                      <a:pt x="584" y="48"/>
                    </a:lnTo>
                    <a:lnTo>
                      <a:pt x="584" y="58"/>
                    </a:lnTo>
                    <a:lnTo>
                      <a:pt x="584" y="58"/>
                    </a:lnTo>
                    <a:lnTo>
                      <a:pt x="579" y="82"/>
                    </a:lnTo>
                    <a:lnTo>
                      <a:pt x="569" y="117"/>
                    </a:lnTo>
                    <a:lnTo>
                      <a:pt x="569" y="117"/>
                    </a:lnTo>
                    <a:lnTo>
                      <a:pt x="550" y="175"/>
                    </a:lnTo>
                    <a:lnTo>
                      <a:pt x="545" y="233"/>
                    </a:lnTo>
                    <a:lnTo>
                      <a:pt x="545" y="233"/>
                    </a:lnTo>
                    <a:lnTo>
                      <a:pt x="545" y="262"/>
                    </a:lnTo>
                    <a:lnTo>
                      <a:pt x="550" y="292"/>
                    </a:lnTo>
                    <a:lnTo>
                      <a:pt x="559" y="316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618" y="404"/>
                    </a:lnTo>
                    <a:lnTo>
                      <a:pt x="647" y="457"/>
                    </a:lnTo>
                    <a:lnTo>
                      <a:pt x="661" y="516"/>
                    </a:lnTo>
                    <a:lnTo>
                      <a:pt x="671" y="589"/>
                    </a:lnTo>
                    <a:lnTo>
                      <a:pt x="671" y="589"/>
                    </a:lnTo>
                    <a:lnTo>
                      <a:pt x="666" y="652"/>
                    </a:lnTo>
                    <a:lnTo>
                      <a:pt x="652" y="739"/>
                    </a:lnTo>
                    <a:lnTo>
                      <a:pt x="652" y="739"/>
                    </a:lnTo>
                    <a:lnTo>
                      <a:pt x="642" y="769"/>
                    </a:lnTo>
                    <a:lnTo>
                      <a:pt x="632" y="793"/>
                    </a:lnTo>
                    <a:lnTo>
                      <a:pt x="618" y="812"/>
                    </a:lnTo>
                    <a:lnTo>
                      <a:pt x="593" y="822"/>
                    </a:lnTo>
                    <a:lnTo>
                      <a:pt x="574" y="827"/>
                    </a:lnTo>
                    <a:lnTo>
                      <a:pt x="574" y="827"/>
                    </a:lnTo>
                    <a:lnTo>
                      <a:pt x="515" y="837"/>
                    </a:lnTo>
                    <a:lnTo>
                      <a:pt x="491" y="842"/>
                    </a:lnTo>
                    <a:lnTo>
                      <a:pt x="467" y="837"/>
                    </a:lnTo>
                    <a:lnTo>
                      <a:pt x="467" y="837"/>
                    </a:lnTo>
                    <a:lnTo>
                      <a:pt x="442" y="832"/>
                    </a:lnTo>
                    <a:lnTo>
                      <a:pt x="442" y="832"/>
                    </a:lnTo>
                    <a:lnTo>
                      <a:pt x="418" y="822"/>
                    </a:lnTo>
                    <a:lnTo>
                      <a:pt x="399" y="817"/>
                    </a:lnTo>
                    <a:lnTo>
                      <a:pt x="399" y="817"/>
                    </a:lnTo>
                    <a:lnTo>
                      <a:pt x="311" y="807"/>
                    </a:lnTo>
                    <a:lnTo>
                      <a:pt x="311" y="807"/>
                    </a:lnTo>
                    <a:lnTo>
                      <a:pt x="272" y="803"/>
                    </a:lnTo>
                    <a:lnTo>
                      <a:pt x="219" y="793"/>
                    </a:lnTo>
                    <a:lnTo>
                      <a:pt x="170" y="773"/>
                    </a:lnTo>
                    <a:lnTo>
                      <a:pt x="151" y="764"/>
                    </a:lnTo>
                    <a:lnTo>
                      <a:pt x="131" y="749"/>
                    </a:lnTo>
                    <a:lnTo>
                      <a:pt x="131" y="749"/>
                    </a:lnTo>
                    <a:lnTo>
                      <a:pt x="116" y="739"/>
                    </a:lnTo>
                    <a:lnTo>
                      <a:pt x="112" y="725"/>
                    </a:lnTo>
                    <a:lnTo>
                      <a:pt x="107" y="710"/>
                    </a:lnTo>
                    <a:lnTo>
                      <a:pt x="107" y="710"/>
                    </a:lnTo>
                    <a:lnTo>
                      <a:pt x="107" y="700"/>
                    </a:lnTo>
                    <a:lnTo>
                      <a:pt x="121" y="681"/>
                    </a:lnTo>
                    <a:lnTo>
                      <a:pt x="97" y="676"/>
                    </a:lnTo>
                    <a:lnTo>
                      <a:pt x="97" y="676"/>
                    </a:lnTo>
                    <a:lnTo>
                      <a:pt x="73" y="666"/>
                    </a:lnTo>
                    <a:lnTo>
                      <a:pt x="73" y="666"/>
                    </a:lnTo>
                    <a:lnTo>
                      <a:pt x="63" y="647"/>
                    </a:lnTo>
                    <a:lnTo>
                      <a:pt x="58" y="632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8" y="613"/>
                    </a:lnTo>
                    <a:lnTo>
                      <a:pt x="63" y="603"/>
                    </a:lnTo>
                    <a:lnTo>
                      <a:pt x="78" y="593"/>
                    </a:lnTo>
                    <a:lnTo>
                      <a:pt x="82" y="584"/>
                    </a:lnTo>
                    <a:lnTo>
                      <a:pt x="82" y="574"/>
                    </a:lnTo>
                    <a:lnTo>
                      <a:pt x="82" y="574"/>
                    </a:lnTo>
                    <a:lnTo>
                      <a:pt x="82" y="564"/>
                    </a:lnTo>
                    <a:lnTo>
                      <a:pt x="78" y="559"/>
                    </a:lnTo>
                    <a:lnTo>
                      <a:pt x="68" y="554"/>
                    </a:lnTo>
                    <a:lnTo>
                      <a:pt x="58" y="550"/>
                    </a:lnTo>
                    <a:lnTo>
                      <a:pt x="58" y="550"/>
                    </a:lnTo>
                    <a:lnTo>
                      <a:pt x="48" y="540"/>
                    </a:lnTo>
                    <a:lnTo>
                      <a:pt x="44" y="530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44" y="501"/>
                    </a:lnTo>
                    <a:lnTo>
                      <a:pt x="53" y="481"/>
                    </a:lnTo>
                    <a:lnTo>
                      <a:pt x="73" y="447"/>
                    </a:lnTo>
                    <a:lnTo>
                      <a:pt x="82" y="43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3" y="413"/>
                    </a:lnTo>
                    <a:lnTo>
                      <a:pt x="48" y="394"/>
                    </a:lnTo>
                    <a:lnTo>
                      <a:pt x="48" y="394"/>
                    </a:lnTo>
                    <a:lnTo>
                      <a:pt x="48" y="389"/>
                    </a:lnTo>
                    <a:lnTo>
                      <a:pt x="48" y="389"/>
                    </a:lnTo>
                    <a:lnTo>
                      <a:pt x="53" y="384"/>
                    </a:lnTo>
                    <a:lnTo>
                      <a:pt x="58" y="374"/>
                    </a:lnTo>
                    <a:lnTo>
                      <a:pt x="78" y="360"/>
                    </a:lnTo>
                    <a:lnTo>
                      <a:pt x="102" y="345"/>
                    </a:lnTo>
                    <a:lnTo>
                      <a:pt x="102" y="345"/>
                    </a:lnTo>
                    <a:lnTo>
                      <a:pt x="131" y="335"/>
                    </a:lnTo>
                    <a:lnTo>
                      <a:pt x="165" y="331"/>
                    </a:lnTo>
                    <a:lnTo>
                      <a:pt x="228" y="321"/>
                    </a:lnTo>
                    <a:lnTo>
                      <a:pt x="282" y="316"/>
                    </a:lnTo>
                    <a:lnTo>
                      <a:pt x="282" y="316"/>
                    </a:lnTo>
                    <a:lnTo>
                      <a:pt x="306" y="316"/>
                    </a:lnTo>
                    <a:lnTo>
                      <a:pt x="345" y="321"/>
                    </a:lnTo>
                    <a:lnTo>
                      <a:pt x="355" y="321"/>
                    </a:lnTo>
                    <a:lnTo>
                      <a:pt x="355" y="321"/>
                    </a:lnTo>
                    <a:lnTo>
                      <a:pt x="389" y="321"/>
                    </a:lnTo>
                    <a:lnTo>
                      <a:pt x="408" y="316"/>
                    </a:lnTo>
                    <a:lnTo>
                      <a:pt x="428" y="306"/>
                    </a:lnTo>
                    <a:lnTo>
                      <a:pt x="42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rot="11716200">
                <a:off x="3148560" y="162792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11716200">
                <a:off x="3148920" y="1967040"/>
                <a:ext cx="249840" cy="144360"/>
              </a:xfrm>
              <a:custGeom>
                <a:avLst/>
                <a:gdLst/>
                <a:ahLst/>
                <a:rect l="l" t="t" r="r" b="b"/>
                <a:pathLst>
                  <a:path w="341" h="146">
                    <a:moveTo>
                      <a:pt x="5" y="39"/>
                    </a:moveTo>
                    <a:lnTo>
                      <a:pt x="5" y="39"/>
                    </a:lnTo>
                    <a:lnTo>
                      <a:pt x="5" y="49"/>
                    </a:lnTo>
                    <a:lnTo>
                      <a:pt x="5" y="68"/>
                    </a:lnTo>
                    <a:lnTo>
                      <a:pt x="15" y="78"/>
                    </a:lnTo>
                    <a:lnTo>
                      <a:pt x="24" y="93"/>
                    </a:lnTo>
                    <a:lnTo>
                      <a:pt x="44" y="103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127" y="127"/>
                    </a:lnTo>
                    <a:lnTo>
                      <a:pt x="180" y="137"/>
                    </a:lnTo>
                    <a:lnTo>
                      <a:pt x="234" y="137"/>
                    </a:lnTo>
                    <a:lnTo>
                      <a:pt x="258" y="132"/>
                    </a:lnTo>
                    <a:lnTo>
                      <a:pt x="277" y="122"/>
                    </a:lnTo>
                    <a:lnTo>
                      <a:pt x="277" y="122"/>
                    </a:lnTo>
                    <a:lnTo>
                      <a:pt x="297" y="112"/>
                    </a:lnTo>
                    <a:lnTo>
                      <a:pt x="311" y="103"/>
                    </a:lnTo>
                    <a:lnTo>
                      <a:pt x="316" y="88"/>
                    </a:lnTo>
                    <a:lnTo>
                      <a:pt x="321" y="73"/>
                    </a:lnTo>
                    <a:lnTo>
                      <a:pt x="316" y="64"/>
                    </a:lnTo>
                    <a:lnTo>
                      <a:pt x="311" y="49"/>
                    </a:lnTo>
                    <a:lnTo>
                      <a:pt x="302" y="39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14" y="15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224" y="5"/>
                    </a:lnTo>
                    <a:lnTo>
                      <a:pt x="248" y="10"/>
                    </a:lnTo>
                    <a:lnTo>
                      <a:pt x="273" y="20"/>
                    </a:lnTo>
                    <a:lnTo>
                      <a:pt x="297" y="30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36" y="64"/>
                    </a:lnTo>
                    <a:lnTo>
                      <a:pt x="341" y="78"/>
                    </a:lnTo>
                    <a:lnTo>
                      <a:pt x="341" y="93"/>
                    </a:lnTo>
                    <a:lnTo>
                      <a:pt x="336" y="107"/>
                    </a:lnTo>
                    <a:lnTo>
                      <a:pt x="321" y="122"/>
                    </a:lnTo>
                    <a:lnTo>
                      <a:pt x="297" y="132"/>
                    </a:lnTo>
                    <a:lnTo>
                      <a:pt x="268" y="137"/>
                    </a:lnTo>
                    <a:lnTo>
                      <a:pt x="229" y="146"/>
                    </a:lnTo>
                    <a:lnTo>
                      <a:pt x="229" y="146"/>
                    </a:lnTo>
                    <a:lnTo>
                      <a:pt x="165" y="146"/>
                    </a:lnTo>
                    <a:lnTo>
                      <a:pt x="122" y="137"/>
                    </a:lnTo>
                    <a:lnTo>
                      <a:pt x="88" y="127"/>
                    </a:lnTo>
                    <a:lnTo>
                      <a:pt x="54" y="112"/>
                    </a:lnTo>
                    <a:lnTo>
                      <a:pt x="54" y="112"/>
                    </a:lnTo>
                    <a:lnTo>
                      <a:pt x="24" y="98"/>
                    </a:lnTo>
                    <a:lnTo>
                      <a:pt x="10" y="83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11716200">
                <a:off x="3213000" y="185148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321" h="127">
                    <a:moveTo>
                      <a:pt x="0" y="83"/>
                    </a:moveTo>
                    <a:lnTo>
                      <a:pt x="0" y="83"/>
                    </a:lnTo>
                    <a:lnTo>
                      <a:pt x="24" y="88"/>
                    </a:lnTo>
                    <a:lnTo>
                      <a:pt x="88" y="103"/>
                    </a:lnTo>
                    <a:lnTo>
                      <a:pt x="170" y="117"/>
                    </a:lnTo>
                    <a:lnTo>
                      <a:pt x="209" y="117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68" y="103"/>
                    </a:lnTo>
                    <a:lnTo>
                      <a:pt x="287" y="93"/>
                    </a:lnTo>
                    <a:lnTo>
                      <a:pt x="297" y="78"/>
                    </a:lnTo>
                    <a:lnTo>
                      <a:pt x="306" y="64"/>
                    </a:lnTo>
                    <a:lnTo>
                      <a:pt x="306" y="54"/>
                    </a:lnTo>
                    <a:lnTo>
                      <a:pt x="306" y="39"/>
                    </a:lnTo>
                    <a:lnTo>
                      <a:pt x="297" y="30"/>
                    </a:lnTo>
                    <a:lnTo>
                      <a:pt x="287" y="20"/>
                    </a:lnTo>
                    <a:lnTo>
                      <a:pt x="287" y="2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68" y="5"/>
                    </a:lnTo>
                    <a:lnTo>
                      <a:pt x="292" y="20"/>
                    </a:lnTo>
                    <a:lnTo>
                      <a:pt x="306" y="30"/>
                    </a:lnTo>
                    <a:lnTo>
                      <a:pt x="316" y="39"/>
                    </a:lnTo>
                    <a:lnTo>
                      <a:pt x="321" y="54"/>
                    </a:lnTo>
                    <a:lnTo>
                      <a:pt x="321" y="68"/>
                    </a:lnTo>
                    <a:lnTo>
                      <a:pt x="321" y="68"/>
                    </a:lnTo>
                    <a:lnTo>
                      <a:pt x="302" y="93"/>
                    </a:lnTo>
                    <a:lnTo>
                      <a:pt x="282" y="107"/>
                    </a:lnTo>
                    <a:lnTo>
                      <a:pt x="253" y="122"/>
                    </a:lnTo>
                    <a:lnTo>
                      <a:pt x="209" y="127"/>
                    </a:lnTo>
                    <a:lnTo>
                      <a:pt x="209" y="127"/>
                    </a:lnTo>
                    <a:lnTo>
                      <a:pt x="195" y="127"/>
                    </a:lnTo>
                    <a:lnTo>
                      <a:pt x="165" y="127"/>
                    </a:lnTo>
                    <a:lnTo>
                      <a:pt x="97" y="117"/>
                    </a:lnTo>
                    <a:lnTo>
                      <a:pt x="29" y="98"/>
                    </a:lnTo>
                    <a:lnTo>
                      <a:pt x="10" y="88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11716200">
                <a:off x="3231720" y="1738440"/>
                <a:ext cx="246240" cy="130320"/>
              </a:xfrm>
              <a:custGeom>
                <a:avLst/>
                <a:gdLst/>
                <a:ahLst/>
                <a:rect l="l" t="t" r="r" b="b"/>
                <a:pathLst>
                  <a:path w="336" h="132">
                    <a:moveTo>
                      <a:pt x="312" y="0"/>
                    </a:moveTo>
                    <a:lnTo>
                      <a:pt x="312" y="0"/>
                    </a:lnTo>
                    <a:lnTo>
                      <a:pt x="317" y="5"/>
                    </a:lnTo>
                    <a:lnTo>
                      <a:pt x="326" y="20"/>
                    </a:lnTo>
                    <a:lnTo>
                      <a:pt x="326" y="29"/>
                    </a:lnTo>
                    <a:lnTo>
                      <a:pt x="321" y="39"/>
                    </a:lnTo>
                    <a:lnTo>
                      <a:pt x="317" y="54"/>
                    </a:lnTo>
                    <a:lnTo>
                      <a:pt x="307" y="68"/>
                    </a:lnTo>
                    <a:lnTo>
                      <a:pt x="307" y="68"/>
                    </a:lnTo>
                    <a:lnTo>
                      <a:pt x="273" y="88"/>
                    </a:lnTo>
                    <a:lnTo>
                      <a:pt x="239" y="98"/>
                    </a:lnTo>
                    <a:lnTo>
                      <a:pt x="210" y="107"/>
                    </a:lnTo>
                    <a:lnTo>
                      <a:pt x="180" y="112"/>
                    </a:lnTo>
                    <a:lnTo>
                      <a:pt x="127" y="117"/>
                    </a:lnTo>
                    <a:lnTo>
                      <a:pt x="78" y="107"/>
                    </a:lnTo>
                    <a:lnTo>
                      <a:pt x="39" y="98"/>
                    </a:lnTo>
                    <a:lnTo>
                      <a:pt x="15" y="88"/>
                    </a:lnTo>
                    <a:lnTo>
                      <a:pt x="0" y="78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20" y="98"/>
                    </a:lnTo>
                    <a:lnTo>
                      <a:pt x="39" y="107"/>
                    </a:lnTo>
                    <a:lnTo>
                      <a:pt x="68" y="122"/>
                    </a:lnTo>
                    <a:lnTo>
                      <a:pt x="107" y="127"/>
                    </a:lnTo>
                    <a:lnTo>
                      <a:pt x="151" y="132"/>
                    </a:lnTo>
                    <a:lnTo>
                      <a:pt x="195" y="127"/>
                    </a:lnTo>
                    <a:lnTo>
                      <a:pt x="249" y="112"/>
                    </a:lnTo>
                    <a:lnTo>
                      <a:pt x="249" y="112"/>
                    </a:lnTo>
                    <a:lnTo>
                      <a:pt x="287" y="93"/>
                    </a:lnTo>
                    <a:lnTo>
                      <a:pt x="317" y="73"/>
                    </a:lnTo>
                    <a:lnTo>
                      <a:pt x="331" y="49"/>
                    </a:lnTo>
                    <a:lnTo>
                      <a:pt x="336" y="39"/>
                    </a:lnTo>
                    <a:lnTo>
                      <a:pt x="336" y="25"/>
                    </a:lnTo>
                    <a:lnTo>
                      <a:pt x="336" y="25"/>
                    </a:lnTo>
                    <a:lnTo>
                      <a:pt x="326" y="10"/>
                    </a:lnTo>
                    <a:lnTo>
                      <a:pt x="321" y="0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11716200">
                <a:off x="3380760" y="1676520"/>
                <a:ext cx="146520" cy="153360"/>
              </a:xfrm>
              <a:custGeom>
                <a:avLst/>
                <a:gdLst/>
                <a:ahLst/>
                <a:rect l="l" t="t" r="r" b="b"/>
                <a:pathLst>
                  <a:path w="200" h="155">
                    <a:moveTo>
                      <a:pt x="146" y="9"/>
                    </a:moveTo>
                    <a:lnTo>
                      <a:pt x="146" y="9"/>
                    </a:lnTo>
                    <a:lnTo>
                      <a:pt x="151" y="9"/>
                    </a:lnTo>
                    <a:lnTo>
                      <a:pt x="166" y="9"/>
                    </a:lnTo>
                    <a:lnTo>
                      <a:pt x="176" y="14"/>
                    </a:lnTo>
                    <a:lnTo>
                      <a:pt x="185" y="19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90" y="43"/>
                    </a:lnTo>
                    <a:lnTo>
                      <a:pt x="185" y="58"/>
                    </a:lnTo>
                    <a:lnTo>
                      <a:pt x="171" y="82"/>
                    </a:lnTo>
                    <a:lnTo>
                      <a:pt x="151" y="107"/>
                    </a:lnTo>
                    <a:lnTo>
                      <a:pt x="132" y="126"/>
                    </a:lnTo>
                    <a:lnTo>
                      <a:pt x="132" y="126"/>
                    </a:lnTo>
                    <a:lnTo>
                      <a:pt x="103" y="141"/>
                    </a:lnTo>
                    <a:lnTo>
                      <a:pt x="69" y="150"/>
                    </a:lnTo>
                    <a:lnTo>
                      <a:pt x="34" y="155"/>
                    </a:lnTo>
                    <a:lnTo>
                      <a:pt x="5" y="155"/>
                    </a:lnTo>
                    <a:lnTo>
                      <a:pt x="5" y="155"/>
                    </a:lnTo>
                    <a:lnTo>
                      <a:pt x="0" y="155"/>
                    </a:lnTo>
                    <a:lnTo>
                      <a:pt x="15" y="155"/>
                    </a:lnTo>
                    <a:lnTo>
                      <a:pt x="44" y="155"/>
                    </a:lnTo>
                    <a:lnTo>
                      <a:pt x="78" y="155"/>
                    </a:lnTo>
                    <a:lnTo>
                      <a:pt x="78" y="155"/>
                    </a:lnTo>
                    <a:lnTo>
                      <a:pt x="112" y="145"/>
                    </a:lnTo>
                    <a:lnTo>
                      <a:pt x="141" y="131"/>
                    </a:lnTo>
                    <a:lnTo>
                      <a:pt x="171" y="107"/>
                    </a:lnTo>
                    <a:lnTo>
                      <a:pt x="180" y="92"/>
                    </a:lnTo>
                    <a:lnTo>
                      <a:pt x="190" y="72"/>
                    </a:lnTo>
                    <a:lnTo>
                      <a:pt x="190" y="72"/>
                    </a:lnTo>
                    <a:lnTo>
                      <a:pt x="200" y="53"/>
                    </a:lnTo>
                    <a:lnTo>
                      <a:pt x="200" y="38"/>
                    </a:lnTo>
                    <a:lnTo>
                      <a:pt x="200" y="29"/>
                    </a:lnTo>
                    <a:lnTo>
                      <a:pt x="195" y="19"/>
                    </a:lnTo>
                    <a:lnTo>
                      <a:pt x="185" y="4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6" y="0"/>
                    </a:lnTo>
                    <a:lnTo>
                      <a:pt x="151" y="4"/>
                    </a:lnTo>
                    <a:lnTo>
                      <a:pt x="146" y="9"/>
                    </a:lnTo>
                    <a:lnTo>
                      <a:pt x="14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rot="11716200">
                <a:off x="3391920" y="2043360"/>
                <a:ext cx="32040" cy="15840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34" y="0"/>
                    </a:moveTo>
                    <a:lnTo>
                      <a:pt x="34" y="0"/>
                    </a:lnTo>
                    <a:lnTo>
                      <a:pt x="29" y="10"/>
                    </a:lnTo>
                    <a:lnTo>
                      <a:pt x="20" y="34"/>
                    </a:lnTo>
                    <a:lnTo>
                      <a:pt x="15" y="73"/>
                    </a:lnTo>
                    <a:lnTo>
                      <a:pt x="15" y="9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39" y="156"/>
                    </a:lnTo>
                    <a:lnTo>
                      <a:pt x="44" y="160"/>
                    </a:lnTo>
                    <a:lnTo>
                      <a:pt x="44" y="160"/>
                    </a:lnTo>
                    <a:lnTo>
                      <a:pt x="34" y="156"/>
                    </a:lnTo>
                    <a:lnTo>
                      <a:pt x="20" y="136"/>
                    </a:lnTo>
                    <a:lnTo>
                      <a:pt x="5" y="107"/>
                    </a:lnTo>
                    <a:lnTo>
                      <a:pt x="0" y="87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34"/>
                    </a:lnTo>
                    <a:lnTo>
                      <a:pt x="20" y="1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 rot="11716200">
                <a:off x="3409920" y="2031840"/>
                <a:ext cx="35640" cy="532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0" y="0"/>
                    </a:moveTo>
                    <a:lnTo>
                      <a:pt x="0" y="0"/>
                    </a:lnTo>
                    <a:lnTo>
                      <a:pt x="15" y="20"/>
                    </a:lnTo>
                    <a:lnTo>
                      <a:pt x="29" y="3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9" y="54"/>
                    </a:lnTo>
                    <a:lnTo>
                      <a:pt x="39" y="54"/>
                    </a:lnTo>
                    <a:lnTo>
                      <a:pt x="25" y="44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rot="11716200">
                <a:off x="3689640" y="222120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68" y="19"/>
                    </a:moveTo>
                    <a:lnTo>
                      <a:pt x="68" y="19"/>
                    </a:lnTo>
                    <a:lnTo>
                      <a:pt x="73" y="29"/>
                    </a:lnTo>
                    <a:lnTo>
                      <a:pt x="73" y="44"/>
                    </a:lnTo>
                    <a:lnTo>
                      <a:pt x="63" y="5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39" y="73"/>
                    </a:lnTo>
                    <a:lnTo>
                      <a:pt x="24" y="7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8" y="5"/>
                    </a:lnTo>
                    <a:lnTo>
                      <a:pt x="68" y="19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17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4096440" y="71028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9"/>
                  </a:moveTo>
                  <a:lnTo>
                    <a:pt x="49" y="9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4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0" y="48"/>
                  </a:lnTo>
                  <a:lnTo>
                    <a:pt x="20" y="43"/>
                  </a:lnTo>
                  <a:lnTo>
                    <a:pt x="10" y="4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61960" y="74304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5"/>
                  </a:moveTo>
                  <a:lnTo>
                    <a:pt x="29" y="5"/>
                  </a:lnTo>
                  <a:lnTo>
                    <a:pt x="34" y="1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ginning with “s”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1981440" cy="186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ginning with P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3029760" y="1056240"/>
            <a:ext cx="2981520" cy="2087280"/>
            <a:chOff x="3029760" y="1056240"/>
            <a:chExt cx="2981520" cy="2087280"/>
          </a:xfrm>
        </p:grpSpPr>
        <p:sp>
          <p:nvSpPr>
            <p:cNvPr id="372" name=""/>
            <p:cNvSpPr/>
            <p:nvPr/>
          </p:nvSpPr>
          <p:spPr>
            <a:xfrm>
              <a:off x="5060880" y="1799280"/>
              <a:ext cx="550440" cy="521640"/>
            </a:xfrm>
            <a:custGeom>
              <a:avLst/>
              <a:gdLst/>
              <a:ahLst/>
              <a:rect l="l" t="t" r="r" b="b"/>
              <a:pathLst>
                <a:path w="656" h="540">
                  <a:moveTo>
                    <a:pt x="433" y="0"/>
                  </a:moveTo>
                  <a:lnTo>
                    <a:pt x="433" y="0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03" y="10"/>
                  </a:lnTo>
                  <a:lnTo>
                    <a:pt x="394" y="29"/>
                  </a:lnTo>
                  <a:lnTo>
                    <a:pt x="384" y="58"/>
                  </a:lnTo>
                  <a:lnTo>
                    <a:pt x="360" y="141"/>
                  </a:lnTo>
                  <a:lnTo>
                    <a:pt x="326" y="243"/>
                  </a:lnTo>
                  <a:lnTo>
                    <a:pt x="326" y="243"/>
                  </a:lnTo>
                  <a:lnTo>
                    <a:pt x="311" y="277"/>
                  </a:lnTo>
                  <a:lnTo>
                    <a:pt x="287" y="307"/>
                  </a:lnTo>
                  <a:lnTo>
                    <a:pt x="253" y="331"/>
                  </a:lnTo>
                  <a:lnTo>
                    <a:pt x="219" y="350"/>
                  </a:lnTo>
                  <a:lnTo>
                    <a:pt x="185" y="365"/>
                  </a:lnTo>
                  <a:lnTo>
                    <a:pt x="146" y="375"/>
                  </a:lnTo>
                  <a:lnTo>
                    <a:pt x="112" y="375"/>
                  </a:lnTo>
                  <a:lnTo>
                    <a:pt x="77" y="370"/>
                  </a:lnTo>
                  <a:lnTo>
                    <a:pt x="77" y="370"/>
                  </a:lnTo>
                  <a:lnTo>
                    <a:pt x="68" y="365"/>
                  </a:lnTo>
                  <a:lnTo>
                    <a:pt x="58" y="370"/>
                  </a:lnTo>
                  <a:lnTo>
                    <a:pt x="43" y="389"/>
                  </a:lnTo>
                  <a:lnTo>
                    <a:pt x="29" y="414"/>
                  </a:lnTo>
                  <a:lnTo>
                    <a:pt x="19" y="448"/>
                  </a:lnTo>
                  <a:lnTo>
                    <a:pt x="5" y="511"/>
                  </a:lnTo>
                  <a:lnTo>
                    <a:pt x="0" y="540"/>
                  </a:lnTo>
                  <a:lnTo>
                    <a:pt x="0" y="540"/>
                  </a:lnTo>
                  <a:lnTo>
                    <a:pt x="34" y="540"/>
                  </a:lnTo>
                  <a:lnTo>
                    <a:pt x="116" y="535"/>
                  </a:lnTo>
                  <a:lnTo>
                    <a:pt x="170" y="530"/>
                  </a:lnTo>
                  <a:lnTo>
                    <a:pt x="228" y="521"/>
                  </a:lnTo>
                  <a:lnTo>
                    <a:pt x="287" y="506"/>
                  </a:lnTo>
                  <a:lnTo>
                    <a:pt x="340" y="482"/>
                  </a:lnTo>
                  <a:lnTo>
                    <a:pt x="340" y="482"/>
                  </a:lnTo>
                  <a:lnTo>
                    <a:pt x="365" y="472"/>
                  </a:lnTo>
                  <a:lnTo>
                    <a:pt x="389" y="452"/>
                  </a:lnTo>
                  <a:lnTo>
                    <a:pt x="438" y="404"/>
                  </a:lnTo>
                  <a:lnTo>
                    <a:pt x="481" y="345"/>
                  </a:lnTo>
                  <a:lnTo>
                    <a:pt x="530" y="277"/>
                  </a:lnTo>
                  <a:lnTo>
                    <a:pt x="569" y="209"/>
                  </a:lnTo>
                  <a:lnTo>
                    <a:pt x="608" y="141"/>
                  </a:lnTo>
                  <a:lnTo>
                    <a:pt x="656" y="29"/>
                  </a:lnTo>
                  <a:lnTo>
                    <a:pt x="656" y="29"/>
                  </a:lnTo>
                  <a:lnTo>
                    <a:pt x="656" y="24"/>
                  </a:lnTo>
                  <a:lnTo>
                    <a:pt x="656" y="24"/>
                  </a:lnTo>
                  <a:lnTo>
                    <a:pt x="637" y="19"/>
                  </a:lnTo>
                  <a:lnTo>
                    <a:pt x="583" y="19"/>
                  </a:lnTo>
                  <a:lnTo>
                    <a:pt x="506" y="29"/>
                  </a:lnTo>
                  <a:lnTo>
                    <a:pt x="433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78760" y="176184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62920" y="1743120"/>
              <a:ext cx="269280" cy="225000"/>
            </a:xfrm>
            <a:custGeom>
              <a:avLst/>
              <a:gdLst/>
              <a:ahLst/>
              <a:rect l="l" t="t" r="r" b="b"/>
              <a:pathLst>
                <a:path w="321" h="233">
                  <a:moveTo>
                    <a:pt x="5" y="48"/>
                  </a:moveTo>
                  <a:lnTo>
                    <a:pt x="5" y="48"/>
                  </a:lnTo>
                  <a:lnTo>
                    <a:pt x="0" y="58"/>
                  </a:lnTo>
                  <a:lnTo>
                    <a:pt x="0" y="73"/>
                  </a:lnTo>
                  <a:lnTo>
                    <a:pt x="0" y="92"/>
                  </a:lnTo>
                  <a:lnTo>
                    <a:pt x="5" y="107"/>
                  </a:lnTo>
                  <a:lnTo>
                    <a:pt x="5" y="107"/>
                  </a:lnTo>
                  <a:lnTo>
                    <a:pt x="19" y="136"/>
                  </a:lnTo>
                  <a:lnTo>
                    <a:pt x="43" y="165"/>
                  </a:lnTo>
                  <a:lnTo>
                    <a:pt x="78" y="189"/>
                  </a:lnTo>
                  <a:lnTo>
                    <a:pt x="116" y="214"/>
                  </a:lnTo>
                  <a:lnTo>
                    <a:pt x="116" y="214"/>
                  </a:lnTo>
                  <a:lnTo>
                    <a:pt x="151" y="223"/>
                  </a:lnTo>
                  <a:lnTo>
                    <a:pt x="180" y="233"/>
                  </a:lnTo>
                  <a:lnTo>
                    <a:pt x="209" y="233"/>
                  </a:lnTo>
                  <a:lnTo>
                    <a:pt x="238" y="233"/>
                  </a:lnTo>
                  <a:lnTo>
                    <a:pt x="262" y="228"/>
                  </a:lnTo>
                  <a:lnTo>
                    <a:pt x="287" y="219"/>
                  </a:lnTo>
                  <a:lnTo>
                    <a:pt x="301" y="204"/>
                  </a:lnTo>
                  <a:lnTo>
                    <a:pt x="316" y="189"/>
                  </a:lnTo>
                  <a:lnTo>
                    <a:pt x="316" y="189"/>
                  </a:lnTo>
                  <a:lnTo>
                    <a:pt x="321" y="175"/>
                  </a:lnTo>
                  <a:lnTo>
                    <a:pt x="321" y="160"/>
                  </a:lnTo>
                  <a:lnTo>
                    <a:pt x="321" y="146"/>
                  </a:lnTo>
                  <a:lnTo>
                    <a:pt x="316" y="126"/>
                  </a:lnTo>
                  <a:lnTo>
                    <a:pt x="316" y="126"/>
                  </a:lnTo>
                  <a:lnTo>
                    <a:pt x="301" y="97"/>
                  </a:lnTo>
                  <a:lnTo>
                    <a:pt x="277" y="68"/>
                  </a:lnTo>
                  <a:lnTo>
                    <a:pt x="243" y="43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209" y="24"/>
                  </a:lnTo>
                  <a:lnTo>
                    <a:pt x="175" y="9"/>
                  </a:lnTo>
                  <a:lnTo>
                    <a:pt x="141" y="4"/>
                  </a:lnTo>
                  <a:lnTo>
                    <a:pt x="112" y="0"/>
                  </a:lnTo>
                  <a:lnTo>
                    <a:pt x="82" y="0"/>
                  </a:lnTo>
                  <a:lnTo>
                    <a:pt x="58" y="4"/>
                  </a:lnTo>
                  <a:lnTo>
                    <a:pt x="39" y="14"/>
                  </a:lnTo>
                  <a:lnTo>
                    <a:pt x="19" y="29"/>
                  </a:lnTo>
                  <a:lnTo>
                    <a:pt x="5" y="48"/>
                  </a:lnTo>
                  <a:lnTo>
                    <a:pt x="5" y="48"/>
                  </a:lnTo>
                  <a:close/>
                  <a:moveTo>
                    <a:pt x="189" y="58"/>
                  </a:moveTo>
                  <a:lnTo>
                    <a:pt x="189" y="58"/>
                  </a:lnTo>
                  <a:lnTo>
                    <a:pt x="223" y="77"/>
                  </a:lnTo>
                  <a:lnTo>
                    <a:pt x="248" y="97"/>
                  </a:lnTo>
                  <a:lnTo>
                    <a:pt x="267" y="116"/>
                  </a:lnTo>
                  <a:lnTo>
                    <a:pt x="282" y="141"/>
                  </a:lnTo>
                  <a:lnTo>
                    <a:pt x="282" y="141"/>
                  </a:lnTo>
                  <a:lnTo>
                    <a:pt x="282" y="155"/>
                  </a:lnTo>
                  <a:lnTo>
                    <a:pt x="282" y="165"/>
                  </a:lnTo>
                  <a:lnTo>
                    <a:pt x="282" y="165"/>
                  </a:lnTo>
                  <a:lnTo>
                    <a:pt x="282" y="170"/>
                  </a:lnTo>
                  <a:lnTo>
                    <a:pt x="282" y="170"/>
                  </a:lnTo>
                  <a:lnTo>
                    <a:pt x="272" y="180"/>
                  </a:lnTo>
                  <a:lnTo>
                    <a:pt x="262" y="189"/>
                  </a:lnTo>
                  <a:lnTo>
                    <a:pt x="248" y="194"/>
                  </a:lnTo>
                  <a:lnTo>
                    <a:pt x="228" y="194"/>
                  </a:lnTo>
                  <a:lnTo>
                    <a:pt x="209" y="194"/>
                  </a:lnTo>
                  <a:lnTo>
                    <a:pt x="185" y="194"/>
                  </a:lnTo>
                  <a:lnTo>
                    <a:pt x="160" y="184"/>
                  </a:lnTo>
                  <a:lnTo>
                    <a:pt x="131" y="175"/>
                  </a:lnTo>
                  <a:lnTo>
                    <a:pt x="131" y="175"/>
                  </a:lnTo>
                  <a:lnTo>
                    <a:pt x="102" y="160"/>
                  </a:lnTo>
                  <a:lnTo>
                    <a:pt x="73" y="141"/>
                  </a:lnTo>
                  <a:lnTo>
                    <a:pt x="53" y="116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39" y="77"/>
                  </a:lnTo>
                  <a:lnTo>
                    <a:pt x="43" y="63"/>
                  </a:lnTo>
                  <a:lnTo>
                    <a:pt x="43" y="63"/>
                  </a:lnTo>
                  <a:lnTo>
                    <a:pt x="48" y="53"/>
                  </a:lnTo>
                  <a:lnTo>
                    <a:pt x="63" y="43"/>
                  </a:lnTo>
                  <a:lnTo>
                    <a:pt x="78" y="38"/>
                  </a:lnTo>
                  <a:lnTo>
                    <a:pt x="97" y="38"/>
                  </a:lnTo>
                  <a:lnTo>
                    <a:pt x="116" y="38"/>
                  </a:lnTo>
                  <a:lnTo>
                    <a:pt x="141" y="43"/>
                  </a:lnTo>
                  <a:lnTo>
                    <a:pt x="165" y="48"/>
                  </a:lnTo>
                  <a:lnTo>
                    <a:pt x="189" y="58"/>
                  </a:lnTo>
                  <a:lnTo>
                    <a:pt x="189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78760" y="1761840"/>
              <a:ext cx="236520" cy="188280"/>
            </a:xfrm>
            <a:custGeom>
              <a:avLst/>
              <a:gdLst/>
              <a:ahLst/>
              <a:rect l="l" t="t" r="r" b="b"/>
              <a:pathLst>
                <a:path w="282" h="195">
                  <a:moveTo>
                    <a:pt x="180" y="19"/>
                  </a:moveTo>
                  <a:lnTo>
                    <a:pt x="180" y="19"/>
                  </a:lnTo>
                  <a:lnTo>
                    <a:pt x="151" y="10"/>
                  </a:lnTo>
                  <a:lnTo>
                    <a:pt x="122" y="5"/>
                  </a:lnTo>
                  <a:lnTo>
                    <a:pt x="97" y="0"/>
                  </a:lnTo>
                  <a:lnTo>
                    <a:pt x="73" y="0"/>
                  </a:lnTo>
                  <a:lnTo>
                    <a:pt x="49" y="5"/>
                  </a:lnTo>
                  <a:lnTo>
                    <a:pt x="29" y="10"/>
                  </a:lnTo>
                  <a:lnTo>
                    <a:pt x="15" y="1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0" y="88"/>
                  </a:lnTo>
                  <a:lnTo>
                    <a:pt x="20" y="107"/>
                  </a:lnTo>
                  <a:lnTo>
                    <a:pt x="34" y="127"/>
                  </a:lnTo>
                  <a:lnTo>
                    <a:pt x="54" y="146"/>
                  </a:lnTo>
                  <a:lnTo>
                    <a:pt x="78" y="161"/>
                  </a:lnTo>
                  <a:lnTo>
                    <a:pt x="107" y="175"/>
                  </a:lnTo>
                  <a:lnTo>
                    <a:pt x="107" y="175"/>
                  </a:lnTo>
                  <a:lnTo>
                    <a:pt x="132" y="185"/>
                  </a:lnTo>
                  <a:lnTo>
                    <a:pt x="161" y="195"/>
                  </a:lnTo>
                  <a:lnTo>
                    <a:pt x="190" y="195"/>
                  </a:lnTo>
                  <a:lnTo>
                    <a:pt x="214" y="195"/>
                  </a:lnTo>
                  <a:lnTo>
                    <a:pt x="234" y="195"/>
                  </a:lnTo>
                  <a:lnTo>
                    <a:pt x="253" y="185"/>
                  </a:lnTo>
                  <a:lnTo>
                    <a:pt x="268" y="175"/>
                  </a:lnTo>
                  <a:lnTo>
                    <a:pt x="277" y="161"/>
                  </a:lnTo>
                  <a:lnTo>
                    <a:pt x="277" y="161"/>
                  </a:lnTo>
                  <a:lnTo>
                    <a:pt x="282" y="146"/>
                  </a:lnTo>
                  <a:lnTo>
                    <a:pt x="282" y="127"/>
                  </a:lnTo>
                  <a:lnTo>
                    <a:pt x="277" y="107"/>
                  </a:lnTo>
                  <a:lnTo>
                    <a:pt x="263" y="88"/>
                  </a:lnTo>
                  <a:lnTo>
                    <a:pt x="248" y="68"/>
                  </a:lnTo>
                  <a:lnTo>
                    <a:pt x="229" y="54"/>
                  </a:lnTo>
                  <a:lnTo>
                    <a:pt x="204" y="34"/>
                  </a:lnTo>
                  <a:lnTo>
                    <a:pt x="180" y="19"/>
                  </a:lnTo>
                  <a:lnTo>
                    <a:pt x="180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11520" y="107568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95680" y="1056240"/>
              <a:ext cx="615600" cy="851040"/>
            </a:xfrm>
            <a:custGeom>
              <a:avLst/>
              <a:gdLst/>
              <a:ahLst/>
              <a:rect l="l" t="t" r="r" b="b"/>
              <a:pathLst>
                <a:path w="734" h="881">
                  <a:moveTo>
                    <a:pt x="243" y="0"/>
                  </a:moveTo>
                  <a:lnTo>
                    <a:pt x="243" y="0"/>
                  </a:lnTo>
                  <a:lnTo>
                    <a:pt x="223" y="5"/>
                  </a:lnTo>
                  <a:lnTo>
                    <a:pt x="209" y="10"/>
                  </a:lnTo>
                  <a:lnTo>
                    <a:pt x="199" y="24"/>
                  </a:lnTo>
                  <a:lnTo>
                    <a:pt x="199" y="24"/>
                  </a:lnTo>
                  <a:lnTo>
                    <a:pt x="189" y="44"/>
                  </a:lnTo>
                  <a:lnTo>
                    <a:pt x="189" y="44"/>
                  </a:lnTo>
                  <a:lnTo>
                    <a:pt x="189" y="78"/>
                  </a:lnTo>
                  <a:lnTo>
                    <a:pt x="194" y="122"/>
                  </a:lnTo>
                  <a:lnTo>
                    <a:pt x="194" y="122"/>
                  </a:lnTo>
                  <a:lnTo>
                    <a:pt x="199" y="175"/>
                  </a:lnTo>
                  <a:lnTo>
                    <a:pt x="199" y="224"/>
                  </a:lnTo>
                  <a:lnTo>
                    <a:pt x="199" y="224"/>
                  </a:lnTo>
                  <a:lnTo>
                    <a:pt x="189" y="248"/>
                  </a:lnTo>
                  <a:lnTo>
                    <a:pt x="184" y="268"/>
                  </a:lnTo>
                  <a:lnTo>
                    <a:pt x="170" y="287"/>
                  </a:lnTo>
                  <a:lnTo>
                    <a:pt x="160" y="307"/>
                  </a:lnTo>
                  <a:lnTo>
                    <a:pt x="160" y="307"/>
                  </a:lnTo>
                  <a:lnTo>
                    <a:pt x="102" y="360"/>
                  </a:lnTo>
                  <a:lnTo>
                    <a:pt x="63" y="414"/>
                  </a:lnTo>
                  <a:lnTo>
                    <a:pt x="43" y="443"/>
                  </a:lnTo>
                  <a:lnTo>
                    <a:pt x="29" y="472"/>
                  </a:lnTo>
                  <a:lnTo>
                    <a:pt x="4" y="550"/>
                  </a:lnTo>
                  <a:lnTo>
                    <a:pt x="4" y="550"/>
                  </a:lnTo>
                  <a:lnTo>
                    <a:pt x="4" y="555"/>
                  </a:lnTo>
                  <a:lnTo>
                    <a:pt x="4" y="555"/>
                  </a:lnTo>
                  <a:lnTo>
                    <a:pt x="0" y="613"/>
                  </a:lnTo>
                  <a:lnTo>
                    <a:pt x="0" y="711"/>
                  </a:lnTo>
                  <a:lnTo>
                    <a:pt x="0" y="711"/>
                  </a:lnTo>
                  <a:lnTo>
                    <a:pt x="0" y="745"/>
                  </a:lnTo>
                  <a:lnTo>
                    <a:pt x="9" y="779"/>
                  </a:lnTo>
                  <a:lnTo>
                    <a:pt x="19" y="798"/>
                  </a:lnTo>
                  <a:lnTo>
                    <a:pt x="29" y="813"/>
                  </a:lnTo>
                  <a:lnTo>
                    <a:pt x="43" y="827"/>
                  </a:lnTo>
                  <a:lnTo>
                    <a:pt x="63" y="837"/>
                  </a:lnTo>
                  <a:lnTo>
                    <a:pt x="82" y="847"/>
                  </a:lnTo>
                  <a:lnTo>
                    <a:pt x="82" y="847"/>
                  </a:lnTo>
                  <a:lnTo>
                    <a:pt x="141" y="871"/>
                  </a:lnTo>
                  <a:lnTo>
                    <a:pt x="170" y="876"/>
                  </a:lnTo>
                  <a:lnTo>
                    <a:pt x="199" y="881"/>
                  </a:lnTo>
                  <a:lnTo>
                    <a:pt x="199" y="881"/>
                  </a:lnTo>
                  <a:lnTo>
                    <a:pt x="233" y="876"/>
                  </a:lnTo>
                  <a:lnTo>
                    <a:pt x="233" y="876"/>
                  </a:lnTo>
                  <a:lnTo>
                    <a:pt x="267" y="871"/>
                  </a:lnTo>
                  <a:lnTo>
                    <a:pt x="267" y="871"/>
                  </a:lnTo>
                  <a:lnTo>
                    <a:pt x="360" y="881"/>
                  </a:lnTo>
                  <a:lnTo>
                    <a:pt x="360" y="881"/>
                  </a:lnTo>
                  <a:lnTo>
                    <a:pt x="408" y="881"/>
                  </a:lnTo>
                  <a:lnTo>
                    <a:pt x="462" y="876"/>
                  </a:lnTo>
                  <a:lnTo>
                    <a:pt x="520" y="871"/>
                  </a:lnTo>
                  <a:lnTo>
                    <a:pt x="545" y="861"/>
                  </a:lnTo>
                  <a:lnTo>
                    <a:pt x="569" y="852"/>
                  </a:lnTo>
                  <a:lnTo>
                    <a:pt x="569" y="852"/>
                  </a:lnTo>
                  <a:lnTo>
                    <a:pt x="588" y="832"/>
                  </a:lnTo>
                  <a:lnTo>
                    <a:pt x="603" y="818"/>
                  </a:lnTo>
                  <a:lnTo>
                    <a:pt x="613" y="803"/>
                  </a:lnTo>
                  <a:lnTo>
                    <a:pt x="618" y="788"/>
                  </a:lnTo>
                  <a:lnTo>
                    <a:pt x="618" y="788"/>
                  </a:lnTo>
                  <a:lnTo>
                    <a:pt x="618" y="784"/>
                  </a:lnTo>
                  <a:lnTo>
                    <a:pt x="618" y="784"/>
                  </a:lnTo>
                  <a:lnTo>
                    <a:pt x="622" y="784"/>
                  </a:lnTo>
                  <a:lnTo>
                    <a:pt x="622" y="784"/>
                  </a:lnTo>
                  <a:lnTo>
                    <a:pt x="632" y="784"/>
                  </a:lnTo>
                  <a:lnTo>
                    <a:pt x="642" y="779"/>
                  </a:lnTo>
                  <a:lnTo>
                    <a:pt x="661" y="759"/>
                  </a:lnTo>
                  <a:lnTo>
                    <a:pt x="676" y="730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711"/>
                  </a:lnTo>
                  <a:lnTo>
                    <a:pt x="686" y="686"/>
                  </a:lnTo>
                  <a:lnTo>
                    <a:pt x="676" y="667"/>
                  </a:lnTo>
                  <a:lnTo>
                    <a:pt x="676" y="667"/>
                  </a:lnTo>
                  <a:lnTo>
                    <a:pt x="690" y="657"/>
                  </a:lnTo>
                  <a:lnTo>
                    <a:pt x="700" y="647"/>
                  </a:lnTo>
                  <a:lnTo>
                    <a:pt x="710" y="628"/>
                  </a:lnTo>
                  <a:lnTo>
                    <a:pt x="715" y="608"/>
                  </a:lnTo>
                  <a:lnTo>
                    <a:pt x="715" y="608"/>
                  </a:lnTo>
                  <a:lnTo>
                    <a:pt x="720" y="608"/>
                  </a:lnTo>
                  <a:lnTo>
                    <a:pt x="720" y="608"/>
                  </a:lnTo>
                  <a:lnTo>
                    <a:pt x="720" y="589"/>
                  </a:lnTo>
                  <a:lnTo>
                    <a:pt x="715" y="565"/>
                  </a:lnTo>
                  <a:lnTo>
                    <a:pt x="705" y="531"/>
                  </a:lnTo>
                  <a:lnTo>
                    <a:pt x="705" y="531"/>
                  </a:lnTo>
                  <a:lnTo>
                    <a:pt x="715" y="516"/>
                  </a:lnTo>
                  <a:lnTo>
                    <a:pt x="725" y="501"/>
                  </a:lnTo>
                  <a:lnTo>
                    <a:pt x="725" y="501"/>
                  </a:lnTo>
                  <a:lnTo>
                    <a:pt x="734" y="482"/>
                  </a:lnTo>
                  <a:lnTo>
                    <a:pt x="734" y="482"/>
                  </a:lnTo>
                  <a:lnTo>
                    <a:pt x="734" y="467"/>
                  </a:lnTo>
                  <a:lnTo>
                    <a:pt x="729" y="453"/>
                  </a:lnTo>
                  <a:lnTo>
                    <a:pt x="710" y="428"/>
                  </a:lnTo>
                  <a:lnTo>
                    <a:pt x="690" y="409"/>
                  </a:lnTo>
                  <a:lnTo>
                    <a:pt x="671" y="394"/>
                  </a:lnTo>
                  <a:lnTo>
                    <a:pt x="671" y="394"/>
                  </a:lnTo>
                  <a:lnTo>
                    <a:pt x="637" y="375"/>
                  </a:lnTo>
                  <a:lnTo>
                    <a:pt x="608" y="360"/>
                  </a:lnTo>
                  <a:lnTo>
                    <a:pt x="540" y="341"/>
                  </a:lnTo>
                  <a:lnTo>
                    <a:pt x="491" y="326"/>
                  </a:lnTo>
                  <a:lnTo>
                    <a:pt x="491" y="326"/>
                  </a:lnTo>
                  <a:lnTo>
                    <a:pt x="462" y="321"/>
                  </a:lnTo>
                  <a:lnTo>
                    <a:pt x="423" y="316"/>
                  </a:lnTo>
                  <a:lnTo>
                    <a:pt x="408" y="316"/>
                  </a:lnTo>
                  <a:lnTo>
                    <a:pt x="408" y="316"/>
                  </a:lnTo>
                  <a:lnTo>
                    <a:pt x="389" y="312"/>
                  </a:lnTo>
                  <a:lnTo>
                    <a:pt x="379" y="307"/>
                  </a:lnTo>
                  <a:lnTo>
                    <a:pt x="369" y="307"/>
                  </a:lnTo>
                  <a:lnTo>
                    <a:pt x="369" y="307"/>
                  </a:lnTo>
                  <a:lnTo>
                    <a:pt x="369" y="292"/>
                  </a:lnTo>
                  <a:lnTo>
                    <a:pt x="379" y="273"/>
                  </a:lnTo>
                  <a:lnTo>
                    <a:pt x="379" y="273"/>
                  </a:lnTo>
                  <a:lnTo>
                    <a:pt x="389" y="253"/>
                  </a:lnTo>
                  <a:lnTo>
                    <a:pt x="394" y="224"/>
                  </a:lnTo>
                  <a:lnTo>
                    <a:pt x="399" y="185"/>
                  </a:lnTo>
                  <a:lnTo>
                    <a:pt x="389" y="136"/>
                  </a:lnTo>
                  <a:lnTo>
                    <a:pt x="389" y="136"/>
                  </a:lnTo>
                  <a:lnTo>
                    <a:pt x="374" y="107"/>
                  </a:lnTo>
                  <a:lnTo>
                    <a:pt x="360" y="78"/>
                  </a:lnTo>
                  <a:lnTo>
                    <a:pt x="340" y="54"/>
                  </a:lnTo>
                  <a:lnTo>
                    <a:pt x="321" y="34"/>
                  </a:lnTo>
                  <a:lnTo>
                    <a:pt x="301" y="15"/>
                  </a:lnTo>
                  <a:lnTo>
                    <a:pt x="282" y="5"/>
                  </a:lnTo>
                  <a:lnTo>
                    <a:pt x="262" y="0"/>
                  </a:lnTo>
                  <a:lnTo>
                    <a:pt x="243" y="0"/>
                  </a:lnTo>
                  <a:lnTo>
                    <a:pt x="243" y="0"/>
                  </a:lnTo>
                  <a:close/>
                  <a:moveTo>
                    <a:pt x="403" y="355"/>
                  </a:moveTo>
                  <a:lnTo>
                    <a:pt x="418" y="355"/>
                  </a:lnTo>
                  <a:lnTo>
                    <a:pt x="418" y="355"/>
                  </a:lnTo>
                  <a:lnTo>
                    <a:pt x="452" y="360"/>
                  </a:lnTo>
                  <a:lnTo>
                    <a:pt x="481" y="365"/>
                  </a:lnTo>
                  <a:lnTo>
                    <a:pt x="530" y="380"/>
                  </a:lnTo>
                  <a:lnTo>
                    <a:pt x="530" y="380"/>
                  </a:lnTo>
                  <a:lnTo>
                    <a:pt x="593" y="399"/>
                  </a:lnTo>
                  <a:lnTo>
                    <a:pt x="622" y="409"/>
                  </a:lnTo>
                  <a:lnTo>
                    <a:pt x="647" y="423"/>
                  </a:lnTo>
                  <a:lnTo>
                    <a:pt x="647" y="423"/>
                  </a:lnTo>
                  <a:lnTo>
                    <a:pt x="671" y="443"/>
                  </a:lnTo>
                  <a:lnTo>
                    <a:pt x="686" y="458"/>
                  </a:lnTo>
                  <a:lnTo>
                    <a:pt x="690" y="467"/>
                  </a:lnTo>
                  <a:lnTo>
                    <a:pt x="695" y="477"/>
                  </a:lnTo>
                  <a:lnTo>
                    <a:pt x="695" y="477"/>
                  </a:lnTo>
                  <a:lnTo>
                    <a:pt x="690" y="482"/>
                  </a:lnTo>
                  <a:lnTo>
                    <a:pt x="690" y="482"/>
                  </a:lnTo>
                  <a:lnTo>
                    <a:pt x="676" y="501"/>
                  </a:lnTo>
                  <a:lnTo>
                    <a:pt x="671" y="506"/>
                  </a:lnTo>
                  <a:lnTo>
                    <a:pt x="652" y="516"/>
                  </a:lnTo>
                  <a:lnTo>
                    <a:pt x="661" y="531"/>
                  </a:lnTo>
                  <a:lnTo>
                    <a:pt x="661" y="531"/>
                  </a:lnTo>
                  <a:lnTo>
                    <a:pt x="676" y="565"/>
                  </a:lnTo>
                  <a:lnTo>
                    <a:pt x="681" y="58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81" y="604"/>
                  </a:lnTo>
                  <a:lnTo>
                    <a:pt x="676" y="618"/>
                  </a:lnTo>
                  <a:lnTo>
                    <a:pt x="666" y="623"/>
                  </a:lnTo>
                  <a:lnTo>
                    <a:pt x="656" y="633"/>
                  </a:lnTo>
                  <a:lnTo>
                    <a:pt x="656" y="633"/>
                  </a:lnTo>
                  <a:lnTo>
                    <a:pt x="642" y="633"/>
                  </a:lnTo>
                  <a:lnTo>
                    <a:pt x="632" y="638"/>
                  </a:lnTo>
                  <a:lnTo>
                    <a:pt x="627" y="642"/>
                  </a:lnTo>
                  <a:lnTo>
                    <a:pt x="622" y="652"/>
                  </a:lnTo>
                  <a:lnTo>
                    <a:pt x="622" y="662"/>
                  </a:lnTo>
                  <a:lnTo>
                    <a:pt x="632" y="672"/>
                  </a:lnTo>
                  <a:lnTo>
                    <a:pt x="632" y="672"/>
                  </a:lnTo>
                  <a:lnTo>
                    <a:pt x="642" y="686"/>
                  </a:lnTo>
                  <a:lnTo>
                    <a:pt x="647" y="696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7" y="701"/>
                  </a:lnTo>
                  <a:lnTo>
                    <a:pt x="642" y="715"/>
                  </a:lnTo>
                  <a:lnTo>
                    <a:pt x="632" y="730"/>
                  </a:lnTo>
                  <a:lnTo>
                    <a:pt x="618" y="745"/>
                  </a:lnTo>
                  <a:lnTo>
                    <a:pt x="618" y="745"/>
                  </a:lnTo>
                  <a:lnTo>
                    <a:pt x="593" y="749"/>
                  </a:lnTo>
                  <a:lnTo>
                    <a:pt x="569" y="749"/>
                  </a:lnTo>
                  <a:lnTo>
                    <a:pt x="579" y="774"/>
                  </a:lnTo>
                  <a:lnTo>
                    <a:pt x="579" y="774"/>
                  </a:lnTo>
                  <a:lnTo>
                    <a:pt x="579" y="779"/>
                  </a:lnTo>
                  <a:lnTo>
                    <a:pt x="579" y="779"/>
                  </a:lnTo>
                  <a:lnTo>
                    <a:pt x="569" y="798"/>
                  </a:lnTo>
                  <a:lnTo>
                    <a:pt x="559" y="808"/>
                  </a:lnTo>
                  <a:lnTo>
                    <a:pt x="549" y="818"/>
                  </a:lnTo>
                  <a:lnTo>
                    <a:pt x="549" y="818"/>
                  </a:lnTo>
                  <a:lnTo>
                    <a:pt x="525" y="827"/>
                  </a:lnTo>
                  <a:lnTo>
                    <a:pt x="506" y="832"/>
                  </a:lnTo>
                  <a:lnTo>
                    <a:pt x="452" y="842"/>
                  </a:lnTo>
                  <a:lnTo>
                    <a:pt x="399" y="842"/>
                  </a:lnTo>
                  <a:lnTo>
                    <a:pt x="360" y="842"/>
                  </a:lnTo>
                  <a:lnTo>
                    <a:pt x="360" y="842"/>
                  </a:lnTo>
                  <a:lnTo>
                    <a:pt x="272" y="832"/>
                  </a:lnTo>
                  <a:lnTo>
                    <a:pt x="272" y="832"/>
                  </a:lnTo>
                  <a:lnTo>
                    <a:pt x="253" y="832"/>
                  </a:lnTo>
                  <a:lnTo>
                    <a:pt x="228" y="837"/>
                  </a:lnTo>
                  <a:lnTo>
                    <a:pt x="228" y="837"/>
                  </a:lnTo>
                  <a:lnTo>
                    <a:pt x="199" y="842"/>
                  </a:lnTo>
                  <a:lnTo>
                    <a:pt x="199" y="842"/>
                  </a:lnTo>
                  <a:lnTo>
                    <a:pt x="175" y="837"/>
                  </a:lnTo>
                  <a:lnTo>
                    <a:pt x="150" y="832"/>
                  </a:lnTo>
                  <a:lnTo>
                    <a:pt x="97" y="808"/>
                  </a:lnTo>
                  <a:lnTo>
                    <a:pt x="82" y="803"/>
                  </a:lnTo>
                  <a:lnTo>
                    <a:pt x="82" y="803"/>
                  </a:lnTo>
                  <a:lnTo>
                    <a:pt x="58" y="788"/>
                  </a:lnTo>
                  <a:lnTo>
                    <a:pt x="48" y="769"/>
                  </a:lnTo>
                  <a:lnTo>
                    <a:pt x="39" y="740"/>
                  </a:lnTo>
                  <a:lnTo>
                    <a:pt x="39" y="711"/>
                  </a:lnTo>
                  <a:lnTo>
                    <a:pt x="39" y="711"/>
                  </a:lnTo>
                  <a:lnTo>
                    <a:pt x="39" y="623"/>
                  </a:lnTo>
                  <a:lnTo>
                    <a:pt x="43" y="555"/>
                  </a:lnTo>
                  <a:lnTo>
                    <a:pt x="43" y="555"/>
                  </a:lnTo>
                  <a:lnTo>
                    <a:pt x="68" y="487"/>
                  </a:lnTo>
                  <a:lnTo>
                    <a:pt x="97" y="433"/>
                  </a:lnTo>
                  <a:lnTo>
                    <a:pt x="136" y="385"/>
                  </a:lnTo>
                  <a:lnTo>
                    <a:pt x="184" y="336"/>
                  </a:lnTo>
                  <a:lnTo>
                    <a:pt x="184" y="336"/>
                  </a:lnTo>
                  <a:lnTo>
                    <a:pt x="189" y="331"/>
                  </a:lnTo>
                  <a:lnTo>
                    <a:pt x="189" y="331"/>
                  </a:lnTo>
                  <a:lnTo>
                    <a:pt x="204" y="312"/>
                  </a:lnTo>
                  <a:lnTo>
                    <a:pt x="219" y="287"/>
                  </a:lnTo>
                  <a:lnTo>
                    <a:pt x="228" y="258"/>
                  </a:lnTo>
                  <a:lnTo>
                    <a:pt x="233" y="229"/>
                  </a:lnTo>
                  <a:lnTo>
                    <a:pt x="233" y="229"/>
                  </a:lnTo>
                  <a:lnTo>
                    <a:pt x="238" y="175"/>
                  </a:lnTo>
                  <a:lnTo>
                    <a:pt x="233" y="112"/>
                  </a:lnTo>
                  <a:lnTo>
                    <a:pt x="233" y="112"/>
                  </a:lnTo>
                  <a:lnTo>
                    <a:pt x="228" y="73"/>
                  </a:lnTo>
                  <a:lnTo>
                    <a:pt x="228" y="54"/>
                  </a:lnTo>
                  <a:lnTo>
                    <a:pt x="228" y="54"/>
                  </a:lnTo>
                  <a:lnTo>
                    <a:pt x="233" y="44"/>
                  </a:lnTo>
                  <a:lnTo>
                    <a:pt x="233" y="44"/>
                  </a:lnTo>
                  <a:lnTo>
                    <a:pt x="238" y="44"/>
                  </a:lnTo>
                  <a:lnTo>
                    <a:pt x="248" y="39"/>
                  </a:lnTo>
                  <a:lnTo>
                    <a:pt x="248" y="39"/>
                  </a:lnTo>
                  <a:lnTo>
                    <a:pt x="257" y="39"/>
                  </a:lnTo>
                  <a:lnTo>
                    <a:pt x="272" y="44"/>
                  </a:lnTo>
                  <a:lnTo>
                    <a:pt x="296" y="63"/>
                  </a:lnTo>
                  <a:lnTo>
                    <a:pt x="311" y="78"/>
                  </a:lnTo>
                  <a:lnTo>
                    <a:pt x="326" y="97"/>
                  </a:lnTo>
                  <a:lnTo>
                    <a:pt x="340" y="122"/>
                  </a:lnTo>
                  <a:lnTo>
                    <a:pt x="350" y="151"/>
                  </a:lnTo>
                  <a:lnTo>
                    <a:pt x="350" y="151"/>
                  </a:lnTo>
                  <a:lnTo>
                    <a:pt x="360" y="190"/>
                  </a:lnTo>
                  <a:lnTo>
                    <a:pt x="355" y="214"/>
                  </a:lnTo>
                  <a:lnTo>
                    <a:pt x="350" y="239"/>
                  </a:lnTo>
                  <a:lnTo>
                    <a:pt x="345" y="253"/>
                  </a:lnTo>
                  <a:lnTo>
                    <a:pt x="330" y="277"/>
                  </a:lnTo>
                  <a:lnTo>
                    <a:pt x="330" y="277"/>
                  </a:lnTo>
                  <a:lnTo>
                    <a:pt x="330" y="307"/>
                  </a:lnTo>
                  <a:lnTo>
                    <a:pt x="340" y="326"/>
                  </a:lnTo>
                  <a:lnTo>
                    <a:pt x="340" y="326"/>
                  </a:lnTo>
                  <a:lnTo>
                    <a:pt x="355" y="341"/>
                  </a:lnTo>
                  <a:lnTo>
                    <a:pt x="369" y="346"/>
                  </a:lnTo>
                  <a:lnTo>
                    <a:pt x="403" y="355"/>
                  </a:lnTo>
                  <a:lnTo>
                    <a:pt x="403" y="3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11520" y="1075680"/>
              <a:ext cx="583920" cy="812520"/>
            </a:xfrm>
            <a:custGeom>
              <a:avLst/>
              <a:gdLst/>
              <a:ahLst/>
              <a:rect l="l" t="t" r="r" b="b"/>
              <a:pathLst>
                <a:path w="696" h="841">
                  <a:moveTo>
                    <a:pt x="5" y="535"/>
                  </a:moveTo>
                  <a:lnTo>
                    <a:pt x="5" y="535"/>
                  </a:lnTo>
                  <a:lnTo>
                    <a:pt x="29" y="462"/>
                  </a:lnTo>
                  <a:lnTo>
                    <a:pt x="44" y="428"/>
                  </a:lnTo>
                  <a:lnTo>
                    <a:pt x="58" y="403"/>
                  </a:lnTo>
                  <a:lnTo>
                    <a:pt x="102" y="350"/>
                  </a:lnTo>
                  <a:lnTo>
                    <a:pt x="156" y="301"/>
                  </a:lnTo>
                  <a:lnTo>
                    <a:pt x="156" y="301"/>
                  </a:lnTo>
                  <a:lnTo>
                    <a:pt x="170" y="282"/>
                  </a:lnTo>
                  <a:lnTo>
                    <a:pt x="180" y="257"/>
                  </a:lnTo>
                  <a:lnTo>
                    <a:pt x="190" y="233"/>
                  </a:lnTo>
                  <a:lnTo>
                    <a:pt x="195" y="209"/>
                  </a:lnTo>
                  <a:lnTo>
                    <a:pt x="200" y="155"/>
                  </a:lnTo>
                  <a:lnTo>
                    <a:pt x="195" y="97"/>
                  </a:lnTo>
                  <a:lnTo>
                    <a:pt x="195" y="97"/>
                  </a:lnTo>
                  <a:lnTo>
                    <a:pt x="190" y="48"/>
                  </a:lnTo>
                  <a:lnTo>
                    <a:pt x="190" y="34"/>
                  </a:lnTo>
                  <a:lnTo>
                    <a:pt x="195" y="19"/>
                  </a:lnTo>
                  <a:lnTo>
                    <a:pt x="200" y="9"/>
                  </a:lnTo>
                  <a:lnTo>
                    <a:pt x="209" y="4"/>
                  </a:lnTo>
                  <a:lnTo>
                    <a:pt x="229" y="0"/>
                  </a:lnTo>
                  <a:lnTo>
                    <a:pt x="229" y="0"/>
                  </a:lnTo>
                  <a:lnTo>
                    <a:pt x="243" y="0"/>
                  </a:lnTo>
                  <a:lnTo>
                    <a:pt x="258" y="4"/>
                  </a:lnTo>
                  <a:lnTo>
                    <a:pt x="273" y="14"/>
                  </a:lnTo>
                  <a:lnTo>
                    <a:pt x="292" y="29"/>
                  </a:lnTo>
                  <a:lnTo>
                    <a:pt x="307" y="43"/>
                  </a:lnTo>
                  <a:lnTo>
                    <a:pt x="321" y="68"/>
                  </a:lnTo>
                  <a:lnTo>
                    <a:pt x="336" y="92"/>
                  </a:lnTo>
                  <a:lnTo>
                    <a:pt x="350" y="126"/>
                  </a:lnTo>
                  <a:lnTo>
                    <a:pt x="350" y="126"/>
                  </a:lnTo>
                  <a:lnTo>
                    <a:pt x="355" y="155"/>
                  </a:lnTo>
                  <a:lnTo>
                    <a:pt x="360" y="180"/>
                  </a:lnTo>
                  <a:lnTo>
                    <a:pt x="355" y="199"/>
                  </a:lnTo>
                  <a:lnTo>
                    <a:pt x="355" y="219"/>
                  </a:lnTo>
                  <a:lnTo>
                    <a:pt x="341" y="243"/>
                  </a:lnTo>
                  <a:lnTo>
                    <a:pt x="331" y="262"/>
                  </a:lnTo>
                  <a:lnTo>
                    <a:pt x="331" y="262"/>
                  </a:lnTo>
                  <a:lnTo>
                    <a:pt x="331" y="277"/>
                  </a:lnTo>
                  <a:lnTo>
                    <a:pt x="331" y="292"/>
                  </a:lnTo>
                  <a:lnTo>
                    <a:pt x="336" y="296"/>
                  </a:lnTo>
                  <a:lnTo>
                    <a:pt x="346" y="306"/>
                  </a:lnTo>
                  <a:lnTo>
                    <a:pt x="365" y="311"/>
                  </a:lnTo>
                  <a:lnTo>
                    <a:pt x="389" y="316"/>
                  </a:lnTo>
                  <a:lnTo>
                    <a:pt x="389" y="316"/>
                  </a:lnTo>
                  <a:lnTo>
                    <a:pt x="433" y="316"/>
                  </a:lnTo>
                  <a:lnTo>
                    <a:pt x="467" y="326"/>
                  </a:lnTo>
                  <a:lnTo>
                    <a:pt x="467" y="326"/>
                  </a:lnTo>
                  <a:lnTo>
                    <a:pt x="564" y="355"/>
                  </a:lnTo>
                  <a:lnTo>
                    <a:pt x="603" y="369"/>
                  </a:lnTo>
                  <a:lnTo>
                    <a:pt x="637" y="389"/>
                  </a:lnTo>
                  <a:lnTo>
                    <a:pt x="637" y="389"/>
                  </a:lnTo>
                  <a:lnTo>
                    <a:pt x="667" y="413"/>
                  </a:lnTo>
                  <a:lnTo>
                    <a:pt x="686" y="433"/>
                  </a:lnTo>
                  <a:lnTo>
                    <a:pt x="696" y="452"/>
                  </a:lnTo>
                  <a:lnTo>
                    <a:pt x="691" y="472"/>
                  </a:lnTo>
                  <a:lnTo>
                    <a:pt x="691" y="472"/>
                  </a:lnTo>
                  <a:lnTo>
                    <a:pt x="676" y="486"/>
                  </a:lnTo>
                  <a:lnTo>
                    <a:pt x="667" y="496"/>
                  </a:lnTo>
                  <a:lnTo>
                    <a:pt x="662" y="501"/>
                  </a:lnTo>
                  <a:lnTo>
                    <a:pt x="662" y="501"/>
                  </a:lnTo>
                  <a:lnTo>
                    <a:pt x="671" y="530"/>
                  </a:lnTo>
                  <a:lnTo>
                    <a:pt x="676" y="559"/>
                  </a:lnTo>
                  <a:lnTo>
                    <a:pt x="681" y="584"/>
                  </a:lnTo>
                  <a:lnTo>
                    <a:pt x="681" y="584"/>
                  </a:lnTo>
                  <a:lnTo>
                    <a:pt x="671" y="608"/>
                  </a:lnTo>
                  <a:lnTo>
                    <a:pt x="657" y="622"/>
                  </a:lnTo>
                  <a:lnTo>
                    <a:pt x="647" y="627"/>
                  </a:lnTo>
                  <a:lnTo>
                    <a:pt x="637" y="632"/>
                  </a:lnTo>
                  <a:lnTo>
                    <a:pt x="637" y="632"/>
                  </a:lnTo>
                  <a:lnTo>
                    <a:pt x="628" y="632"/>
                  </a:lnTo>
                  <a:lnTo>
                    <a:pt x="623" y="637"/>
                  </a:lnTo>
                  <a:lnTo>
                    <a:pt x="623" y="637"/>
                  </a:lnTo>
                  <a:lnTo>
                    <a:pt x="637" y="652"/>
                  </a:lnTo>
                  <a:lnTo>
                    <a:pt x="647" y="666"/>
                  </a:lnTo>
                  <a:lnTo>
                    <a:pt x="647" y="686"/>
                  </a:lnTo>
                  <a:lnTo>
                    <a:pt x="647" y="686"/>
                  </a:lnTo>
                  <a:lnTo>
                    <a:pt x="637" y="705"/>
                  </a:lnTo>
                  <a:lnTo>
                    <a:pt x="628" y="725"/>
                  </a:lnTo>
                  <a:lnTo>
                    <a:pt x="613" y="739"/>
                  </a:lnTo>
                  <a:lnTo>
                    <a:pt x="603" y="744"/>
                  </a:lnTo>
                  <a:lnTo>
                    <a:pt x="603" y="744"/>
                  </a:lnTo>
                  <a:lnTo>
                    <a:pt x="579" y="749"/>
                  </a:lnTo>
                  <a:lnTo>
                    <a:pt x="579" y="749"/>
                  </a:lnTo>
                  <a:lnTo>
                    <a:pt x="579" y="754"/>
                  </a:lnTo>
                  <a:lnTo>
                    <a:pt x="574" y="768"/>
                  </a:lnTo>
                  <a:lnTo>
                    <a:pt x="564" y="788"/>
                  </a:lnTo>
                  <a:lnTo>
                    <a:pt x="555" y="802"/>
                  </a:lnTo>
                  <a:lnTo>
                    <a:pt x="540" y="812"/>
                  </a:lnTo>
                  <a:lnTo>
                    <a:pt x="540" y="812"/>
                  </a:lnTo>
                  <a:lnTo>
                    <a:pt x="516" y="822"/>
                  </a:lnTo>
                  <a:lnTo>
                    <a:pt x="491" y="832"/>
                  </a:lnTo>
                  <a:lnTo>
                    <a:pt x="438" y="837"/>
                  </a:lnTo>
                  <a:lnTo>
                    <a:pt x="384" y="841"/>
                  </a:lnTo>
                  <a:lnTo>
                    <a:pt x="341" y="841"/>
                  </a:lnTo>
                  <a:lnTo>
                    <a:pt x="341" y="841"/>
                  </a:lnTo>
                  <a:lnTo>
                    <a:pt x="253" y="832"/>
                  </a:lnTo>
                  <a:lnTo>
                    <a:pt x="253" y="832"/>
                  </a:lnTo>
                  <a:lnTo>
                    <a:pt x="238" y="832"/>
                  </a:lnTo>
                  <a:lnTo>
                    <a:pt x="214" y="837"/>
                  </a:lnTo>
                  <a:lnTo>
                    <a:pt x="180" y="841"/>
                  </a:lnTo>
                  <a:lnTo>
                    <a:pt x="180" y="841"/>
                  </a:lnTo>
                  <a:lnTo>
                    <a:pt x="151" y="837"/>
                  </a:lnTo>
                  <a:lnTo>
                    <a:pt x="122" y="827"/>
                  </a:lnTo>
                  <a:lnTo>
                    <a:pt x="54" y="798"/>
                  </a:lnTo>
                  <a:lnTo>
                    <a:pt x="54" y="798"/>
                  </a:lnTo>
                  <a:lnTo>
                    <a:pt x="39" y="788"/>
                  </a:lnTo>
                  <a:lnTo>
                    <a:pt x="24" y="778"/>
                  </a:lnTo>
                  <a:lnTo>
                    <a:pt x="15" y="768"/>
                  </a:lnTo>
                  <a:lnTo>
                    <a:pt x="10" y="754"/>
                  </a:lnTo>
                  <a:lnTo>
                    <a:pt x="0" y="725"/>
                  </a:lnTo>
                  <a:lnTo>
                    <a:pt x="0" y="691"/>
                  </a:lnTo>
                  <a:lnTo>
                    <a:pt x="0" y="691"/>
                  </a:lnTo>
                  <a:lnTo>
                    <a:pt x="0" y="593"/>
                  </a:lnTo>
                  <a:lnTo>
                    <a:pt x="5" y="535"/>
                  </a:lnTo>
                  <a:lnTo>
                    <a:pt x="5" y="5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09600" y="1441800"/>
              <a:ext cx="285840" cy="141120"/>
            </a:xfrm>
            <a:custGeom>
              <a:avLst/>
              <a:gdLst/>
              <a:ahLst/>
              <a:rect l="l" t="t" r="r" b="b"/>
              <a:pathLst>
                <a:path w="341" h="146">
                  <a:moveTo>
                    <a:pt x="341" y="73"/>
                  </a:moveTo>
                  <a:lnTo>
                    <a:pt x="341" y="73"/>
                  </a:lnTo>
                  <a:lnTo>
                    <a:pt x="341" y="83"/>
                  </a:lnTo>
                  <a:lnTo>
                    <a:pt x="336" y="97"/>
                  </a:lnTo>
                  <a:lnTo>
                    <a:pt x="326" y="112"/>
                  </a:lnTo>
                  <a:lnTo>
                    <a:pt x="312" y="117"/>
                  </a:lnTo>
                  <a:lnTo>
                    <a:pt x="292" y="127"/>
                  </a:lnTo>
                  <a:lnTo>
                    <a:pt x="268" y="132"/>
                  </a:lnTo>
                  <a:lnTo>
                    <a:pt x="268" y="132"/>
                  </a:lnTo>
                  <a:lnTo>
                    <a:pt x="205" y="136"/>
                  </a:lnTo>
                  <a:lnTo>
                    <a:pt x="151" y="136"/>
                  </a:lnTo>
                  <a:lnTo>
                    <a:pt x="102" y="127"/>
                  </a:lnTo>
                  <a:lnTo>
                    <a:pt x="78" y="117"/>
                  </a:lnTo>
                  <a:lnTo>
                    <a:pt x="54" y="102"/>
                  </a:lnTo>
                  <a:lnTo>
                    <a:pt x="54" y="102"/>
                  </a:lnTo>
                  <a:lnTo>
                    <a:pt x="39" y="93"/>
                  </a:lnTo>
                  <a:lnTo>
                    <a:pt x="29" y="78"/>
                  </a:lnTo>
                  <a:lnTo>
                    <a:pt x="25" y="63"/>
                  </a:lnTo>
                  <a:lnTo>
                    <a:pt x="25" y="49"/>
                  </a:lnTo>
                  <a:lnTo>
                    <a:pt x="29" y="39"/>
                  </a:lnTo>
                  <a:lnTo>
                    <a:pt x="39" y="24"/>
                  </a:lnTo>
                  <a:lnTo>
                    <a:pt x="49" y="20"/>
                  </a:lnTo>
                  <a:lnTo>
                    <a:pt x="63" y="15"/>
                  </a:lnTo>
                  <a:lnTo>
                    <a:pt x="63" y="15"/>
                  </a:lnTo>
                  <a:lnTo>
                    <a:pt x="136" y="5"/>
                  </a:lnTo>
                  <a:lnTo>
                    <a:pt x="190" y="5"/>
                  </a:lnTo>
                  <a:lnTo>
                    <a:pt x="190" y="5"/>
                  </a:lnTo>
                  <a:lnTo>
                    <a:pt x="175" y="0"/>
                  </a:lnTo>
                  <a:lnTo>
                    <a:pt x="136" y="0"/>
                  </a:lnTo>
                  <a:lnTo>
                    <a:pt x="107" y="0"/>
                  </a:lnTo>
                  <a:lnTo>
                    <a:pt x="83" y="0"/>
                  </a:lnTo>
                  <a:lnTo>
                    <a:pt x="54" y="10"/>
                  </a:lnTo>
                  <a:lnTo>
                    <a:pt x="29" y="20"/>
                  </a:lnTo>
                  <a:lnTo>
                    <a:pt x="29" y="20"/>
                  </a:lnTo>
                  <a:lnTo>
                    <a:pt x="15" y="34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78"/>
                  </a:lnTo>
                  <a:lnTo>
                    <a:pt x="15" y="93"/>
                  </a:lnTo>
                  <a:lnTo>
                    <a:pt x="34" y="107"/>
                  </a:lnTo>
                  <a:lnTo>
                    <a:pt x="63" y="122"/>
                  </a:lnTo>
                  <a:lnTo>
                    <a:pt x="98" y="132"/>
                  </a:lnTo>
                  <a:lnTo>
                    <a:pt x="98" y="132"/>
                  </a:lnTo>
                  <a:lnTo>
                    <a:pt x="161" y="146"/>
                  </a:lnTo>
                  <a:lnTo>
                    <a:pt x="205" y="146"/>
                  </a:lnTo>
                  <a:lnTo>
                    <a:pt x="244" y="141"/>
                  </a:lnTo>
                  <a:lnTo>
                    <a:pt x="278" y="136"/>
                  </a:lnTo>
                  <a:lnTo>
                    <a:pt x="278" y="136"/>
                  </a:lnTo>
                  <a:lnTo>
                    <a:pt x="312" y="127"/>
                  </a:lnTo>
                  <a:lnTo>
                    <a:pt x="331" y="117"/>
                  </a:lnTo>
                  <a:lnTo>
                    <a:pt x="341" y="107"/>
                  </a:lnTo>
                  <a:lnTo>
                    <a:pt x="341" y="102"/>
                  </a:lnTo>
                  <a:lnTo>
                    <a:pt x="341" y="102"/>
                  </a:lnTo>
                  <a:lnTo>
                    <a:pt x="341" y="83"/>
                  </a:lnTo>
                  <a:lnTo>
                    <a:pt x="341" y="73"/>
                  </a:lnTo>
                  <a:lnTo>
                    <a:pt x="34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76840" y="1564560"/>
              <a:ext cx="261720" cy="136080"/>
            </a:xfrm>
            <a:custGeom>
              <a:avLst/>
              <a:gdLst/>
              <a:ahLst/>
              <a:rect l="l" t="t" r="r" b="b"/>
              <a:pathLst>
                <a:path w="312" h="141">
                  <a:moveTo>
                    <a:pt x="312" y="126"/>
                  </a:moveTo>
                  <a:lnTo>
                    <a:pt x="312" y="126"/>
                  </a:lnTo>
                  <a:lnTo>
                    <a:pt x="287" y="126"/>
                  </a:lnTo>
                  <a:lnTo>
                    <a:pt x="219" y="131"/>
                  </a:lnTo>
                  <a:lnTo>
                    <a:pt x="137" y="126"/>
                  </a:lnTo>
                  <a:lnTo>
                    <a:pt x="102" y="116"/>
                  </a:lnTo>
                  <a:lnTo>
                    <a:pt x="68" y="107"/>
                  </a:lnTo>
                  <a:lnTo>
                    <a:pt x="68" y="107"/>
                  </a:lnTo>
                  <a:lnTo>
                    <a:pt x="49" y="92"/>
                  </a:lnTo>
                  <a:lnTo>
                    <a:pt x="30" y="78"/>
                  </a:lnTo>
                  <a:lnTo>
                    <a:pt x="20" y="68"/>
                  </a:lnTo>
                  <a:lnTo>
                    <a:pt x="15" y="53"/>
                  </a:lnTo>
                  <a:lnTo>
                    <a:pt x="15" y="39"/>
                  </a:lnTo>
                  <a:lnTo>
                    <a:pt x="20" y="29"/>
                  </a:lnTo>
                  <a:lnTo>
                    <a:pt x="30" y="19"/>
                  </a:lnTo>
                  <a:lnTo>
                    <a:pt x="39" y="14"/>
                  </a:lnTo>
                  <a:lnTo>
                    <a:pt x="39" y="1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4" y="0"/>
                  </a:lnTo>
                  <a:lnTo>
                    <a:pt x="34" y="9"/>
                  </a:lnTo>
                  <a:lnTo>
                    <a:pt x="20" y="14"/>
                  </a:lnTo>
                  <a:lnTo>
                    <a:pt x="10" y="24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0" y="53"/>
                  </a:lnTo>
                  <a:lnTo>
                    <a:pt x="10" y="78"/>
                  </a:lnTo>
                  <a:lnTo>
                    <a:pt x="30" y="97"/>
                  </a:lnTo>
                  <a:lnTo>
                    <a:pt x="59" y="116"/>
                  </a:lnTo>
                  <a:lnTo>
                    <a:pt x="98" y="126"/>
                  </a:lnTo>
                  <a:lnTo>
                    <a:pt x="98" y="126"/>
                  </a:lnTo>
                  <a:lnTo>
                    <a:pt x="112" y="136"/>
                  </a:lnTo>
                  <a:lnTo>
                    <a:pt x="141" y="136"/>
                  </a:lnTo>
                  <a:lnTo>
                    <a:pt x="210" y="141"/>
                  </a:lnTo>
                  <a:lnTo>
                    <a:pt x="278" y="136"/>
                  </a:lnTo>
                  <a:lnTo>
                    <a:pt x="302" y="131"/>
                  </a:lnTo>
                  <a:lnTo>
                    <a:pt x="312" y="126"/>
                  </a:lnTo>
                  <a:lnTo>
                    <a:pt x="312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64960" y="1658160"/>
              <a:ext cx="269280" cy="159120"/>
            </a:xfrm>
            <a:custGeom>
              <a:avLst/>
              <a:gdLst/>
              <a:ahLst/>
              <a:rect l="l" t="t" r="r" b="b"/>
              <a:pathLst>
                <a:path w="321" h="165">
                  <a:moveTo>
                    <a:pt x="29" y="0"/>
                  </a:moveTo>
                  <a:lnTo>
                    <a:pt x="29" y="0"/>
                  </a:lnTo>
                  <a:lnTo>
                    <a:pt x="19" y="5"/>
                  </a:lnTo>
                  <a:lnTo>
                    <a:pt x="14" y="19"/>
                  </a:lnTo>
                  <a:lnTo>
                    <a:pt x="9" y="29"/>
                  </a:lnTo>
                  <a:lnTo>
                    <a:pt x="9" y="39"/>
                  </a:lnTo>
                  <a:lnTo>
                    <a:pt x="14" y="53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53" y="92"/>
                  </a:lnTo>
                  <a:lnTo>
                    <a:pt x="82" y="112"/>
                  </a:lnTo>
                  <a:lnTo>
                    <a:pt x="112" y="126"/>
                  </a:lnTo>
                  <a:lnTo>
                    <a:pt x="136" y="136"/>
                  </a:lnTo>
                  <a:lnTo>
                    <a:pt x="189" y="151"/>
                  </a:lnTo>
                  <a:lnTo>
                    <a:pt x="238" y="151"/>
                  </a:lnTo>
                  <a:lnTo>
                    <a:pt x="277" y="146"/>
                  </a:lnTo>
                  <a:lnTo>
                    <a:pt x="306" y="141"/>
                  </a:lnTo>
                  <a:lnTo>
                    <a:pt x="321" y="136"/>
                  </a:lnTo>
                  <a:lnTo>
                    <a:pt x="316" y="136"/>
                  </a:lnTo>
                  <a:lnTo>
                    <a:pt x="316" y="136"/>
                  </a:lnTo>
                  <a:lnTo>
                    <a:pt x="316" y="141"/>
                  </a:lnTo>
                  <a:lnTo>
                    <a:pt x="301" y="151"/>
                  </a:lnTo>
                  <a:lnTo>
                    <a:pt x="277" y="161"/>
                  </a:lnTo>
                  <a:lnTo>
                    <a:pt x="243" y="165"/>
                  </a:lnTo>
                  <a:lnTo>
                    <a:pt x="204" y="165"/>
                  </a:lnTo>
                  <a:lnTo>
                    <a:pt x="165" y="161"/>
                  </a:lnTo>
                  <a:lnTo>
                    <a:pt x="121" y="146"/>
                  </a:lnTo>
                  <a:lnTo>
                    <a:pt x="73" y="122"/>
                  </a:lnTo>
                  <a:lnTo>
                    <a:pt x="73" y="122"/>
                  </a:lnTo>
                  <a:lnTo>
                    <a:pt x="34" y="97"/>
                  </a:lnTo>
                  <a:lnTo>
                    <a:pt x="9" y="73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15640" y="1714320"/>
              <a:ext cx="146880" cy="173520"/>
            </a:xfrm>
            <a:custGeom>
              <a:avLst/>
              <a:gdLst/>
              <a:ahLst/>
              <a:rect l="l" t="t" r="r" b="b"/>
              <a:pathLst>
                <a:path w="175" h="180">
                  <a:moveTo>
                    <a:pt x="59" y="10"/>
                  </a:moveTo>
                  <a:lnTo>
                    <a:pt x="59" y="10"/>
                  </a:lnTo>
                  <a:lnTo>
                    <a:pt x="54" y="10"/>
                  </a:lnTo>
                  <a:lnTo>
                    <a:pt x="44" y="10"/>
                  </a:lnTo>
                  <a:lnTo>
                    <a:pt x="30" y="10"/>
                  </a:lnTo>
                  <a:lnTo>
                    <a:pt x="20" y="1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15" y="39"/>
                  </a:lnTo>
                  <a:lnTo>
                    <a:pt x="15" y="54"/>
                  </a:lnTo>
                  <a:lnTo>
                    <a:pt x="20" y="83"/>
                  </a:lnTo>
                  <a:lnTo>
                    <a:pt x="34" y="112"/>
                  </a:lnTo>
                  <a:lnTo>
                    <a:pt x="54" y="132"/>
                  </a:lnTo>
                  <a:lnTo>
                    <a:pt x="54" y="132"/>
                  </a:lnTo>
                  <a:lnTo>
                    <a:pt x="78" y="146"/>
                  </a:lnTo>
                  <a:lnTo>
                    <a:pt x="112" y="166"/>
                  </a:lnTo>
                  <a:lnTo>
                    <a:pt x="141" y="176"/>
                  </a:lnTo>
                  <a:lnTo>
                    <a:pt x="171" y="180"/>
                  </a:lnTo>
                  <a:lnTo>
                    <a:pt x="171" y="180"/>
                  </a:lnTo>
                  <a:lnTo>
                    <a:pt x="175" y="180"/>
                  </a:lnTo>
                  <a:lnTo>
                    <a:pt x="161" y="180"/>
                  </a:lnTo>
                  <a:lnTo>
                    <a:pt x="132" y="176"/>
                  </a:lnTo>
                  <a:lnTo>
                    <a:pt x="103" y="166"/>
                  </a:lnTo>
                  <a:lnTo>
                    <a:pt x="103" y="166"/>
                  </a:lnTo>
                  <a:lnTo>
                    <a:pt x="68" y="151"/>
                  </a:lnTo>
                  <a:lnTo>
                    <a:pt x="44" y="132"/>
                  </a:lnTo>
                  <a:lnTo>
                    <a:pt x="20" y="103"/>
                  </a:lnTo>
                  <a:lnTo>
                    <a:pt x="10" y="88"/>
                  </a:lnTo>
                  <a:lnTo>
                    <a:pt x="5" y="68"/>
                  </a:lnTo>
                  <a:lnTo>
                    <a:pt x="5" y="68"/>
                  </a:lnTo>
                  <a:lnTo>
                    <a:pt x="0" y="49"/>
                  </a:lnTo>
                  <a:lnTo>
                    <a:pt x="0" y="34"/>
                  </a:lnTo>
                  <a:lnTo>
                    <a:pt x="5" y="20"/>
                  </a:lnTo>
                  <a:lnTo>
                    <a:pt x="10" y="10"/>
                  </a:lnTo>
                  <a:lnTo>
                    <a:pt x="25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9" y="5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660640" y="1352880"/>
              <a:ext cx="48600" cy="154440"/>
            </a:xfrm>
            <a:custGeom>
              <a:avLst/>
              <a:gdLst/>
              <a:ahLst/>
              <a:rect l="l" t="t" r="r" b="b"/>
              <a:pathLst>
                <a:path w="58" h="160">
                  <a:moveTo>
                    <a:pt x="39" y="0"/>
                  </a:moveTo>
                  <a:lnTo>
                    <a:pt x="39" y="0"/>
                  </a:lnTo>
                  <a:lnTo>
                    <a:pt x="44" y="9"/>
                  </a:lnTo>
                  <a:lnTo>
                    <a:pt x="49" y="39"/>
                  </a:lnTo>
                  <a:lnTo>
                    <a:pt x="44" y="78"/>
                  </a:lnTo>
                  <a:lnTo>
                    <a:pt x="39" y="92"/>
                  </a:lnTo>
                  <a:lnTo>
                    <a:pt x="34" y="112"/>
                  </a:lnTo>
                  <a:lnTo>
                    <a:pt x="34" y="112"/>
                  </a:lnTo>
                  <a:lnTo>
                    <a:pt x="5" y="155"/>
                  </a:lnTo>
                  <a:lnTo>
                    <a:pt x="0" y="160"/>
                  </a:lnTo>
                  <a:lnTo>
                    <a:pt x="0" y="160"/>
                  </a:lnTo>
                  <a:lnTo>
                    <a:pt x="10" y="155"/>
                  </a:lnTo>
                  <a:lnTo>
                    <a:pt x="29" y="136"/>
                  </a:lnTo>
                  <a:lnTo>
                    <a:pt x="49" y="112"/>
                  </a:lnTo>
                  <a:lnTo>
                    <a:pt x="53" y="97"/>
                  </a:lnTo>
                  <a:lnTo>
                    <a:pt x="58" y="78"/>
                  </a:lnTo>
                  <a:lnTo>
                    <a:pt x="58" y="78"/>
                  </a:lnTo>
                  <a:lnTo>
                    <a:pt x="53" y="39"/>
                  </a:lnTo>
                  <a:lnTo>
                    <a:pt x="49" y="19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56680" y="1479600"/>
              <a:ext cx="45000" cy="37440"/>
            </a:xfrm>
            <a:custGeom>
              <a:avLst/>
              <a:gdLst/>
              <a:ahLst/>
              <a:rect l="l" t="t" r="r" b="b"/>
              <a:pathLst>
                <a:path w="54" h="39">
                  <a:moveTo>
                    <a:pt x="54" y="0"/>
                  </a:moveTo>
                  <a:lnTo>
                    <a:pt x="54" y="0"/>
                  </a:lnTo>
                  <a:lnTo>
                    <a:pt x="34" y="15"/>
                  </a:lnTo>
                  <a:lnTo>
                    <a:pt x="19" y="2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0" y="39"/>
                  </a:lnTo>
                  <a:lnTo>
                    <a:pt x="5" y="39"/>
                  </a:lnTo>
                  <a:lnTo>
                    <a:pt x="24" y="34"/>
                  </a:lnTo>
                  <a:lnTo>
                    <a:pt x="39" y="24"/>
                  </a:lnTo>
                  <a:lnTo>
                    <a:pt x="39" y="24"/>
                  </a:lnTo>
                  <a:lnTo>
                    <a:pt x="49" y="5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080600" y="1323720"/>
              <a:ext cx="1240920" cy="1509120"/>
            </a:xfrm>
            <a:custGeom>
              <a:avLst/>
              <a:gdLst/>
              <a:ahLst/>
              <a:rect l="l" t="t" r="r" b="b"/>
              <a:pathLst>
                <a:path w="1479" h="1562">
                  <a:moveTo>
                    <a:pt x="739" y="0"/>
                  </a:moveTo>
                  <a:lnTo>
                    <a:pt x="739" y="0"/>
                  </a:lnTo>
                  <a:lnTo>
                    <a:pt x="812" y="5"/>
                  </a:lnTo>
                  <a:lnTo>
                    <a:pt x="885" y="15"/>
                  </a:lnTo>
                  <a:lnTo>
                    <a:pt x="958" y="35"/>
                  </a:lnTo>
                  <a:lnTo>
                    <a:pt x="1027" y="59"/>
                  </a:lnTo>
                  <a:lnTo>
                    <a:pt x="1090" y="93"/>
                  </a:lnTo>
                  <a:lnTo>
                    <a:pt x="1153" y="132"/>
                  </a:lnTo>
                  <a:lnTo>
                    <a:pt x="1207" y="181"/>
                  </a:lnTo>
                  <a:lnTo>
                    <a:pt x="1260" y="229"/>
                  </a:lnTo>
                  <a:lnTo>
                    <a:pt x="1309" y="283"/>
                  </a:lnTo>
                  <a:lnTo>
                    <a:pt x="1353" y="346"/>
                  </a:lnTo>
                  <a:lnTo>
                    <a:pt x="1387" y="409"/>
                  </a:lnTo>
                  <a:lnTo>
                    <a:pt x="1421" y="477"/>
                  </a:lnTo>
                  <a:lnTo>
                    <a:pt x="1445" y="550"/>
                  </a:lnTo>
                  <a:lnTo>
                    <a:pt x="1464" y="623"/>
                  </a:lnTo>
                  <a:lnTo>
                    <a:pt x="1474" y="701"/>
                  </a:lnTo>
                  <a:lnTo>
                    <a:pt x="1479" y="779"/>
                  </a:lnTo>
                  <a:lnTo>
                    <a:pt x="1479" y="779"/>
                  </a:lnTo>
                  <a:lnTo>
                    <a:pt x="1474" y="862"/>
                  </a:lnTo>
                  <a:lnTo>
                    <a:pt x="1464" y="940"/>
                  </a:lnTo>
                  <a:lnTo>
                    <a:pt x="1445" y="1013"/>
                  </a:lnTo>
                  <a:lnTo>
                    <a:pt x="1421" y="1086"/>
                  </a:lnTo>
                  <a:lnTo>
                    <a:pt x="1387" y="1154"/>
                  </a:lnTo>
                  <a:lnTo>
                    <a:pt x="1353" y="1217"/>
                  </a:lnTo>
                  <a:lnTo>
                    <a:pt x="1309" y="1275"/>
                  </a:lnTo>
                  <a:lnTo>
                    <a:pt x="1260" y="1334"/>
                  </a:lnTo>
                  <a:lnTo>
                    <a:pt x="1207" y="1382"/>
                  </a:lnTo>
                  <a:lnTo>
                    <a:pt x="1153" y="1426"/>
                  </a:lnTo>
                  <a:lnTo>
                    <a:pt x="1090" y="1470"/>
                  </a:lnTo>
                  <a:lnTo>
                    <a:pt x="1027" y="1499"/>
                  </a:lnTo>
                  <a:lnTo>
                    <a:pt x="958" y="1528"/>
                  </a:lnTo>
                  <a:lnTo>
                    <a:pt x="885" y="1548"/>
                  </a:lnTo>
                  <a:lnTo>
                    <a:pt x="812" y="1558"/>
                  </a:lnTo>
                  <a:lnTo>
                    <a:pt x="739" y="1562"/>
                  </a:lnTo>
                  <a:lnTo>
                    <a:pt x="739" y="1562"/>
                  </a:lnTo>
                  <a:lnTo>
                    <a:pt x="662" y="1558"/>
                  </a:lnTo>
                  <a:lnTo>
                    <a:pt x="589" y="1548"/>
                  </a:lnTo>
                  <a:lnTo>
                    <a:pt x="521" y="1528"/>
                  </a:lnTo>
                  <a:lnTo>
                    <a:pt x="452" y="1499"/>
                  </a:lnTo>
                  <a:lnTo>
                    <a:pt x="384" y="1470"/>
                  </a:lnTo>
                  <a:lnTo>
                    <a:pt x="326" y="1426"/>
                  </a:lnTo>
                  <a:lnTo>
                    <a:pt x="268" y="1382"/>
                  </a:lnTo>
                  <a:lnTo>
                    <a:pt x="214" y="1334"/>
                  </a:lnTo>
                  <a:lnTo>
                    <a:pt x="170" y="1275"/>
                  </a:lnTo>
                  <a:lnTo>
                    <a:pt x="126" y="1217"/>
                  </a:lnTo>
                  <a:lnTo>
                    <a:pt x="88" y="1154"/>
                  </a:lnTo>
                  <a:lnTo>
                    <a:pt x="58" y="1086"/>
                  </a:lnTo>
                  <a:lnTo>
                    <a:pt x="34" y="1013"/>
                  </a:lnTo>
                  <a:lnTo>
                    <a:pt x="15" y="940"/>
                  </a:lnTo>
                  <a:lnTo>
                    <a:pt x="5" y="862"/>
                  </a:lnTo>
                  <a:lnTo>
                    <a:pt x="0" y="779"/>
                  </a:lnTo>
                  <a:lnTo>
                    <a:pt x="0" y="779"/>
                  </a:lnTo>
                  <a:lnTo>
                    <a:pt x="5" y="701"/>
                  </a:lnTo>
                  <a:lnTo>
                    <a:pt x="15" y="623"/>
                  </a:lnTo>
                  <a:lnTo>
                    <a:pt x="34" y="550"/>
                  </a:lnTo>
                  <a:lnTo>
                    <a:pt x="58" y="477"/>
                  </a:lnTo>
                  <a:lnTo>
                    <a:pt x="88" y="409"/>
                  </a:lnTo>
                  <a:lnTo>
                    <a:pt x="126" y="346"/>
                  </a:lnTo>
                  <a:lnTo>
                    <a:pt x="170" y="283"/>
                  </a:lnTo>
                  <a:lnTo>
                    <a:pt x="214" y="229"/>
                  </a:lnTo>
                  <a:lnTo>
                    <a:pt x="268" y="181"/>
                  </a:lnTo>
                  <a:lnTo>
                    <a:pt x="326" y="132"/>
                  </a:lnTo>
                  <a:lnTo>
                    <a:pt x="384" y="93"/>
                  </a:lnTo>
                  <a:lnTo>
                    <a:pt x="452" y="59"/>
                  </a:lnTo>
                  <a:lnTo>
                    <a:pt x="521" y="35"/>
                  </a:lnTo>
                  <a:lnTo>
                    <a:pt x="589" y="15"/>
                  </a:lnTo>
                  <a:lnTo>
                    <a:pt x="662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76280" y="1319760"/>
              <a:ext cx="1245240" cy="1518120"/>
            </a:xfrm>
            <a:custGeom>
              <a:avLst/>
              <a:gdLst/>
              <a:ahLst/>
              <a:rect l="l" t="t" r="r" b="b"/>
              <a:pathLst>
                <a:path w="1484" h="1571">
                  <a:moveTo>
                    <a:pt x="740" y="0"/>
                  </a:moveTo>
                  <a:lnTo>
                    <a:pt x="740" y="0"/>
                  </a:lnTo>
                  <a:lnTo>
                    <a:pt x="817" y="4"/>
                  </a:lnTo>
                  <a:lnTo>
                    <a:pt x="890" y="14"/>
                  </a:lnTo>
                  <a:lnTo>
                    <a:pt x="963" y="34"/>
                  </a:lnTo>
                  <a:lnTo>
                    <a:pt x="1032" y="58"/>
                  </a:lnTo>
                  <a:lnTo>
                    <a:pt x="1095" y="92"/>
                  </a:lnTo>
                  <a:lnTo>
                    <a:pt x="1158" y="131"/>
                  </a:lnTo>
                  <a:lnTo>
                    <a:pt x="1212" y="180"/>
                  </a:lnTo>
                  <a:lnTo>
                    <a:pt x="1265" y="228"/>
                  </a:lnTo>
                  <a:lnTo>
                    <a:pt x="1314" y="287"/>
                  </a:lnTo>
                  <a:lnTo>
                    <a:pt x="1358" y="345"/>
                  </a:lnTo>
                  <a:lnTo>
                    <a:pt x="1392" y="408"/>
                  </a:lnTo>
                  <a:lnTo>
                    <a:pt x="1426" y="476"/>
                  </a:lnTo>
                  <a:lnTo>
                    <a:pt x="1450" y="549"/>
                  </a:lnTo>
                  <a:lnTo>
                    <a:pt x="1469" y="627"/>
                  </a:lnTo>
                  <a:lnTo>
                    <a:pt x="1479" y="705"/>
                  </a:lnTo>
                  <a:lnTo>
                    <a:pt x="1484" y="783"/>
                  </a:lnTo>
                  <a:lnTo>
                    <a:pt x="1484" y="783"/>
                  </a:lnTo>
                  <a:lnTo>
                    <a:pt x="1479" y="866"/>
                  </a:lnTo>
                  <a:lnTo>
                    <a:pt x="1469" y="944"/>
                  </a:lnTo>
                  <a:lnTo>
                    <a:pt x="1450" y="1017"/>
                  </a:lnTo>
                  <a:lnTo>
                    <a:pt x="1426" y="1090"/>
                  </a:lnTo>
                  <a:lnTo>
                    <a:pt x="1392" y="1158"/>
                  </a:lnTo>
                  <a:lnTo>
                    <a:pt x="1358" y="1221"/>
                  </a:lnTo>
                  <a:lnTo>
                    <a:pt x="1314" y="1284"/>
                  </a:lnTo>
                  <a:lnTo>
                    <a:pt x="1265" y="1338"/>
                  </a:lnTo>
                  <a:lnTo>
                    <a:pt x="1212" y="1391"/>
                  </a:lnTo>
                  <a:lnTo>
                    <a:pt x="1158" y="1435"/>
                  </a:lnTo>
                  <a:lnTo>
                    <a:pt x="1095" y="1474"/>
                  </a:lnTo>
                  <a:lnTo>
                    <a:pt x="1032" y="1508"/>
                  </a:lnTo>
                  <a:lnTo>
                    <a:pt x="963" y="1532"/>
                  </a:lnTo>
                  <a:lnTo>
                    <a:pt x="890" y="1552"/>
                  </a:lnTo>
                  <a:lnTo>
                    <a:pt x="817" y="1566"/>
                  </a:lnTo>
                  <a:lnTo>
                    <a:pt x="740" y="1571"/>
                  </a:lnTo>
                  <a:lnTo>
                    <a:pt x="740" y="1571"/>
                  </a:lnTo>
                  <a:lnTo>
                    <a:pt x="667" y="1566"/>
                  </a:lnTo>
                  <a:lnTo>
                    <a:pt x="594" y="1552"/>
                  </a:lnTo>
                  <a:lnTo>
                    <a:pt x="521" y="1532"/>
                  </a:lnTo>
                  <a:lnTo>
                    <a:pt x="453" y="1508"/>
                  </a:lnTo>
                  <a:lnTo>
                    <a:pt x="389" y="1474"/>
                  </a:lnTo>
                  <a:lnTo>
                    <a:pt x="326" y="1435"/>
                  </a:lnTo>
                  <a:lnTo>
                    <a:pt x="268" y="1391"/>
                  </a:lnTo>
                  <a:lnTo>
                    <a:pt x="214" y="1338"/>
                  </a:lnTo>
                  <a:lnTo>
                    <a:pt x="170" y="1284"/>
                  </a:lnTo>
                  <a:lnTo>
                    <a:pt x="127" y="1221"/>
                  </a:lnTo>
                  <a:lnTo>
                    <a:pt x="88" y="1158"/>
                  </a:lnTo>
                  <a:lnTo>
                    <a:pt x="58" y="1090"/>
                  </a:lnTo>
                  <a:lnTo>
                    <a:pt x="29" y="1017"/>
                  </a:lnTo>
                  <a:lnTo>
                    <a:pt x="15" y="944"/>
                  </a:lnTo>
                  <a:lnTo>
                    <a:pt x="0" y="866"/>
                  </a:lnTo>
                  <a:lnTo>
                    <a:pt x="0" y="783"/>
                  </a:lnTo>
                  <a:lnTo>
                    <a:pt x="0" y="783"/>
                  </a:lnTo>
                  <a:lnTo>
                    <a:pt x="0" y="705"/>
                  </a:lnTo>
                  <a:lnTo>
                    <a:pt x="15" y="627"/>
                  </a:lnTo>
                  <a:lnTo>
                    <a:pt x="29" y="549"/>
                  </a:lnTo>
                  <a:lnTo>
                    <a:pt x="58" y="476"/>
                  </a:lnTo>
                  <a:lnTo>
                    <a:pt x="88" y="408"/>
                  </a:lnTo>
                  <a:lnTo>
                    <a:pt x="127" y="345"/>
                  </a:lnTo>
                  <a:lnTo>
                    <a:pt x="170" y="287"/>
                  </a:lnTo>
                  <a:lnTo>
                    <a:pt x="214" y="228"/>
                  </a:lnTo>
                  <a:lnTo>
                    <a:pt x="268" y="180"/>
                  </a:lnTo>
                  <a:lnTo>
                    <a:pt x="326" y="131"/>
                  </a:lnTo>
                  <a:lnTo>
                    <a:pt x="389" y="92"/>
                  </a:lnTo>
                  <a:lnTo>
                    <a:pt x="453" y="58"/>
                  </a:lnTo>
                  <a:lnTo>
                    <a:pt x="521" y="34"/>
                  </a:lnTo>
                  <a:lnTo>
                    <a:pt x="594" y="14"/>
                  </a:lnTo>
                  <a:lnTo>
                    <a:pt x="667" y="4"/>
                  </a:lnTo>
                  <a:lnTo>
                    <a:pt x="740" y="0"/>
                  </a:lnTo>
                  <a:lnTo>
                    <a:pt x="740" y="0"/>
                  </a:lnTo>
                  <a:close/>
                </a:path>
              </a:pathLst>
            </a:custGeom>
            <a:solidFill>
              <a:srgbClr val="fff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8000" y="1315080"/>
              <a:ext cx="1253520" cy="1522800"/>
            </a:xfrm>
            <a:custGeom>
              <a:avLst/>
              <a:gdLst/>
              <a:ahLst/>
              <a:rect l="l" t="t" r="r" b="b"/>
              <a:pathLst>
                <a:path w="1494" h="1576">
                  <a:moveTo>
                    <a:pt x="750" y="0"/>
                  </a:moveTo>
                  <a:lnTo>
                    <a:pt x="750" y="0"/>
                  </a:lnTo>
                  <a:lnTo>
                    <a:pt x="823" y="0"/>
                  </a:lnTo>
                  <a:lnTo>
                    <a:pt x="900" y="14"/>
                  </a:lnTo>
                  <a:lnTo>
                    <a:pt x="969" y="34"/>
                  </a:lnTo>
                  <a:lnTo>
                    <a:pt x="1037" y="58"/>
                  </a:lnTo>
                  <a:lnTo>
                    <a:pt x="1105" y="92"/>
                  </a:lnTo>
                  <a:lnTo>
                    <a:pt x="1168" y="131"/>
                  </a:lnTo>
                  <a:lnTo>
                    <a:pt x="1222" y="180"/>
                  </a:lnTo>
                  <a:lnTo>
                    <a:pt x="1275" y="228"/>
                  </a:lnTo>
                  <a:lnTo>
                    <a:pt x="1324" y="287"/>
                  </a:lnTo>
                  <a:lnTo>
                    <a:pt x="1368" y="345"/>
                  </a:lnTo>
                  <a:lnTo>
                    <a:pt x="1406" y="413"/>
                  </a:lnTo>
                  <a:lnTo>
                    <a:pt x="1436" y="481"/>
                  </a:lnTo>
                  <a:lnTo>
                    <a:pt x="1460" y="554"/>
                  </a:lnTo>
                  <a:lnTo>
                    <a:pt x="1479" y="627"/>
                  </a:lnTo>
                  <a:lnTo>
                    <a:pt x="1489" y="705"/>
                  </a:lnTo>
                  <a:lnTo>
                    <a:pt x="1494" y="788"/>
                  </a:lnTo>
                  <a:lnTo>
                    <a:pt x="1494" y="788"/>
                  </a:lnTo>
                  <a:lnTo>
                    <a:pt x="1489" y="866"/>
                  </a:lnTo>
                  <a:lnTo>
                    <a:pt x="1479" y="944"/>
                  </a:lnTo>
                  <a:lnTo>
                    <a:pt x="1460" y="1022"/>
                  </a:lnTo>
                  <a:lnTo>
                    <a:pt x="1436" y="1095"/>
                  </a:lnTo>
                  <a:lnTo>
                    <a:pt x="1406" y="1163"/>
                  </a:lnTo>
                  <a:lnTo>
                    <a:pt x="1368" y="1226"/>
                  </a:lnTo>
                  <a:lnTo>
                    <a:pt x="1324" y="1289"/>
                  </a:lnTo>
                  <a:lnTo>
                    <a:pt x="1275" y="1343"/>
                  </a:lnTo>
                  <a:lnTo>
                    <a:pt x="1222" y="1396"/>
                  </a:lnTo>
                  <a:lnTo>
                    <a:pt x="1168" y="1440"/>
                  </a:lnTo>
                  <a:lnTo>
                    <a:pt x="1105" y="1479"/>
                  </a:lnTo>
                  <a:lnTo>
                    <a:pt x="1037" y="1513"/>
                  </a:lnTo>
                  <a:lnTo>
                    <a:pt x="969" y="1542"/>
                  </a:lnTo>
                  <a:lnTo>
                    <a:pt x="900" y="1562"/>
                  </a:lnTo>
                  <a:lnTo>
                    <a:pt x="823" y="1571"/>
                  </a:lnTo>
                  <a:lnTo>
                    <a:pt x="750" y="1576"/>
                  </a:lnTo>
                  <a:lnTo>
                    <a:pt x="750" y="1576"/>
                  </a:lnTo>
                  <a:lnTo>
                    <a:pt x="672" y="1571"/>
                  </a:lnTo>
                  <a:lnTo>
                    <a:pt x="599" y="1562"/>
                  </a:lnTo>
                  <a:lnTo>
                    <a:pt x="526" y="1542"/>
                  </a:lnTo>
                  <a:lnTo>
                    <a:pt x="458" y="1513"/>
                  </a:lnTo>
                  <a:lnTo>
                    <a:pt x="394" y="1479"/>
                  </a:lnTo>
                  <a:lnTo>
                    <a:pt x="331" y="1440"/>
                  </a:lnTo>
                  <a:lnTo>
                    <a:pt x="273" y="1396"/>
                  </a:lnTo>
                  <a:lnTo>
                    <a:pt x="219" y="1343"/>
                  </a:lnTo>
                  <a:lnTo>
                    <a:pt x="171" y="1289"/>
                  </a:lnTo>
                  <a:lnTo>
                    <a:pt x="132" y="1226"/>
                  </a:lnTo>
                  <a:lnTo>
                    <a:pt x="93" y="1163"/>
                  </a:lnTo>
                  <a:lnTo>
                    <a:pt x="59" y="1095"/>
                  </a:lnTo>
                  <a:lnTo>
                    <a:pt x="34" y="1022"/>
                  </a:lnTo>
                  <a:lnTo>
                    <a:pt x="15" y="944"/>
                  </a:lnTo>
                  <a:lnTo>
                    <a:pt x="5" y="866"/>
                  </a:lnTo>
                  <a:lnTo>
                    <a:pt x="0" y="788"/>
                  </a:lnTo>
                  <a:lnTo>
                    <a:pt x="0" y="788"/>
                  </a:lnTo>
                  <a:lnTo>
                    <a:pt x="5" y="705"/>
                  </a:lnTo>
                  <a:lnTo>
                    <a:pt x="15" y="627"/>
                  </a:lnTo>
                  <a:lnTo>
                    <a:pt x="34" y="554"/>
                  </a:lnTo>
                  <a:lnTo>
                    <a:pt x="59" y="481"/>
                  </a:lnTo>
                  <a:lnTo>
                    <a:pt x="93" y="413"/>
                  </a:lnTo>
                  <a:lnTo>
                    <a:pt x="132" y="345"/>
                  </a:lnTo>
                  <a:lnTo>
                    <a:pt x="171" y="287"/>
                  </a:lnTo>
                  <a:lnTo>
                    <a:pt x="219" y="228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4" y="92"/>
                  </a:lnTo>
                  <a:lnTo>
                    <a:pt x="458" y="58"/>
                  </a:lnTo>
                  <a:lnTo>
                    <a:pt x="526" y="34"/>
                  </a:lnTo>
                  <a:lnTo>
                    <a:pt x="599" y="14"/>
                  </a:lnTo>
                  <a:lnTo>
                    <a:pt x="672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63680" y="1310400"/>
              <a:ext cx="1262160" cy="1532520"/>
            </a:xfrm>
            <a:custGeom>
              <a:avLst/>
              <a:gdLst/>
              <a:ahLst/>
              <a:rect l="l" t="t" r="r" b="b"/>
              <a:pathLst>
                <a:path w="1504" h="1586">
                  <a:moveTo>
                    <a:pt x="750" y="0"/>
                  </a:moveTo>
                  <a:lnTo>
                    <a:pt x="750" y="0"/>
                  </a:lnTo>
                  <a:lnTo>
                    <a:pt x="828" y="0"/>
                  </a:lnTo>
                  <a:lnTo>
                    <a:pt x="901" y="14"/>
                  </a:lnTo>
                  <a:lnTo>
                    <a:pt x="974" y="34"/>
                  </a:lnTo>
                  <a:lnTo>
                    <a:pt x="1042" y="58"/>
                  </a:lnTo>
                  <a:lnTo>
                    <a:pt x="1110" y="92"/>
                  </a:lnTo>
                  <a:lnTo>
                    <a:pt x="1168" y="131"/>
                  </a:lnTo>
                  <a:lnTo>
                    <a:pt x="1227" y="180"/>
                  </a:lnTo>
                  <a:lnTo>
                    <a:pt x="1280" y="229"/>
                  </a:lnTo>
                  <a:lnTo>
                    <a:pt x="1329" y="287"/>
                  </a:lnTo>
                  <a:lnTo>
                    <a:pt x="1373" y="350"/>
                  </a:lnTo>
                  <a:lnTo>
                    <a:pt x="1411" y="413"/>
                  </a:lnTo>
                  <a:lnTo>
                    <a:pt x="1441" y="482"/>
                  </a:lnTo>
                  <a:lnTo>
                    <a:pt x="1470" y="555"/>
                  </a:lnTo>
                  <a:lnTo>
                    <a:pt x="1484" y="632"/>
                  </a:lnTo>
                  <a:lnTo>
                    <a:pt x="1499" y="710"/>
                  </a:lnTo>
                  <a:lnTo>
                    <a:pt x="1504" y="793"/>
                  </a:lnTo>
                  <a:lnTo>
                    <a:pt x="1504" y="793"/>
                  </a:lnTo>
                  <a:lnTo>
                    <a:pt x="1499" y="871"/>
                  </a:lnTo>
                  <a:lnTo>
                    <a:pt x="1484" y="949"/>
                  </a:lnTo>
                  <a:lnTo>
                    <a:pt x="1470" y="1027"/>
                  </a:lnTo>
                  <a:lnTo>
                    <a:pt x="1441" y="1100"/>
                  </a:lnTo>
                  <a:lnTo>
                    <a:pt x="1411" y="1168"/>
                  </a:lnTo>
                  <a:lnTo>
                    <a:pt x="1373" y="1236"/>
                  </a:lnTo>
                  <a:lnTo>
                    <a:pt x="1329" y="1294"/>
                  </a:lnTo>
                  <a:lnTo>
                    <a:pt x="1280" y="1353"/>
                  </a:lnTo>
                  <a:lnTo>
                    <a:pt x="1227" y="1401"/>
                  </a:lnTo>
                  <a:lnTo>
                    <a:pt x="1168" y="1450"/>
                  </a:lnTo>
                  <a:lnTo>
                    <a:pt x="1110" y="1489"/>
                  </a:lnTo>
                  <a:lnTo>
                    <a:pt x="1042" y="1523"/>
                  </a:lnTo>
                  <a:lnTo>
                    <a:pt x="974" y="1547"/>
                  </a:lnTo>
                  <a:lnTo>
                    <a:pt x="901" y="1567"/>
                  </a:lnTo>
                  <a:lnTo>
                    <a:pt x="828" y="1581"/>
                  </a:lnTo>
                  <a:lnTo>
                    <a:pt x="750" y="1586"/>
                  </a:lnTo>
                  <a:lnTo>
                    <a:pt x="750" y="1586"/>
                  </a:lnTo>
                  <a:lnTo>
                    <a:pt x="677" y="1581"/>
                  </a:lnTo>
                  <a:lnTo>
                    <a:pt x="599" y="1567"/>
                  </a:lnTo>
                  <a:lnTo>
                    <a:pt x="531" y="1547"/>
                  </a:lnTo>
                  <a:lnTo>
                    <a:pt x="458" y="1523"/>
                  </a:lnTo>
                  <a:lnTo>
                    <a:pt x="395" y="1489"/>
                  </a:lnTo>
                  <a:lnTo>
                    <a:pt x="331" y="1450"/>
                  </a:lnTo>
                  <a:lnTo>
                    <a:pt x="273" y="1401"/>
                  </a:lnTo>
                  <a:lnTo>
                    <a:pt x="219" y="1353"/>
                  </a:lnTo>
                  <a:lnTo>
                    <a:pt x="171" y="1294"/>
                  </a:lnTo>
                  <a:lnTo>
                    <a:pt x="132" y="1236"/>
                  </a:lnTo>
                  <a:lnTo>
                    <a:pt x="93" y="1168"/>
                  </a:lnTo>
                  <a:lnTo>
                    <a:pt x="59" y="1100"/>
                  </a:lnTo>
                  <a:lnTo>
                    <a:pt x="35" y="1027"/>
                  </a:lnTo>
                  <a:lnTo>
                    <a:pt x="15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5" y="632"/>
                  </a:lnTo>
                  <a:lnTo>
                    <a:pt x="35" y="555"/>
                  </a:lnTo>
                  <a:lnTo>
                    <a:pt x="59" y="482"/>
                  </a:lnTo>
                  <a:lnTo>
                    <a:pt x="93" y="413"/>
                  </a:lnTo>
                  <a:lnTo>
                    <a:pt x="132" y="350"/>
                  </a:lnTo>
                  <a:lnTo>
                    <a:pt x="171" y="287"/>
                  </a:lnTo>
                  <a:lnTo>
                    <a:pt x="219" y="229"/>
                  </a:lnTo>
                  <a:lnTo>
                    <a:pt x="273" y="180"/>
                  </a:lnTo>
                  <a:lnTo>
                    <a:pt x="331" y="131"/>
                  </a:lnTo>
                  <a:lnTo>
                    <a:pt x="395" y="92"/>
                  </a:lnTo>
                  <a:lnTo>
                    <a:pt x="458" y="58"/>
                  </a:lnTo>
                  <a:lnTo>
                    <a:pt x="531" y="34"/>
                  </a:lnTo>
                  <a:lnTo>
                    <a:pt x="599" y="14"/>
                  </a:lnTo>
                  <a:lnTo>
                    <a:pt x="677" y="0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ffe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60440" y="1300680"/>
              <a:ext cx="1265040" cy="1542240"/>
            </a:xfrm>
            <a:custGeom>
              <a:avLst/>
              <a:gdLst/>
              <a:ahLst/>
              <a:rect l="l" t="t" r="r" b="b"/>
              <a:pathLst>
                <a:path w="1508" h="159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05" y="20"/>
                  </a:lnTo>
                  <a:lnTo>
                    <a:pt x="978" y="39"/>
                  </a:lnTo>
                  <a:lnTo>
                    <a:pt x="1046" y="63"/>
                  </a:lnTo>
                  <a:lnTo>
                    <a:pt x="1114" y="97"/>
                  </a:lnTo>
                  <a:lnTo>
                    <a:pt x="1172" y="136"/>
                  </a:lnTo>
                  <a:lnTo>
                    <a:pt x="1231" y="185"/>
                  </a:lnTo>
                  <a:lnTo>
                    <a:pt x="1284" y="239"/>
                  </a:lnTo>
                  <a:lnTo>
                    <a:pt x="1333" y="292"/>
                  </a:lnTo>
                  <a:lnTo>
                    <a:pt x="1377" y="355"/>
                  </a:lnTo>
                  <a:lnTo>
                    <a:pt x="1415" y="419"/>
                  </a:lnTo>
                  <a:lnTo>
                    <a:pt x="1450" y="492"/>
                  </a:lnTo>
                  <a:lnTo>
                    <a:pt x="1474" y="565"/>
                  </a:lnTo>
                  <a:lnTo>
                    <a:pt x="1493" y="638"/>
                  </a:lnTo>
                  <a:lnTo>
                    <a:pt x="1503" y="720"/>
                  </a:lnTo>
                  <a:lnTo>
                    <a:pt x="1508" y="798"/>
                  </a:lnTo>
                  <a:lnTo>
                    <a:pt x="1508" y="798"/>
                  </a:lnTo>
                  <a:lnTo>
                    <a:pt x="1503" y="881"/>
                  </a:lnTo>
                  <a:lnTo>
                    <a:pt x="1493" y="959"/>
                  </a:lnTo>
                  <a:lnTo>
                    <a:pt x="1474" y="1037"/>
                  </a:lnTo>
                  <a:lnTo>
                    <a:pt x="1450" y="1110"/>
                  </a:lnTo>
                  <a:lnTo>
                    <a:pt x="1415" y="1178"/>
                  </a:lnTo>
                  <a:lnTo>
                    <a:pt x="1377" y="1246"/>
                  </a:lnTo>
                  <a:lnTo>
                    <a:pt x="1333" y="1304"/>
                  </a:lnTo>
                  <a:lnTo>
                    <a:pt x="1284" y="1363"/>
                  </a:lnTo>
                  <a:lnTo>
                    <a:pt x="1231" y="1416"/>
                  </a:lnTo>
                  <a:lnTo>
                    <a:pt x="1172" y="1460"/>
                  </a:lnTo>
                  <a:lnTo>
                    <a:pt x="1114" y="1499"/>
                  </a:lnTo>
                  <a:lnTo>
                    <a:pt x="1046" y="1533"/>
                  </a:lnTo>
                  <a:lnTo>
                    <a:pt x="978" y="1562"/>
                  </a:lnTo>
                  <a:lnTo>
                    <a:pt x="905" y="1582"/>
                  </a:lnTo>
                  <a:lnTo>
                    <a:pt x="832" y="1591"/>
                  </a:lnTo>
                  <a:lnTo>
                    <a:pt x="754" y="1596"/>
                  </a:lnTo>
                  <a:lnTo>
                    <a:pt x="754" y="1596"/>
                  </a:lnTo>
                  <a:lnTo>
                    <a:pt x="676" y="1591"/>
                  </a:lnTo>
                  <a:lnTo>
                    <a:pt x="603" y="1582"/>
                  </a:lnTo>
                  <a:lnTo>
                    <a:pt x="530" y="1562"/>
                  </a:lnTo>
                  <a:lnTo>
                    <a:pt x="462" y="1533"/>
                  </a:lnTo>
                  <a:lnTo>
                    <a:pt x="394" y="1499"/>
                  </a:lnTo>
                  <a:lnTo>
                    <a:pt x="330" y="1460"/>
                  </a:lnTo>
                  <a:lnTo>
                    <a:pt x="272" y="1416"/>
                  </a:lnTo>
                  <a:lnTo>
                    <a:pt x="219" y="1363"/>
                  </a:lnTo>
                  <a:lnTo>
                    <a:pt x="170" y="1304"/>
                  </a:lnTo>
                  <a:lnTo>
                    <a:pt x="126" y="1246"/>
                  </a:lnTo>
                  <a:lnTo>
                    <a:pt x="92" y="1178"/>
                  </a:lnTo>
                  <a:lnTo>
                    <a:pt x="58" y="1110"/>
                  </a:lnTo>
                  <a:lnTo>
                    <a:pt x="34" y="1037"/>
                  </a:lnTo>
                  <a:lnTo>
                    <a:pt x="14" y="959"/>
                  </a:lnTo>
                  <a:lnTo>
                    <a:pt x="4" y="881"/>
                  </a:lnTo>
                  <a:lnTo>
                    <a:pt x="0" y="798"/>
                  </a:lnTo>
                  <a:lnTo>
                    <a:pt x="0" y="798"/>
                  </a:lnTo>
                  <a:lnTo>
                    <a:pt x="4" y="720"/>
                  </a:lnTo>
                  <a:lnTo>
                    <a:pt x="14" y="638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92" y="419"/>
                  </a:lnTo>
                  <a:lnTo>
                    <a:pt x="126" y="355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0" y="136"/>
                  </a:lnTo>
                  <a:lnTo>
                    <a:pt x="394" y="97"/>
                  </a:lnTo>
                  <a:lnTo>
                    <a:pt x="462" y="63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56120" y="1295640"/>
              <a:ext cx="1269360" cy="1551600"/>
            </a:xfrm>
            <a:custGeom>
              <a:avLst/>
              <a:gdLst/>
              <a:ahLst/>
              <a:rect l="l" t="t" r="r" b="b"/>
              <a:pathLst>
                <a:path w="1513" h="160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20"/>
                  </a:lnTo>
                  <a:lnTo>
                    <a:pt x="983" y="39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77" y="141"/>
                  </a:lnTo>
                  <a:lnTo>
                    <a:pt x="1236" y="185"/>
                  </a:lnTo>
                  <a:lnTo>
                    <a:pt x="1289" y="239"/>
                  </a:lnTo>
                  <a:lnTo>
                    <a:pt x="1343" y="292"/>
                  </a:lnTo>
                  <a:lnTo>
                    <a:pt x="1382" y="356"/>
                  </a:lnTo>
                  <a:lnTo>
                    <a:pt x="1420" y="424"/>
                  </a:lnTo>
                  <a:lnTo>
                    <a:pt x="1455" y="492"/>
                  </a:lnTo>
                  <a:lnTo>
                    <a:pt x="1479" y="565"/>
                  </a:lnTo>
                  <a:lnTo>
                    <a:pt x="1498" y="643"/>
                  </a:lnTo>
                  <a:lnTo>
                    <a:pt x="1508" y="720"/>
                  </a:lnTo>
                  <a:lnTo>
                    <a:pt x="1513" y="803"/>
                  </a:lnTo>
                  <a:lnTo>
                    <a:pt x="1513" y="803"/>
                  </a:lnTo>
                  <a:lnTo>
                    <a:pt x="1508" y="886"/>
                  </a:lnTo>
                  <a:lnTo>
                    <a:pt x="1498" y="964"/>
                  </a:lnTo>
                  <a:lnTo>
                    <a:pt x="1479" y="1042"/>
                  </a:lnTo>
                  <a:lnTo>
                    <a:pt x="1455" y="1115"/>
                  </a:lnTo>
                  <a:lnTo>
                    <a:pt x="1420" y="1183"/>
                  </a:lnTo>
                  <a:lnTo>
                    <a:pt x="1382" y="1251"/>
                  </a:lnTo>
                  <a:lnTo>
                    <a:pt x="1343" y="1314"/>
                  </a:lnTo>
                  <a:lnTo>
                    <a:pt x="1289" y="1368"/>
                  </a:lnTo>
                  <a:lnTo>
                    <a:pt x="1236" y="1421"/>
                  </a:lnTo>
                  <a:lnTo>
                    <a:pt x="1177" y="1470"/>
                  </a:lnTo>
                  <a:lnTo>
                    <a:pt x="1119" y="1509"/>
                  </a:lnTo>
                  <a:lnTo>
                    <a:pt x="1051" y="1543"/>
                  </a:lnTo>
                  <a:lnTo>
                    <a:pt x="983" y="1567"/>
                  </a:lnTo>
                  <a:lnTo>
                    <a:pt x="910" y="1587"/>
                  </a:lnTo>
                  <a:lnTo>
                    <a:pt x="832" y="1601"/>
                  </a:lnTo>
                  <a:lnTo>
                    <a:pt x="754" y="1606"/>
                  </a:lnTo>
                  <a:lnTo>
                    <a:pt x="754" y="1606"/>
                  </a:lnTo>
                  <a:lnTo>
                    <a:pt x="676" y="1601"/>
                  </a:lnTo>
                  <a:lnTo>
                    <a:pt x="603" y="1587"/>
                  </a:lnTo>
                  <a:lnTo>
                    <a:pt x="530" y="1567"/>
                  </a:lnTo>
                  <a:lnTo>
                    <a:pt x="462" y="1543"/>
                  </a:lnTo>
                  <a:lnTo>
                    <a:pt x="394" y="1509"/>
                  </a:lnTo>
                  <a:lnTo>
                    <a:pt x="331" y="1470"/>
                  </a:lnTo>
                  <a:lnTo>
                    <a:pt x="272" y="1421"/>
                  </a:lnTo>
                  <a:lnTo>
                    <a:pt x="219" y="1368"/>
                  </a:lnTo>
                  <a:lnTo>
                    <a:pt x="170" y="1314"/>
                  </a:lnTo>
                  <a:lnTo>
                    <a:pt x="126" y="1251"/>
                  </a:lnTo>
                  <a:lnTo>
                    <a:pt x="87" y="1183"/>
                  </a:lnTo>
                  <a:lnTo>
                    <a:pt x="58" y="1115"/>
                  </a:lnTo>
                  <a:lnTo>
                    <a:pt x="34" y="1042"/>
                  </a:lnTo>
                  <a:lnTo>
                    <a:pt x="14" y="964"/>
                  </a:lnTo>
                  <a:lnTo>
                    <a:pt x="0" y="886"/>
                  </a:lnTo>
                  <a:lnTo>
                    <a:pt x="0" y="803"/>
                  </a:lnTo>
                  <a:lnTo>
                    <a:pt x="0" y="803"/>
                  </a:lnTo>
                  <a:lnTo>
                    <a:pt x="0" y="720"/>
                  </a:lnTo>
                  <a:lnTo>
                    <a:pt x="14" y="643"/>
                  </a:lnTo>
                  <a:lnTo>
                    <a:pt x="34" y="565"/>
                  </a:lnTo>
                  <a:lnTo>
                    <a:pt x="58" y="492"/>
                  </a:lnTo>
                  <a:lnTo>
                    <a:pt x="87" y="424"/>
                  </a:lnTo>
                  <a:lnTo>
                    <a:pt x="126" y="356"/>
                  </a:lnTo>
                  <a:lnTo>
                    <a:pt x="170" y="292"/>
                  </a:lnTo>
                  <a:lnTo>
                    <a:pt x="219" y="239"/>
                  </a:lnTo>
                  <a:lnTo>
                    <a:pt x="272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2" y="64"/>
                  </a:lnTo>
                  <a:lnTo>
                    <a:pt x="530" y="39"/>
                  </a:lnTo>
                  <a:lnTo>
                    <a:pt x="603" y="20"/>
                  </a:lnTo>
                  <a:lnTo>
                    <a:pt x="676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cd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47840" y="1290960"/>
              <a:ext cx="1278000" cy="1556640"/>
            </a:xfrm>
            <a:custGeom>
              <a:avLst/>
              <a:gdLst/>
              <a:ahLst/>
              <a:rect l="l" t="t" r="r" b="b"/>
              <a:pathLst>
                <a:path w="1523" h="1611">
                  <a:moveTo>
                    <a:pt x="764" y="0"/>
                  </a:moveTo>
                  <a:lnTo>
                    <a:pt x="764" y="0"/>
                  </a:lnTo>
                  <a:lnTo>
                    <a:pt x="842" y="5"/>
                  </a:lnTo>
                  <a:lnTo>
                    <a:pt x="915" y="20"/>
                  </a:lnTo>
                  <a:lnTo>
                    <a:pt x="988" y="39"/>
                  </a:lnTo>
                  <a:lnTo>
                    <a:pt x="1061" y="64"/>
                  </a:lnTo>
                  <a:lnTo>
                    <a:pt x="1124" y="98"/>
                  </a:lnTo>
                  <a:lnTo>
                    <a:pt x="1187" y="142"/>
                  </a:lnTo>
                  <a:lnTo>
                    <a:pt x="1246" y="185"/>
                  </a:lnTo>
                  <a:lnTo>
                    <a:pt x="1304" y="239"/>
                  </a:lnTo>
                  <a:lnTo>
                    <a:pt x="1353" y="297"/>
                  </a:lnTo>
                  <a:lnTo>
                    <a:pt x="1396" y="356"/>
                  </a:lnTo>
                  <a:lnTo>
                    <a:pt x="1435" y="424"/>
                  </a:lnTo>
                  <a:lnTo>
                    <a:pt x="1465" y="492"/>
                  </a:lnTo>
                  <a:lnTo>
                    <a:pt x="1489" y="570"/>
                  </a:lnTo>
                  <a:lnTo>
                    <a:pt x="1508" y="648"/>
                  </a:lnTo>
                  <a:lnTo>
                    <a:pt x="1523" y="725"/>
                  </a:lnTo>
                  <a:lnTo>
                    <a:pt x="1523" y="808"/>
                  </a:lnTo>
                  <a:lnTo>
                    <a:pt x="1523" y="808"/>
                  </a:lnTo>
                  <a:lnTo>
                    <a:pt x="1523" y="891"/>
                  </a:lnTo>
                  <a:lnTo>
                    <a:pt x="1508" y="969"/>
                  </a:lnTo>
                  <a:lnTo>
                    <a:pt x="1489" y="1047"/>
                  </a:lnTo>
                  <a:lnTo>
                    <a:pt x="1465" y="1120"/>
                  </a:lnTo>
                  <a:lnTo>
                    <a:pt x="1435" y="1193"/>
                  </a:lnTo>
                  <a:lnTo>
                    <a:pt x="1396" y="1256"/>
                  </a:lnTo>
                  <a:lnTo>
                    <a:pt x="1353" y="1319"/>
                  </a:lnTo>
                  <a:lnTo>
                    <a:pt x="1304" y="1378"/>
                  </a:lnTo>
                  <a:lnTo>
                    <a:pt x="1246" y="1426"/>
                  </a:lnTo>
                  <a:lnTo>
                    <a:pt x="1187" y="1475"/>
                  </a:lnTo>
                  <a:lnTo>
                    <a:pt x="1124" y="1514"/>
                  </a:lnTo>
                  <a:lnTo>
                    <a:pt x="1061" y="1548"/>
                  </a:lnTo>
                  <a:lnTo>
                    <a:pt x="988" y="1577"/>
                  </a:lnTo>
                  <a:lnTo>
                    <a:pt x="915" y="1596"/>
                  </a:lnTo>
                  <a:lnTo>
                    <a:pt x="842" y="1606"/>
                  </a:lnTo>
                  <a:lnTo>
                    <a:pt x="764" y="1611"/>
                  </a:lnTo>
                  <a:lnTo>
                    <a:pt x="764" y="1611"/>
                  </a:lnTo>
                  <a:lnTo>
                    <a:pt x="686" y="1606"/>
                  </a:lnTo>
                  <a:lnTo>
                    <a:pt x="608" y="1596"/>
                  </a:lnTo>
                  <a:lnTo>
                    <a:pt x="535" y="1577"/>
                  </a:lnTo>
                  <a:lnTo>
                    <a:pt x="467" y="1548"/>
                  </a:lnTo>
                  <a:lnTo>
                    <a:pt x="399" y="1514"/>
                  </a:lnTo>
                  <a:lnTo>
                    <a:pt x="336" y="1475"/>
                  </a:lnTo>
                  <a:lnTo>
                    <a:pt x="277" y="1426"/>
                  </a:lnTo>
                  <a:lnTo>
                    <a:pt x="224" y="1378"/>
                  </a:lnTo>
                  <a:lnTo>
                    <a:pt x="175" y="1319"/>
                  </a:lnTo>
                  <a:lnTo>
                    <a:pt x="131" y="1256"/>
                  </a:lnTo>
                  <a:lnTo>
                    <a:pt x="92" y="1193"/>
                  </a:lnTo>
                  <a:lnTo>
                    <a:pt x="63" y="1120"/>
                  </a:lnTo>
                  <a:lnTo>
                    <a:pt x="34" y="1047"/>
                  </a:lnTo>
                  <a:lnTo>
                    <a:pt x="19" y="969"/>
                  </a:lnTo>
                  <a:lnTo>
                    <a:pt x="5" y="891"/>
                  </a:lnTo>
                  <a:lnTo>
                    <a:pt x="0" y="808"/>
                  </a:lnTo>
                  <a:lnTo>
                    <a:pt x="0" y="808"/>
                  </a:lnTo>
                  <a:lnTo>
                    <a:pt x="5" y="725"/>
                  </a:lnTo>
                  <a:lnTo>
                    <a:pt x="19" y="648"/>
                  </a:lnTo>
                  <a:lnTo>
                    <a:pt x="34" y="570"/>
                  </a:lnTo>
                  <a:lnTo>
                    <a:pt x="63" y="492"/>
                  </a:lnTo>
                  <a:lnTo>
                    <a:pt x="92" y="424"/>
                  </a:lnTo>
                  <a:lnTo>
                    <a:pt x="131" y="356"/>
                  </a:lnTo>
                  <a:lnTo>
                    <a:pt x="175" y="297"/>
                  </a:lnTo>
                  <a:lnTo>
                    <a:pt x="224" y="239"/>
                  </a:lnTo>
                  <a:lnTo>
                    <a:pt x="277" y="185"/>
                  </a:lnTo>
                  <a:lnTo>
                    <a:pt x="336" y="142"/>
                  </a:lnTo>
                  <a:lnTo>
                    <a:pt x="399" y="98"/>
                  </a:lnTo>
                  <a:lnTo>
                    <a:pt x="467" y="64"/>
                  </a:lnTo>
                  <a:lnTo>
                    <a:pt x="535" y="39"/>
                  </a:lnTo>
                  <a:lnTo>
                    <a:pt x="608" y="20"/>
                  </a:lnTo>
                  <a:lnTo>
                    <a:pt x="686" y="5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d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43520" y="1287000"/>
              <a:ext cx="1286640" cy="1565280"/>
            </a:xfrm>
            <a:custGeom>
              <a:avLst/>
              <a:gdLst/>
              <a:ahLst/>
              <a:rect l="l" t="t" r="r" b="b"/>
              <a:pathLst>
                <a:path w="1533" h="1620">
                  <a:moveTo>
                    <a:pt x="764" y="0"/>
                  </a:moveTo>
                  <a:lnTo>
                    <a:pt x="764" y="0"/>
                  </a:lnTo>
                  <a:lnTo>
                    <a:pt x="842" y="4"/>
                  </a:lnTo>
                  <a:lnTo>
                    <a:pt x="920" y="19"/>
                  </a:lnTo>
                  <a:lnTo>
                    <a:pt x="993" y="38"/>
                  </a:lnTo>
                  <a:lnTo>
                    <a:pt x="1066" y="63"/>
                  </a:lnTo>
                  <a:lnTo>
                    <a:pt x="1129" y="97"/>
                  </a:lnTo>
                  <a:lnTo>
                    <a:pt x="1192" y="141"/>
                  </a:lnTo>
                  <a:lnTo>
                    <a:pt x="1251" y="184"/>
                  </a:lnTo>
                  <a:lnTo>
                    <a:pt x="1309" y="238"/>
                  </a:lnTo>
                  <a:lnTo>
                    <a:pt x="1358" y="296"/>
                  </a:lnTo>
                  <a:lnTo>
                    <a:pt x="1401" y="360"/>
                  </a:lnTo>
                  <a:lnTo>
                    <a:pt x="1440" y="423"/>
                  </a:lnTo>
                  <a:lnTo>
                    <a:pt x="1470" y="496"/>
                  </a:lnTo>
                  <a:lnTo>
                    <a:pt x="1499" y="569"/>
                  </a:lnTo>
                  <a:lnTo>
                    <a:pt x="1518" y="647"/>
                  </a:lnTo>
                  <a:lnTo>
                    <a:pt x="1528" y="729"/>
                  </a:lnTo>
                  <a:lnTo>
                    <a:pt x="1533" y="812"/>
                  </a:lnTo>
                  <a:lnTo>
                    <a:pt x="1533" y="812"/>
                  </a:lnTo>
                  <a:lnTo>
                    <a:pt x="1528" y="890"/>
                  </a:lnTo>
                  <a:lnTo>
                    <a:pt x="1518" y="973"/>
                  </a:lnTo>
                  <a:lnTo>
                    <a:pt x="1499" y="1051"/>
                  </a:lnTo>
                  <a:lnTo>
                    <a:pt x="1470" y="1124"/>
                  </a:lnTo>
                  <a:lnTo>
                    <a:pt x="1440" y="1197"/>
                  </a:lnTo>
                  <a:lnTo>
                    <a:pt x="1401" y="1260"/>
                  </a:lnTo>
                  <a:lnTo>
                    <a:pt x="1358" y="1323"/>
                  </a:lnTo>
                  <a:lnTo>
                    <a:pt x="1309" y="1382"/>
                  </a:lnTo>
                  <a:lnTo>
                    <a:pt x="1251" y="1435"/>
                  </a:lnTo>
                  <a:lnTo>
                    <a:pt x="1192" y="1479"/>
                  </a:lnTo>
                  <a:lnTo>
                    <a:pt x="1129" y="1523"/>
                  </a:lnTo>
                  <a:lnTo>
                    <a:pt x="1066" y="1557"/>
                  </a:lnTo>
                  <a:lnTo>
                    <a:pt x="993" y="1581"/>
                  </a:lnTo>
                  <a:lnTo>
                    <a:pt x="920" y="1600"/>
                  </a:lnTo>
                  <a:lnTo>
                    <a:pt x="842" y="1615"/>
                  </a:lnTo>
                  <a:lnTo>
                    <a:pt x="764" y="1620"/>
                  </a:lnTo>
                  <a:lnTo>
                    <a:pt x="764" y="1620"/>
                  </a:lnTo>
                  <a:lnTo>
                    <a:pt x="686" y="1615"/>
                  </a:lnTo>
                  <a:lnTo>
                    <a:pt x="613" y="1600"/>
                  </a:lnTo>
                  <a:lnTo>
                    <a:pt x="540" y="1581"/>
                  </a:lnTo>
                  <a:lnTo>
                    <a:pt x="467" y="1557"/>
                  </a:lnTo>
                  <a:lnTo>
                    <a:pt x="404" y="1523"/>
                  </a:lnTo>
                  <a:lnTo>
                    <a:pt x="341" y="1479"/>
                  </a:lnTo>
                  <a:lnTo>
                    <a:pt x="277" y="1435"/>
                  </a:lnTo>
                  <a:lnTo>
                    <a:pt x="224" y="1382"/>
                  </a:lnTo>
                  <a:lnTo>
                    <a:pt x="175" y="1323"/>
                  </a:lnTo>
                  <a:lnTo>
                    <a:pt x="132" y="1260"/>
                  </a:lnTo>
                  <a:lnTo>
                    <a:pt x="93" y="1197"/>
                  </a:lnTo>
                  <a:lnTo>
                    <a:pt x="59" y="1124"/>
                  </a:lnTo>
                  <a:lnTo>
                    <a:pt x="34" y="1051"/>
                  </a:lnTo>
                  <a:lnTo>
                    <a:pt x="15" y="973"/>
                  </a:lnTo>
                  <a:lnTo>
                    <a:pt x="5" y="890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29"/>
                  </a:lnTo>
                  <a:lnTo>
                    <a:pt x="15" y="647"/>
                  </a:lnTo>
                  <a:lnTo>
                    <a:pt x="34" y="569"/>
                  </a:lnTo>
                  <a:lnTo>
                    <a:pt x="59" y="496"/>
                  </a:lnTo>
                  <a:lnTo>
                    <a:pt x="93" y="423"/>
                  </a:lnTo>
                  <a:lnTo>
                    <a:pt x="132" y="360"/>
                  </a:lnTo>
                  <a:lnTo>
                    <a:pt x="175" y="296"/>
                  </a:lnTo>
                  <a:lnTo>
                    <a:pt x="224" y="238"/>
                  </a:lnTo>
                  <a:lnTo>
                    <a:pt x="277" y="184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8"/>
                  </a:lnTo>
                  <a:lnTo>
                    <a:pt x="613" y="19"/>
                  </a:lnTo>
                  <a:lnTo>
                    <a:pt x="686" y="4"/>
                  </a:lnTo>
                  <a:lnTo>
                    <a:pt x="764" y="0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f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39200" y="1282320"/>
              <a:ext cx="1290600" cy="1570320"/>
            </a:xfrm>
            <a:custGeom>
              <a:avLst/>
              <a:gdLst/>
              <a:ahLst/>
              <a:rect l="l" t="t" r="r" b="b"/>
              <a:pathLst>
                <a:path w="1538" h="1625">
                  <a:moveTo>
                    <a:pt x="769" y="0"/>
                  </a:moveTo>
                  <a:lnTo>
                    <a:pt x="769" y="0"/>
                  </a:lnTo>
                  <a:lnTo>
                    <a:pt x="847" y="5"/>
                  </a:lnTo>
                  <a:lnTo>
                    <a:pt x="925" y="19"/>
                  </a:lnTo>
                  <a:lnTo>
                    <a:pt x="998" y="39"/>
                  </a:lnTo>
                  <a:lnTo>
                    <a:pt x="1066" y="63"/>
                  </a:lnTo>
                  <a:lnTo>
                    <a:pt x="1134" y="97"/>
                  </a:lnTo>
                  <a:lnTo>
                    <a:pt x="1197" y="141"/>
                  </a:lnTo>
                  <a:lnTo>
                    <a:pt x="1256" y="185"/>
                  </a:lnTo>
                  <a:lnTo>
                    <a:pt x="1314" y="238"/>
                  </a:lnTo>
                  <a:lnTo>
                    <a:pt x="1363" y="297"/>
                  </a:lnTo>
                  <a:lnTo>
                    <a:pt x="1406" y="360"/>
                  </a:lnTo>
                  <a:lnTo>
                    <a:pt x="1445" y="428"/>
                  </a:lnTo>
                  <a:lnTo>
                    <a:pt x="1479" y="496"/>
                  </a:lnTo>
                  <a:lnTo>
                    <a:pt x="1504" y="574"/>
                  </a:lnTo>
                  <a:lnTo>
                    <a:pt x="1523" y="652"/>
                  </a:lnTo>
                  <a:lnTo>
                    <a:pt x="1533" y="730"/>
                  </a:lnTo>
                  <a:lnTo>
                    <a:pt x="1538" y="812"/>
                  </a:lnTo>
                  <a:lnTo>
                    <a:pt x="1538" y="812"/>
                  </a:lnTo>
                  <a:lnTo>
                    <a:pt x="1533" y="895"/>
                  </a:lnTo>
                  <a:lnTo>
                    <a:pt x="1523" y="978"/>
                  </a:lnTo>
                  <a:lnTo>
                    <a:pt x="1504" y="1056"/>
                  </a:lnTo>
                  <a:lnTo>
                    <a:pt x="1479" y="1129"/>
                  </a:lnTo>
                  <a:lnTo>
                    <a:pt x="1445" y="1202"/>
                  </a:lnTo>
                  <a:lnTo>
                    <a:pt x="1406" y="1270"/>
                  </a:lnTo>
                  <a:lnTo>
                    <a:pt x="1363" y="1333"/>
                  </a:lnTo>
                  <a:lnTo>
                    <a:pt x="1314" y="1387"/>
                  </a:lnTo>
                  <a:lnTo>
                    <a:pt x="1256" y="1440"/>
                  </a:lnTo>
                  <a:lnTo>
                    <a:pt x="1197" y="1489"/>
                  </a:lnTo>
                  <a:lnTo>
                    <a:pt x="1134" y="1528"/>
                  </a:lnTo>
                  <a:lnTo>
                    <a:pt x="1066" y="1562"/>
                  </a:lnTo>
                  <a:lnTo>
                    <a:pt x="998" y="1591"/>
                  </a:lnTo>
                  <a:lnTo>
                    <a:pt x="925" y="1610"/>
                  </a:lnTo>
                  <a:lnTo>
                    <a:pt x="847" y="1625"/>
                  </a:lnTo>
                  <a:lnTo>
                    <a:pt x="769" y="1625"/>
                  </a:lnTo>
                  <a:lnTo>
                    <a:pt x="769" y="1625"/>
                  </a:lnTo>
                  <a:lnTo>
                    <a:pt x="691" y="1625"/>
                  </a:lnTo>
                  <a:lnTo>
                    <a:pt x="613" y="1610"/>
                  </a:lnTo>
                  <a:lnTo>
                    <a:pt x="540" y="1591"/>
                  </a:lnTo>
                  <a:lnTo>
                    <a:pt x="467" y="1562"/>
                  </a:lnTo>
                  <a:lnTo>
                    <a:pt x="404" y="1528"/>
                  </a:lnTo>
                  <a:lnTo>
                    <a:pt x="341" y="1489"/>
                  </a:lnTo>
                  <a:lnTo>
                    <a:pt x="278" y="1440"/>
                  </a:lnTo>
                  <a:lnTo>
                    <a:pt x="224" y="1387"/>
                  </a:lnTo>
                  <a:lnTo>
                    <a:pt x="175" y="1333"/>
                  </a:lnTo>
                  <a:lnTo>
                    <a:pt x="132" y="1270"/>
                  </a:lnTo>
                  <a:lnTo>
                    <a:pt x="93" y="1202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5" y="895"/>
                  </a:lnTo>
                  <a:lnTo>
                    <a:pt x="0" y="812"/>
                  </a:lnTo>
                  <a:lnTo>
                    <a:pt x="0" y="812"/>
                  </a:lnTo>
                  <a:lnTo>
                    <a:pt x="5" y="730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496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5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67" y="63"/>
                  </a:lnTo>
                  <a:lnTo>
                    <a:pt x="540" y="39"/>
                  </a:lnTo>
                  <a:lnTo>
                    <a:pt x="613" y="19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35240" y="1277280"/>
              <a:ext cx="1294920" cy="1579680"/>
            </a:xfrm>
            <a:custGeom>
              <a:avLst/>
              <a:gdLst/>
              <a:ahLst/>
              <a:rect l="l" t="t" r="r" b="b"/>
              <a:pathLst>
                <a:path w="1543" h="1635">
                  <a:moveTo>
                    <a:pt x="769" y="0"/>
                  </a:moveTo>
                  <a:lnTo>
                    <a:pt x="769" y="0"/>
                  </a:lnTo>
                  <a:lnTo>
                    <a:pt x="852" y="5"/>
                  </a:lnTo>
                  <a:lnTo>
                    <a:pt x="925" y="14"/>
                  </a:lnTo>
                  <a:lnTo>
                    <a:pt x="1003" y="39"/>
                  </a:lnTo>
                  <a:lnTo>
                    <a:pt x="1071" y="63"/>
                  </a:lnTo>
                  <a:lnTo>
                    <a:pt x="1139" y="97"/>
                  </a:lnTo>
                  <a:lnTo>
                    <a:pt x="1202" y="141"/>
                  </a:lnTo>
                  <a:lnTo>
                    <a:pt x="1261" y="185"/>
                  </a:lnTo>
                  <a:lnTo>
                    <a:pt x="1319" y="238"/>
                  </a:lnTo>
                  <a:lnTo>
                    <a:pt x="1368" y="297"/>
                  </a:lnTo>
                  <a:lnTo>
                    <a:pt x="1411" y="360"/>
                  </a:lnTo>
                  <a:lnTo>
                    <a:pt x="1450" y="428"/>
                  </a:lnTo>
                  <a:lnTo>
                    <a:pt x="1484" y="501"/>
                  </a:lnTo>
                  <a:lnTo>
                    <a:pt x="1509" y="574"/>
                  </a:lnTo>
                  <a:lnTo>
                    <a:pt x="1528" y="652"/>
                  </a:lnTo>
                  <a:lnTo>
                    <a:pt x="1543" y="735"/>
                  </a:lnTo>
                  <a:lnTo>
                    <a:pt x="1543" y="817"/>
                  </a:lnTo>
                  <a:lnTo>
                    <a:pt x="1543" y="817"/>
                  </a:lnTo>
                  <a:lnTo>
                    <a:pt x="1543" y="900"/>
                  </a:lnTo>
                  <a:lnTo>
                    <a:pt x="1528" y="983"/>
                  </a:lnTo>
                  <a:lnTo>
                    <a:pt x="1509" y="1061"/>
                  </a:lnTo>
                  <a:lnTo>
                    <a:pt x="1484" y="1134"/>
                  </a:lnTo>
                  <a:lnTo>
                    <a:pt x="1450" y="1207"/>
                  </a:lnTo>
                  <a:lnTo>
                    <a:pt x="1411" y="1275"/>
                  </a:lnTo>
                  <a:lnTo>
                    <a:pt x="1368" y="1338"/>
                  </a:lnTo>
                  <a:lnTo>
                    <a:pt x="1319" y="1396"/>
                  </a:lnTo>
                  <a:lnTo>
                    <a:pt x="1261" y="1450"/>
                  </a:lnTo>
                  <a:lnTo>
                    <a:pt x="1202" y="1494"/>
                  </a:lnTo>
                  <a:lnTo>
                    <a:pt x="1139" y="1537"/>
                  </a:lnTo>
                  <a:lnTo>
                    <a:pt x="1071" y="1572"/>
                  </a:lnTo>
                  <a:lnTo>
                    <a:pt x="1003" y="1596"/>
                  </a:lnTo>
                  <a:lnTo>
                    <a:pt x="925" y="1620"/>
                  </a:lnTo>
                  <a:lnTo>
                    <a:pt x="852" y="1630"/>
                  </a:lnTo>
                  <a:lnTo>
                    <a:pt x="769" y="1635"/>
                  </a:lnTo>
                  <a:lnTo>
                    <a:pt x="769" y="1635"/>
                  </a:lnTo>
                  <a:lnTo>
                    <a:pt x="691" y="1630"/>
                  </a:lnTo>
                  <a:lnTo>
                    <a:pt x="618" y="1620"/>
                  </a:lnTo>
                  <a:lnTo>
                    <a:pt x="540" y="1596"/>
                  </a:lnTo>
                  <a:lnTo>
                    <a:pt x="472" y="1572"/>
                  </a:lnTo>
                  <a:lnTo>
                    <a:pt x="404" y="1537"/>
                  </a:lnTo>
                  <a:lnTo>
                    <a:pt x="341" y="1494"/>
                  </a:lnTo>
                  <a:lnTo>
                    <a:pt x="278" y="1450"/>
                  </a:lnTo>
                  <a:lnTo>
                    <a:pt x="224" y="1396"/>
                  </a:lnTo>
                  <a:lnTo>
                    <a:pt x="176" y="1338"/>
                  </a:lnTo>
                  <a:lnTo>
                    <a:pt x="132" y="1275"/>
                  </a:lnTo>
                  <a:lnTo>
                    <a:pt x="93" y="1207"/>
                  </a:lnTo>
                  <a:lnTo>
                    <a:pt x="59" y="1134"/>
                  </a:lnTo>
                  <a:lnTo>
                    <a:pt x="34" y="1061"/>
                  </a:lnTo>
                  <a:lnTo>
                    <a:pt x="15" y="983"/>
                  </a:lnTo>
                  <a:lnTo>
                    <a:pt x="0" y="900"/>
                  </a:lnTo>
                  <a:lnTo>
                    <a:pt x="0" y="817"/>
                  </a:lnTo>
                  <a:lnTo>
                    <a:pt x="0" y="817"/>
                  </a:lnTo>
                  <a:lnTo>
                    <a:pt x="0" y="735"/>
                  </a:lnTo>
                  <a:lnTo>
                    <a:pt x="15" y="652"/>
                  </a:lnTo>
                  <a:lnTo>
                    <a:pt x="34" y="574"/>
                  </a:lnTo>
                  <a:lnTo>
                    <a:pt x="59" y="501"/>
                  </a:lnTo>
                  <a:lnTo>
                    <a:pt x="93" y="428"/>
                  </a:lnTo>
                  <a:lnTo>
                    <a:pt x="132" y="360"/>
                  </a:lnTo>
                  <a:lnTo>
                    <a:pt x="176" y="297"/>
                  </a:lnTo>
                  <a:lnTo>
                    <a:pt x="224" y="238"/>
                  </a:lnTo>
                  <a:lnTo>
                    <a:pt x="278" y="185"/>
                  </a:lnTo>
                  <a:lnTo>
                    <a:pt x="341" y="141"/>
                  </a:lnTo>
                  <a:lnTo>
                    <a:pt x="404" y="97"/>
                  </a:lnTo>
                  <a:lnTo>
                    <a:pt x="472" y="63"/>
                  </a:lnTo>
                  <a:lnTo>
                    <a:pt x="540" y="39"/>
                  </a:lnTo>
                  <a:lnTo>
                    <a:pt x="618" y="14"/>
                  </a:lnTo>
                  <a:lnTo>
                    <a:pt x="691" y="5"/>
                  </a:lnTo>
                  <a:lnTo>
                    <a:pt x="769" y="0"/>
                  </a:lnTo>
                  <a:lnTo>
                    <a:pt x="769" y="0"/>
                  </a:lnTo>
                  <a:close/>
                </a:path>
              </a:pathLst>
            </a:custGeom>
            <a:solidFill>
              <a:srgbClr val="fc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27680" y="1272600"/>
              <a:ext cx="1306440" cy="1589400"/>
            </a:xfrm>
            <a:custGeom>
              <a:avLst/>
              <a:gdLst/>
              <a:ahLst/>
              <a:rect l="l" t="t" r="r" b="b"/>
              <a:pathLst>
                <a:path w="1557" h="1645">
                  <a:moveTo>
                    <a:pt x="778" y="0"/>
                  </a:moveTo>
                  <a:lnTo>
                    <a:pt x="778" y="0"/>
                  </a:lnTo>
                  <a:lnTo>
                    <a:pt x="856" y="5"/>
                  </a:lnTo>
                  <a:lnTo>
                    <a:pt x="934" y="15"/>
                  </a:lnTo>
                  <a:lnTo>
                    <a:pt x="1007" y="39"/>
                  </a:lnTo>
                  <a:lnTo>
                    <a:pt x="1080" y="63"/>
                  </a:lnTo>
                  <a:lnTo>
                    <a:pt x="1148" y="97"/>
                  </a:lnTo>
                  <a:lnTo>
                    <a:pt x="1211" y="141"/>
                  </a:lnTo>
                  <a:lnTo>
                    <a:pt x="1270" y="190"/>
                  </a:lnTo>
                  <a:lnTo>
                    <a:pt x="1328" y="238"/>
                  </a:lnTo>
                  <a:lnTo>
                    <a:pt x="1377" y="297"/>
                  </a:lnTo>
                  <a:lnTo>
                    <a:pt x="1420" y="360"/>
                  </a:lnTo>
                  <a:lnTo>
                    <a:pt x="1459" y="428"/>
                  </a:lnTo>
                  <a:lnTo>
                    <a:pt x="1493" y="501"/>
                  </a:lnTo>
                  <a:lnTo>
                    <a:pt x="1518" y="579"/>
                  </a:lnTo>
                  <a:lnTo>
                    <a:pt x="1537" y="657"/>
                  </a:lnTo>
                  <a:lnTo>
                    <a:pt x="1552" y="740"/>
                  </a:lnTo>
                  <a:lnTo>
                    <a:pt x="1557" y="822"/>
                  </a:lnTo>
                  <a:lnTo>
                    <a:pt x="1557" y="822"/>
                  </a:lnTo>
                  <a:lnTo>
                    <a:pt x="1552" y="905"/>
                  </a:lnTo>
                  <a:lnTo>
                    <a:pt x="1537" y="988"/>
                  </a:lnTo>
                  <a:lnTo>
                    <a:pt x="1518" y="1066"/>
                  </a:lnTo>
                  <a:lnTo>
                    <a:pt x="1493" y="1139"/>
                  </a:lnTo>
                  <a:lnTo>
                    <a:pt x="1459" y="1212"/>
                  </a:lnTo>
                  <a:lnTo>
                    <a:pt x="1420" y="1280"/>
                  </a:lnTo>
                  <a:lnTo>
                    <a:pt x="1377" y="1343"/>
                  </a:lnTo>
                  <a:lnTo>
                    <a:pt x="1328" y="1401"/>
                  </a:lnTo>
                  <a:lnTo>
                    <a:pt x="1270" y="1455"/>
                  </a:lnTo>
                  <a:lnTo>
                    <a:pt x="1211" y="1504"/>
                  </a:lnTo>
                  <a:lnTo>
                    <a:pt x="1148" y="1542"/>
                  </a:lnTo>
                  <a:lnTo>
                    <a:pt x="1080" y="1577"/>
                  </a:lnTo>
                  <a:lnTo>
                    <a:pt x="1007" y="1606"/>
                  </a:lnTo>
                  <a:lnTo>
                    <a:pt x="934" y="1625"/>
                  </a:lnTo>
                  <a:lnTo>
                    <a:pt x="856" y="1640"/>
                  </a:lnTo>
                  <a:lnTo>
                    <a:pt x="778" y="1645"/>
                  </a:lnTo>
                  <a:lnTo>
                    <a:pt x="778" y="1645"/>
                  </a:lnTo>
                  <a:lnTo>
                    <a:pt x="700" y="1640"/>
                  </a:lnTo>
                  <a:lnTo>
                    <a:pt x="622" y="1625"/>
                  </a:lnTo>
                  <a:lnTo>
                    <a:pt x="549" y="1606"/>
                  </a:lnTo>
                  <a:lnTo>
                    <a:pt x="477" y="1577"/>
                  </a:lnTo>
                  <a:lnTo>
                    <a:pt x="408" y="1542"/>
                  </a:lnTo>
                  <a:lnTo>
                    <a:pt x="345" y="1504"/>
                  </a:lnTo>
                  <a:lnTo>
                    <a:pt x="287" y="1455"/>
                  </a:lnTo>
                  <a:lnTo>
                    <a:pt x="228" y="1401"/>
                  </a:lnTo>
                  <a:lnTo>
                    <a:pt x="180" y="1343"/>
                  </a:lnTo>
                  <a:lnTo>
                    <a:pt x="136" y="1280"/>
                  </a:lnTo>
                  <a:lnTo>
                    <a:pt x="97" y="1212"/>
                  </a:lnTo>
                  <a:lnTo>
                    <a:pt x="63" y="1139"/>
                  </a:lnTo>
                  <a:lnTo>
                    <a:pt x="39" y="1066"/>
                  </a:lnTo>
                  <a:lnTo>
                    <a:pt x="19" y="988"/>
                  </a:lnTo>
                  <a:lnTo>
                    <a:pt x="5" y="905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9" y="657"/>
                  </a:lnTo>
                  <a:lnTo>
                    <a:pt x="39" y="579"/>
                  </a:lnTo>
                  <a:lnTo>
                    <a:pt x="63" y="501"/>
                  </a:lnTo>
                  <a:lnTo>
                    <a:pt x="97" y="428"/>
                  </a:lnTo>
                  <a:lnTo>
                    <a:pt x="136" y="360"/>
                  </a:lnTo>
                  <a:lnTo>
                    <a:pt x="180" y="297"/>
                  </a:lnTo>
                  <a:lnTo>
                    <a:pt x="228" y="238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8" y="97"/>
                  </a:lnTo>
                  <a:lnTo>
                    <a:pt x="477" y="63"/>
                  </a:lnTo>
                  <a:lnTo>
                    <a:pt x="549" y="39"/>
                  </a:lnTo>
                  <a:lnTo>
                    <a:pt x="622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23360" y="1267920"/>
              <a:ext cx="1310760" cy="1594080"/>
            </a:xfrm>
            <a:custGeom>
              <a:avLst/>
              <a:gdLst/>
              <a:ahLst/>
              <a:rect l="l" t="t" r="r" b="b"/>
              <a:pathLst>
                <a:path w="1562" h="1650">
                  <a:moveTo>
                    <a:pt x="778" y="0"/>
                  </a:moveTo>
                  <a:lnTo>
                    <a:pt x="778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2" y="34"/>
                  </a:lnTo>
                  <a:lnTo>
                    <a:pt x="1085" y="63"/>
                  </a:lnTo>
                  <a:lnTo>
                    <a:pt x="1153" y="97"/>
                  </a:lnTo>
                  <a:lnTo>
                    <a:pt x="1216" y="141"/>
                  </a:lnTo>
                  <a:lnTo>
                    <a:pt x="1275" y="190"/>
                  </a:lnTo>
                  <a:lnTo>
                    <a:pt x="1333" y="243"/>
                  </a:lnTo>
                  <a:lnTo>
                    <a:pt x="1382" y="302"/>
                  </a:lnTo>
                  <a:lnTo>
                    <a:pt x="1425" y="365"/>
                  </a:lnTo>
                  <a:lnTo>
                    <a:pt x="1469" y="433"/>
                  </a:lnTo>
                  <a:lnTo>
                    <a:pt x="1498" y="506"/>
                  </a:lnTo>
                  <a:lnTo>
                    <a:pt x="1528" y="579"/>
                  </a:lnTo>
                  <a:lnTo>
                    <a:pt x="1547" y="657"/>
                  </a:lnTo>
                  <a:lnTo>
                    <a:pt x="1557" y="740"/>
                  </a:lnTo>
                  <a:lnTo>
                    <a:pt x="1562" y="822"/>
                  </a:lnTo>
                  <a:lnTo>
                    <a:pt x="1562" y="822"/>
                  </a:lnTo>
                  <a:lnTo>
                    <a:pt x="1557" y="910"/>
                  </a:lnTo>
                  <a:lnTo>
                    <a:pt x="1547" y="993"/>
                  </a:lnTo>
                  <a:lnTo>
                    <a:pt x="1528" y="1071"/>
                  </a:lnTo>
                  <a:lnTo>
                    <a:pt x="1498" y="1144"/>
                  </a:lnTo>
                  <a:lnTo>
                    <a:pt x="1469" y="1217"/>
                  </a:lnTo>
                  <a:lnTo>
                    <a:pt x="1425" y="1285"/>
                  </a:lnTo>
                  <a:lnTo>
                    <a:pt x="1382" y="1348"/>
                  </a:lnTo>
                  <a:lnTo>
                    <a:pt x="1333" y="1406"/>
                  </a:lnTo>
                  <a:lnTo>
                    <a:pt x="1275" y="1460"/>
                  </a:lnTo>
                  <a:lnTo>
                    <a:pt x="1216" y="1509"/>
                  </a:lnTo>
                  <a:lnTo>
                    <a:pt x="1153" y="1552"/>
                  </a:lnTo>
                  <a:lnTo>
                    <a:pt x="1085" y="1586"/>
                  </a:lnTo>
                  <a:lnTo>
                    <a:pt x="1012" y="1611"/>
                  </a:lnTo>
                  <a:lnTo>
                    <a:pt x="939" y="1635"/>
                  </a:lnTo>
                  <a:lnTo>
                    <a:pt x="861" y="1645"/>
                  </a:lnTo>
                  <a:lnTo>
                    <a:pt x="778" y="1650"/>
                  </a:lnTo>
                  <a:lnTo>
                    <a:pt x="778" y="1650"/>
                  </a:lnTo>
                  <a:lnTo>
                    <a:pt x="700" y="1645"/>
                  </a:lnTo>
                  <a:lnTo>
                    <a:pt x="623" y="1635"/>
                  </a:lnTo>
                  <a:lnTo>
                    <a:pt x="550" y="1611"/>
                  </a:lnTo>
                  <a:lnTo>
                    <a:pt x="477" y="1586"/>
                  </a:lnTo>
                  <a:lnTo>
                    <a:pt x="409" y="1552"/>
                  </a:lnTo>
                  <a:lnTo>
                    <a:pt x="345" y="1509"/>
                  </a:lnTo>
                  <a:lnTo>
                    <a:pt x="287" y="1460"/>
                  </a:lnTo>
                  <a:lnTo>
                    <a:pt x="229" y="1406"/>
                  </a:lnTo>
                  <a:lnTo>
                    <a:pt x="180" y="1348"/>
                  </a:lnTo>
                  <a:lnTo>
                    <a:pt x="136" y="1285"/>
                  </a:lnTo>
                  <a:lnTo>
                    <a:pt x="92" y="1217"/>
                  </a:lnTo>
                  <a:lnTo>
                    <a:pt x="63" y="1144"/>
                  </a:lnTo>
                  <a:lnTo>
                    <a:pt x="34" y="1071"/>
                  </a:lnTo>
                  <a:lnTo>
                    <a:pt x="14" y="993"/>
                  </a:lnTo>
                  <a:lnTo>
                    <a:pt x="5" y="910"/>
                  </a:lnTo>
                  <a:lnTo>
                    <a:pt x="0" y="822"/>
                  </a:lnTo>
                  <a:lnTo>
                    <a:pt x="0" y="822"/>
                  </a:lnTo>
                  <a:lnTo>
                    <a:pt x="5" y="740"/>
                  </a:lnTo>
                  <a:lnTo>
                    <a:pt x="14" y="657"/>
                  </a:lnTo>
                  <a:lnTo>
                    <a:pt x="34" y="579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6" y="365"/>
                  </a:lnTo>
                  <a:lnTo>
                    <a:pt x="180" y="302"/>
                  </a:lnTo>
                  <a:lnTo>
                    <a:pt x="229" y="243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7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3" y="15"/>
                  </a:lnTo>
                  <a:lnTo>
                    <a:pt x="700" y="5"/>
                  </a:lnTo>
                  <a:lnTo>
                    <a:pt x="778" y="0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a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19400" y="1262880"/>
              <a:ext cx="1314720" cy="1603800"/>
            </a:xfrm>
            <a:custGeom>
              <a:avLst/>
              <a:gdLst/>
              <a:ahLst/>
              <a:rect l="l" t="t" r="r" b="b"/>
              <a:pathLst>
                <a:path w="1567" h="1660">
                  <a:moveTo>
                    <a:pt x="783" y="0"/>
                  </a:moveTo>
                  <a:lnTo>
                    <a:pt x="783" y="0"/>
                  </a:lnTo>
                  <a:lnTo>
                    <a:pt x="861" y="5"/>
                  </a:lnTo>
                  <a:lnTo>
                    <a:pt x="939" y="15"/>
                  </a:lnTo>
                  <a:lnTo>
                    <a:pt x="1017" y="34"/>
                  </a:lnTo>
                  <a:lnTo>
                    <a:pt x="1090" y="63"/>
                  </a:lnTo>
                  <a:lnTo>
                    <a:pt x="1158" y="98"/>
                  </a:lnTo>
                  <a:lnTo>
                    <a:pt x="1221" y="141"/>
                  </a:lnTo>
                  <a:lnTo>
                    <a:pt x="1280" y="190"/>
                  </a:lnTo>
                  <a:lnTo>
                    <a:pt x="1338" y="244"/>
                  </a:lnTo>
                  <a:lnTo>
                    <a:pt x="1387" y="302"/>
                  </a:lnTo>
                  <a:lnTo>
                    <a:pt x="1435" y="365"/>
                  </a:lnTo>
                  <a:lnTo>
                    <a:pt x="1474" y="433"/>
                  </a:lnTo>
                  <a:lnTo>
                    <a:pt x="1508" y="506"/>
                  </a:lnTo>
                  <a:lnTo>
                    <a:pt x="1533" y="584"/>
                  </a:lnTo>
                  <a:lnTo>
                    <a:pt x="1552" y="662"/>
                  </a:lnTo>
                  <a:lnTo>
                    <a:pt x="1562" y="745"/>
                  </a:lnTo>
                  <a:lnTo>
                    <a:pt x="1567" y="827"/>
                  </a:lnTo>
                  <a:lnTo>
                    <a:pt x="1567" y="827"/>
                  </a:lnTo>
                  <a:lnTo>
                    <a:pt x="1562" y="915"/>
                  </a:lnTo>
                  <a:lnTo>
                    <a:pt x="1552" y="998"/>
                  </a:lnTo>
                  <a:lnTo>
                    <a:pt x="1533" y="1076"/>
                  </a:lnTo>
                  <a:lnTo>
                    <a:pt x="1508" y="1149"/>
                  </a:lnTo>
                  <a:lnTo>
                    <a:pt x="1474" y="1222"/>
                  </a:lnTo>
                  <a:lnTo>
                    <a:pt x="1435" y="1290"/>
                  </a:lnTo>
                  <a:lnTo>
                    <a:pt x="1387" y="1358"/>
                  </a:lnTo>
                  <a:lnTo>
                    <a:pt x="1338" y="1416"/>
                  </a:lnTo>
                  <a:lnTo>
                    <a:pt x="1280" y="1470"/>
                  </a:lnTo>
                  <a:lnTo>
                    <a:pt x="1221" y="1514"/>
                  </a:lnTo>
                  <a:lnTo>
                    <a:pt x="1158" y="1557"/>
                  </a:lnTo>
                  <a:lnTo>
                    <a:pt x="1090" y="1591"/>
                  </a:lnTo>
                  <a:lnTo>
                    <a:pt x="1017" y="1621"/>
                  </a:lnTo>
                  <a:lnTo>
                    <a:pt x="939" y="1640"/>
                  </a:lnTo>
                  <a:lnTo>
                    <a:pt x="861" y="1655"/>
                  </a:lnTo>
                  <a:lnTo>
                    <a:pt x="783" y="1660"/>
                  </a:lnTo>
                  <a:lnTo>
                    <a:pt x="783" y="1660"/>
                  </a:lnTo>
                  <a:lnTo>
                    <a:pt x="705" y="1655"/>
                  </a:lnTo>
                  <a:lnTo>
                    <a:pt x="628" y="1640"/>
                  </a:lnTo>
                  <a:lnTo>
                    <a:pt x="550" y="1621"/>
                  </a:lnTo>
                  <a:lnTo>
                    <a:pt x="477" y="1591"/>
                  </a:lnTo>
                  <a:lnTo>
                    <a:pt x="409" y="1557"/>
                  </a:lnTo>
                  <a:lnTo>
                    <a:pt x="345" y="1514"/>
                  </a:lnTo>
                  <a:lnTo>
                    <a:pt x="287" y="1470"/>
                  </a:lnTo>
                  <a:lnTo>
                    <a:pt x="229" y="1416"/>
                  </a:lnTo>
                  <a:lnTo>
                    <a:pt x="180" y="1358"/>
                  </a:lnTo>
                  <a:lnTo>
                    <a:pt x="131" y="1290"/>
                  </a:lnTo>
                  <a:lnTo>
                    <a:pt x="92" y="1222"/>
                  </a:lnTo>
                  <a:lnTo>
                    <a:pt x="63" y="1149"/>
                  </a:lnTo>
                  <a:lnTo>
                    <a:pt x="34" y="1076"/>
                  </a:lnTo>
                  <a:lnTo>
                    <a:pt x="15" y="998"/>
                  </a:lnTo>
                  <a:lnTo>
                    <a:pt x="5" y="915"/>
                  </a:lnTo>
                  <a:lnTo>
                    <a:pt x="0" y="827"/>
                  </a:lnTo>
                  <a:lnTo>
                    <a:pt x="0" y="827"/>
                  </a:lnTo>
                  <a:lnTo>
                    <a:pt x="5" y="745"/>
                  </a:lnTo>
                  <a:lnTo>
                    <a:pt x="15" y="662"/>
                  </a:lnTo>
                  <a:lnTo>
                    <a:pt x="34" y="584"/>
                  </a:lnTo>
                  <a:lnTo>
                    <a:pt x="63" y="506"/>
                  </a:lnTo>
                  <a:lnTo>
                    <a:pt x="92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5" y="141"/>
                  </a:lnTo>
                  <a:lnTo>
                    <a:pt x="409" y="98"/>
                  </a:lnTo>
                  <a:lnTo>
                    <a:pt x="477" y="63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5" y="5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a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15080" y="1258200"/>
              <a:ext cx="1322280" cy="1608840"/>
            </a:xfrm>
            <a:custGeom>
              <a:avLst/>
              <a:gdLst/>
              <a:ahLst/>
              <a:rect l="l" t="t" r="r" b="b"/>
              <a:pathLst>
                <a:path w="1576" h="1665">
                  <a:moveTo>
                    <a:pt x="788" y="0"/>
                  </a:moveTo>
                  <a:lnTo>
                    <a:pt x="788" y="0"/>
                  </a:lnTo>
                  <a:lnTo>
                    <a:pt x="866" y="5"/>
                  </a:lnTo>
                  <a:lnTo>
                    <a:pt x="944" y="15"/>
                  </a:lnTo>
                  <a:lnTo>
                    <a:pt x="1022" y="34"/>
                  </a:lnTo>
                  <a:lnTo>
                    <a:pt x="1090" y="64"/>
                  </a:lnTo>
                  <a:lnTo>
                    <a:pt x="1163" y="98"/>
                  </a:lnTo>
                  <a:lnTo>
                    <a:pt x="1226" y="141"/>
                  </a:lnTo>
                  <a:lnTo>
                    <a:pt x="1285" y="190"/>
                  </a:lnTo>
                  <a:lnTo>
                    <a:pt x="1343" y="244"/>
                  </a:lnTo>
                  <a:lnTo>
                    <a:pt x="1392" y="302"/>
                  </a:lnTo>
                  <a:lnTo>
                    <a:pt x="1440" y="365"/>
                  </a:lnTo>
                  <a:lnTo>
                    <a:pt x="1479" y="433"/>
                  </a:lnTo>
                  <a:lnTo>
                    <a:pt x="1513" y="506"/>
                  </a:lnTo>
                  <a:lnTo>
                    <a:pt x="1538" y="584"/>
                  </a:lnTo>
                  <a:lnTo>
                    <a:pt x="1557" y="667"/>
                  </a:lnTo>
                  <a:lnTo>
                    <a:pt x="1572" y="745"/>
                  </a:lnTo>
                  <a:lnTo>
                    <a:pt x="1576" y="832"/>
                  </a:lnTo>
                  <a:lnTo>
                    <a:pt x="1576" y="832"/>
                  </a:lnTo>
                  <a:lnTo>
                    <a:pt x="1572" y="915"/>
                  </a:lnTo>
                  <a:lnTo>
                    <a:pt x="1557" y="998"/>
                  </a:lnTo>
                  <a:lnTo>
                    <a:pt x="1538" y="1081"/>
                  </a:lnTo>
                  <a:lnTo>
                    <a:pt x="1513" y="1158"/>
                  </a:lnTo>
                  <a:lnTo>
                    <a:pt x="1479" y="1227"/>
                  </a:lnTo>
                  <a:lnTo>
                    <a:pt x="1440" y="1300"/>
                  </a:lnTo>
                  <a:lnTo>
                    <a:pt x="1392" y="1363"/>
                  </a:lnTo>
                  <a:lnTo>
                    <a:pt x="1343" y="1421"/>
                  </a:lnTo>
                  <a:lnTo>
                    <a:pt x="1285" y="1475"/>
                  </a:lnTo>
                  <a:lnTo>
                    <a:pt x="1226" y="1523"/>
                  </a:lnTo>
                  <a:lnTo>
                    <a:pt x="1163" y="1567"/>
                  </a:lnTo>
                  <a:lnTo>
                    <a:pt x="1090" y="1601"/>
                  </a:lnTo>
                  <a:lnTo>
                    <a:pt x="1022" y="1630"/>
                  </a:lnTo>
                  <a:lnTo>
                    <a:pt x="944" y="1650"/>
                  </a:lnTo>
                  <a:lnTo>
                    <a:pt x="866" y="1660"/>
                  </a:lnTo>
                  <a:lnTo>
                    <a:pt x="788" y="1665"/>
                  </a:lnTo>
                  <a:lnTo>
                    <a:pt x="788" y="1665"/>
                  </a:lnTo>
                  <a:lnTo>
                    <a:pt x="706" y="1660"/>
                  </a:lnTo>
                  <a:lnTo>
                    <a:pt x="628" y="1650"/>
                  </a:lnTo>
                  <a:lnTo>
                    <a:pt x="550" y="1630"/>
                  </a:lnTo>
                  <a:lnTo>
                    <a:pt x="482" y="1601"/>
                  </a:lnTo>
                  <a:lnTo>
                    <a:pt x="409" y="1567"/>
                  </a:lnTo>
                  <a:lnTo>
                    <a:pt x="346" y="1523"/>
                  </a:lnTo>
                  <a:lnTo>
                    <a:pt x="287" y="1475"/>
                  </a:lnTo>
                  <a:lnTo>
                    <a:pt x="229" y="1421"/>
                  </a:lnTo>
                  <a:lnTo>
                    <a:pt x="180" y="1363"/>
                  </a:lnTo>
                  <a:lnTo>
                    <a:pt x="131" y="1300"/>
                  </a:lnTo>
                  <a:lnTo>
                    <a:pt x="93" y="1227"/>
                  </a:lnTo>
                  <a:lnTo>
                    <a:pt x="58" y="1158"/>
                  </a:lnTo>
                  <a:lnTo>
                    <a:pt x="34" y="1081"/>
                  </a:lnTo>
                  <a:lnTo>
                    <a:pt x="15" y="998"/>
                  </a:lnTo>
                  <a:lnTo>
                    <a:pt x="0" y="915"/>
                  </a:lnTo>
                  <a:lnTo>
                    <a:pt x="0" y="832"/>
                  </a:lnTo>
                  <a:lnTo>
                    <a:pt x="0" y="832"/>
                  </a:lnTo>
                  <a:lnTo>
                    <a:pt x="0" y="745"/>
                  </a:lnTo>
                  <a:lnTo>
                    <a:pt x="15" y="667"/>
                  </a:lnTo>
                  <a:lnTo>
                    <a:pt x="34" y="584"/>
                  </a:lnTo>
                  <a:lnTo>
                    <a:pt x="58" y="506"/>
                  </a:lnTo>
                  <a:lnTo>
                    <a:pt x="93" y="433"/>
                  </a:lnTo>
                  <a:lnTo>
                    <a:pt x="131" y="365"/>
                  </a:lnTo>
                  <a:lnTo>
                    <a:pt x="180" y="302"/>
                  </a:lnTo>
                  <a:lnTo>
                    <a:pt x="229" y="244"/>
                  </a:lnTo>
                  <a:lnTo>
                    <a:pt x="287" y="190"/>
                  </a:lnTo>
                  <a:lnTo>
                    <a:pt x="346" y="141"/>
                  </a:lnTo>
                  <a:lnTo>
                    <a:pt x="409" y="98"/>
                  </a:lnTo>
                  <a:lnTo>
                    <a:pt x="482" y="64"/>
                  </a:lnTo>
                  <a:lnTo>
                    <a:pt x="550" y="34"/>
                  </a:lnTo>
                  <a:lnTo>
                    <a:pt x="628" y="15"/>
                  </a:lnTo>
                  <a:lnTo>
                    <a:pt x="706" y="5"/>
                  </a:lnTo>
                  <a:lnTo>
                    <a:pt x="788" y="0"/>
                  </a:lnTo>
                  <a:lnTo>
                    <a:pt x="788" y="0"/>
                  </a:lnTo>
                  <a:close/>
                </a:path>
              </a:pathLst>
            </a:custGeom>
            <a:solidFill>
              <a:srgbClr val="fa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06440" y="1253160"/>
              <a:ext cx="1330920" cy="1617480"/>
            </a:xfrm>
            <a:custGeom>
              <a:avLst/>
              <a:gdLst/>
              <a:ahLst/>
              <a:rect l="l" t="t" r="r" b="b"/>
              <a:pathLst>
                <a:path w="1586" h="1674">
                  <a:moveTo>
                    <a:pt x="793" y="0"/>
                  </a:moveTo>
                  <a:lnTo>
                    <a:pt x="793" y="0"/>
                  </a:lnTo>
                  <a:lnTo>
                    <a:pt x="876" y="0"/>
                  </a:lnTo>
                  <a:lnTo>
                    <a:pt x="954" y="15"/>
                  </a:lnTo>
                  <a:lnTo>
                    <a:pt x="1027" y="35"/>
                  </a:lnTo>
                  <a:lnTo>
                    <a:pt x="1100" y="64"/>
                  </a:lnTo>
                  <a:lnTo>
                    <a:pt x="1173" y="98"/>
                  </a:lnTo>
                  <a:lnTo>
                    <a:pt x="1236" y="142"/>
                  </a:lnTo>
                  <a:lnTo>
                    <a:pt x="1295" y="190"/>
                  </a:lnTo>
                  <a:lnTo>
                    <a:pt x="1353" y="244"/>
                  </a:lnTo>
                  <a:lnTo>
                    <a:pt x="1406" y="302"/>
                  </a:lnTo>
                  <a:lnTo>
                    <a:pt x="1450" y="370"/>
                  </a:lnTo>
                  <a:lnTo>
                    <a:pt x="1489" y="438"/>
                  </a:lnTo>
                  <a:lnTo>
                    <a:pt x="1523" y="511"/>
                  </a:lnTo>
                  <a:lnTo>
                    <a:pt x="1548" y="589"/>
                  </a:lnTo>
                  <a:lnTo>
                    <a:pt x="1567" y="667"/>
                  </a:lnTo>
                  <a:lnTo>
                    <a:pt x="1582" y="750"/>
                  </a:lnTo>
                  <a:lnTo>
                    <a:pt x="1586" y="837"/>
                  </a:lnTo>
                  <a:lnTo>
                    <a:pt x="1586" y="837"/>
                  </a:lnTo>
                  <a:lnTo>
                    <a:pt x="1582" y="920"/>
                  </a:lnTo>
                  <a:lnTo>
                    <a:pt x="1567" y="1003"/>
                  </a:lnTo>
                  <a:lnTo>
                    <a:pt x="1548" y="1086"/>
                  </a:lnTo>
                  <a:lnTo>
                    <a:pt x="1523" y="1163"/>
                  </a:lnTo>
                  <a:lnTo>
                    <a:pt x="1489" y="1236"/>
                  </a:lnTo>
                  <a:lnTo>
                    <a:pt x="1450" y="1305"/>
                  </a:lnTo>
                  <a:lnTo>
                    <a:pt x="1406" y="1368"/>
                  </a:lnTo>
                  <a:lnTo>
                    <a:pt x="1353" y="1426"/>
                  </a:lnTo>
                  <a:lnTo>
                    <a:pt x="1295" y="1480"/>
                  </a:lnTo>
                  <a:lnTo>
                    <a:pt x="1236" y="1528"/>
                  </a:lnTo>
                  <a:lnTo>
                    <a:pt x="1173" y="1572"/>
                  </a:lnTo>
                  <a:lnTo>
                    <a:pt x="1100" y="1606"/>
                  </a:lnTo>
                  <a:lnTo>
                    <a:pt x="1027" y="1635"/>
                  </a:lnTo>
                  <a:lnTo>
                    <a:pt x="954" y="1655"/>
                  </a:lnTo>
                  <a:lnTo>
                    <a:pt x="876" y="1670"/>
                  </a:lnTo>
                  <a:lnTo>
                    <a:pt x="793" y="1674"/>
                  </a:lnTo>
                  <a:lnTo>
                    <a:pt x="793" y="1674"/>
                  </a:lnTo>
                  <a:lnTo>
                    <a:pt x="711" y="1670"/>
                  </a:lnTo>
                  <a:lnTo>
                    <a:pt x="633" y="1655"/>
                  </a:lnTo>
                  <a:lnTo>
                    <a:pt x="560" y="1635"/>
                  </a:lnTo>
                  <a:lnTo>
                    <a:pt x="487" y="1606"/>
                  </a:lnTo>
                  <a:lnTo>
                    <a:pt x="419" y="1572"/>
                  </a:lnTo>
                  <a:lnTo>
                    <a:pt x="351" y="1528"/>
                  </a:lnTo>
                  <a:lnTo>
                    <a:pt x="292" y="1480"/>
                  </a:lnTo>
                  <a:lnTo>
                    <a:pt x="234" y="1426"/>
                  </a:lnTo>
                  <a:lnTo>
                    <a:pt x="185" y="1368"/>
                  </a:lnTo>
                  <a:lnTo>
                    <a:pt x="137" y="1305"/>
                  </a:lnTo>
                  <a:lnTo>
                    <a:pt x="98" y="1236"/>
                  </a:lnTo>
                  <a:lnTo>
                    <a:pt x="64" y="1163"/>
                  </a:lnTo>
                  <a:lnTo>
                    <a:pt x="39" y="1086"/>
                  </a:lnTo>
                  <a:lnTo>
                    <a:pt x="20" y="1003"/>
                  </a:lnTo>
                  <a:lnTo>
                    <a:pt x="5" y="920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5" y="750"/>
                  </a:lnTo>
                  <a:lnTo>
                    <a:pt x="20" y="667"/>
                  </a:lnTo>
                  <a:lnTo>
                    <a:pt x="39" y="589"/>
                  </a:lnTo>
                  <a:lnTo>
                    <a:pt x="64" y="511"/>
                  </a:lnTo>
                  <a:lnTo>
                    <a:pt x="98" y="438"/>
                  </a:lnTo>
                  <a:lnTo>
                    <a:pt x="137" y="370"/>
                  </a:lnTo>
                  <a:lnTo>
                    <a:pt x="185" y="302"/>
                  </a:lnTo>
                  <a:lnTo>
                    <a:pt x="234" y="244"/>
                  </a:lnTo>
                  <a:lnTo>
                    <a:pt x="292" y="190"/>
                  </a:lnTo>
                  <a:lnTo>
                    <a:pt x="351" y="142"/>
                  </a:lnTo>
                  <a:lnTo>
                    <a:pt x="419" y="98"/>
                  </a:lnTo>
                  <a:lnTo>
                    <a:pt x="487" y="64"/>
                  </a:lnTo>
                  <a:lnTo>
                    <a:pt x="560" y="35"/>
                  </a:lnTo>
                  <a:lnTo>
                    <a:pt x="633" y="15"/>
                  </a:lnTo>
                  <a:lnTo>
                    <a:pt x="711" y="0"/>
                  </a:lnTo>
                  <a:lnTo>
                    <a:pt x="793" y="0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fa9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03200" y="1249200"/>
              <a:ext cx="1334160" cy="1621440"/>
            </a:xfrm>
            <a:custGeom>
              <a:avLst/>
              <a:gdLst/>
              <a:ahLst/>
              <a:rect l="l" t="t" r="r" b="b"/>
              <a:pathLst>
                <a:path w="1590" h="1678">
                  <a:moveTo>
                    <a:pt x="797" y="0"/>
                  </a:moveTo>
                  <a:lnTo>
                    <a:pt x="797" y="0"/>
                  </a:lnTo>
                  <a:lnTo>
                    <a:pt x="875" y="0"/>
                  </a:lnTo>
                  <a:lnTo>
                    <a:pt x="953" y="14"/>
                  </a:lnTo>
                  <a:lnTo>
                    <a:pt x="1031" y="34"/>
                  </a:lnTo>
                  <a:lnTo>
                    <a:pt x="1104" y="63"/>
                  </a:lnTo>
                  <a:lnTo>
                    <a:pt x="1172" y="97"/>
                  </a:lnTo>
                  <a:lnTo>
                    <a:pt x="1240" y="141"/>
                  </a:lnTo>
                  <a:lnTo>
                    <a:pt x="1299" y="189"/>
                  </a:lnTo>
                  <a:lnTo>
                    <a:pt x="1357" y="243"/>
                  </a:lnTo>
                  <a:lnTo>
                    <a:pt x="1410" y="306"/>
                  </a:lnTo>
                  <a:lnTo>
                    <a:pt x="1454" y="369"/>
                  </a:lnTo>
                  <a:lnTo>
                    <a:pt x="1493" y="438"/>
                  </a:lnTo>
                  <a:lnTo>
                    <a:pt x="1527" y="511"/>
                  </a:lnTo>
                  <a:lnTo>
                    <a:pt x="1556" y="588"/>
                  </a:lnTo>
                  <a:lnTo>
                    <a:pt x="1576" y="671"/>
                  </a:lnTo>
                  <a:lnTo>
                    <a:pt x="1586" y="754"/>
                  </a:lnTo>
                  <a:lnTo>
                    <a:pt x="1590" y="837"/>
                  </a:lnTo>
                  <a:lnTo>
                    <a:pt x="1590" y="837"/>
                  </a:lnTo>
                  <a:lnTo>
                    <a:pt x="1586" y="924"/>
                  </a:lnTo>
                  <a:lnTo>
                    <a:pt x="1576" y="1007"/>
                  </a:lnTo>
                  <a:lnTo>
                    <a:pt x="1556" y="1090"/>
                  </a:lnTo>
                  <a:lnTo>
                    <a:pt x="1527" y="1167"/>
                  </a:lnTo>
                  <a:lnTo>
                    <a:pt x="1493" y="1240"/>
                  </a:lnTo>
                  <a:lnTo>
                    <a:pt x="1454" y="1309"/>
                  </a:lnTo>
                  <a:lnTo>
                    <a:pt x="1410" y="1372"/>
                  </a:lnTo>
                  <a:lnTo>
                    <a:pt x="1357" y="1435"/>
                  </a:lnTo>
                  <a:lnTo>
                    <a:pt x="1299" y="1489"/>
                  </a:lnTo>
                  <a:lnTo>
                    <a:pt x="1240" y="1537"/>
                  </a:lnTo>
                  <a:lnTo>
                    <a:pt x="1172" y="1576"/>
                  </a:lnTo>
                  <a:lnTo>
                    <a:pt x="1104" y="1615"/>
                  </a:lnTo>
                  <a:lnTo>
                    <a:pt x="1031" y="1644"/>
                  </a:lnTo>
                  <a:lnTo>
                    <a:pt x="953" y="1664"/>
                  </a:lnTo>
                  <a:lnTo>
                    <a:pt x="875" y="1674"/>
                  </a:lnTo>
                  <a:lnTo>
                    <a:pt x="797" y="1678"/>
                  </a:lnTo>
                  <a:lnTo>
                    <a:pt x="797" y="1678"/>
                  </a:lnTo>
                  <a:lnTo>
                    <a:pt x="715" y="1674"/>
                  </a:lnTo>
                  <a:lnTo>
                    <a:pt x="637" y="1664"/>
                  </a:lnTo>
                  <a:lnTo>
                    <a:pt x="559" y="1644"/>
                  </a:lnTo>
                  <a:lnTo>
                    <a:pt x="486" y="1615"/>
                  </a:lnTo>
                  <a:lnTo>
                    <a:pt x="418" y="1576"/>
                  </a:lnTo>
                  <a:lnTo>
                    <a:pt x="350" y="1537"/>
                  </a:lnTo>
                  <a:lnTo>
                    <a:pt x="291" y="1489"/>
                  </a:lnTo>
                  <a:lnTo>
                    <a:pt x="233" y="1435"/>
                  </a:lnTo>
                  <a:lnTo>
                    <a:pt x="180" y="1372"/>
                  </a:lnTo>
                  <a:lnTo>
                    <a:pt x="136" y="1309"/>
                  </a:lnTo>
                  <a:lnTo>
                    <a:pt x="97" y="1240"/>
                  </a:lnTo>
                  <a:lnTo>
                    <a:pt x="63" y="1167"/>
                  </a:lnTo>
                  <a:lnTo>
                    <a:pt x="34" y="1090"/>
                  </a:lnTo>
                  <a:lnTo>
                    <a:pt x="14" y="1007"/>
                  </a:lnTo>
                  <a:lnTo>
                    <a:pt x="4" y="924"/>
                  </a:lnTo>
                  <a:lnTo>
                    <a:pt x="0" y="837"/>
                  </a:lnTo>
                  <a:lnTo>
                    <a:pt x="0" y="837"/>
                  </a:lnTo>
                  <a:lnTo>
                    <a:pt x="4" y="754"/>
                  </a:lnTo>
                  <a:lnTo>
                    <a:pt x="14" y="671"/>
                  </a:lnTo>
                  <a:lnTo>
                    <a:pt x="34" y="588"/>
                  </a:lnTo>
                  <a:lnTo>
                    <a:pt x="63" y="511"/>
                  </a:lnTo>
                  <a:lnTo>
                    <a:pt x="97" y="438"/>
                  </a:lnTo>
                  <a:lnTo>
                    <a:pt x="136" y="369"/>
                  </a:lnTo>
                  <a:lnTo>
                    <a:pt x="180" y="306"/>
                  </a:lnTo>
                  <a:lnTo>
                    <a:pt x="233" y="243"/>
                  </a:lnTo>
                  <a:lnTo>
                    <a:pt x="291" y="189"/>
                  </a:lnTo>
                  <a:lnTo>
                    <a:pt x="350" y="141"/>
                  </a:lnTo>
                  <a:lnTo>
                    <a:pt x="418" y="97"/>
                  </a:lnTo>
                  <a:lnTo>
                    <a:pt x="486" y="63"/>
                  </a:lnTo>
                  <a:lnTo>
                    <a:pt x="559" y="34"/>
                  </a:lnTo>
                  <a:lnTo>
                    <a:pt x="637" y="14"/>
                  </a:lnTo>
                  <a:lnTo>
                    <a:pt x="715" y="0"/>
                  </a:lnTo>
                  <a:lnTo>
                    <a:pt x="797" y="0"/>
                  </a:lnTo>
                  <a:lnTo>
                    <a:pt x="797" y="0"/>
                  </a:lnTo>
                  <a:close/>
                </a:path>
              </a:pathLst>
            </a:custGeom>
            <a:solidFill>
              <a:srgbClr val="fa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99240" y="1239840"/>
              <a:ext cx="1338120" cy="1635840"/>
            </a:xfrm>
            <a:custGeom>
              <a:avLst/>
              <a:gdLst/>
              <a:ahLst/>
              <a:rect l="l" t="t" r="r" b="b"/>
              <a:pathLst>
                <a:path w="1595" h="1693">
                  <a:moveTo>
                    <a:pt x="798" y="0"/>
                  </a:moveTo>
                  <a:lnTo>
                    <a:pt x="798" y="0"/>
                  </a:lnTo>
                  <a:lnTo>
                    <a:pt x="880" y="5"/>
                  </a:lnTo>
                  <a:lnTo>
                    <a:pt x="958" y="19"/>
                  </a:lnTo>
                  <a:lnTo>
                    <a:pt x="1036" y="39"/>
                  </a:lnTo>
                  <a:lnTo>
                    <a:pt x="1109" y="68"/>
                  </a:lnTo>
                  <a:lnTo>
                    <a:pt x="1177" y="102"/>
                  </a:lnTo>
                  <a:lnTo>
                    <a:pt x="1245" y="146"/>
                  </a:lnTo>
                  <a:lnTo>
                    <a:pt x="1308" y="195"/>
                  </a:lnTo>
                  <a:lnTo>
                    <a:pt x="1362" y="248"/>
                  </a:lnTo>
                  <a:lnTo>
                    <a:pt x="1415" y="311"/>
                  </a:lnTo>
                  <a:lnTo>
                    <a:pt x="1459" y="375"/>
                  </a:lnTo>
                  <a:lnTo>
                    <a:pt x="1503" y="443"/>
                  </a:lnTo>
                  <a:lnTo>
                    <a:pt x="1532" y="521"/>
                  </a:lnTo>
                  <a:lnTo>
                    <a:pt x="1561" y="598"/>
                  </a:lnTo>
                  <a:lnTo>
                    <a:pt x="1581" y="676"/>
                  </a:lnTo>
                  <a:lnTo>
                    <a:pt x="1595" y="759"/>
                  </a:lnTo>
                  <a:lnTo>
                    <a:pt x="1595" y="847"/>
                  </a:lnTo>
                  <a:lnTo>
                    <a:pt x="1595" y="847"/>
                  </a:lnTo>
                  <a:lnTo>
                    <a:pt x="1595" y="934"/>
                  </a:lnTo>
                  <a:lnTo>
                    <a:pt x="1581" y="1017"/>
                  </a:lnTo>
                  <a:lnTo>
                    <a:pt x="1561" y="1100"/>
                  </a:lnTo>
                  <a:lnTo>
                    <a:pt x="1532" y="1177"/>
                  </a:lnTo>
                  <a:lnTo>
                    <a:pt x="1503" y="1250"/>
                  </a:lnTo>
                  <a:lnTo>
                    <a:pt x="1459" y="1319"/>
                  </a:lnTo>
                  <a:lnTo>
                    <a:pt x="1415" y="1387"/>
                  </a:lnTo>
                  <a:lnTo>
                    <a:pt x="1362" y="1445"/>
                  </a:lnTo>
                  <a:lnTo>
                    <a:pt x="1308" y="1499"/>
                  </a:lnTo>
                  <a:lnTo>
                    <a:pt x="1245" y="1547"/>
                  </a:lnTo>
                  <a:lnTo>
                    <a:pt x="1177" y="1591"/>
                  </a:lnTo>
                  <a:lnTo>
                    <a:pt x="1109" y="1625"/>
                  </a:lnTo>
                  <a:lnTo>
                    <a:pt x="1036" y="1654"/>
                  </a:lnTo>
                  <a:lnTo>
                    <a:pt x="958" y="1674"/>
                  </a:lnTo>
                  <a:lnTo>
                    <a:pt x="880" y="1688"/>
                  </a:lnTo>
                  <a:lnTo>
                    <a:pt x="798" y="1693"/>
                  </a:lnTo>
                  <a:lnTo>
                    <a:pt x="798" y="1693"/>
                  </a:lnTo>
                  <a:lnTo>
                    <a:pt x="715" y="1688"/>
                  </a:lnTo>
                  <a:lnTo>
                    <a:pt x="637" y="1674"/>
                  </a:lnTo>
                  <a:lnTo>
                    <a:pt x="559" y="1654"/>
                  </a:lnTo>
                  <a:lnTo>
                    <a:pt x="486" y="1625"/>
                  </a:lnTo>
                  <a:lnTo>
                    <a:pt x="418" y="1591"/>
                  </a:lnTo>
                  <a:lnTo>
                    <a:pt x="350" y="1547"/>
                  </a:lnTo>
                  <a:lnTo>
                    <a:pt x="292" y="1499"/>
                  </a:lnTo>
                  <a:lnTo>
                    <a:pt x="233" y="1445"/>
                  </a:lnTo>
                  <a:lnTo>
                    <a:pt x="180" y="1387"/>
                  </a:lnTo>
                  <a:lnTo>
                    <a:pt x="136" y="1319"/>
                  </a:lnTo>
                  <a:lnTo>
                    <a:pt x="97" y="1250"/>
                  </a:lnTo>
                  <a:lnTo>
                    <a:pt x="63" y="1177"/>
                  </a:lnTo>
                  <a:lnTo>
                    <a:pt x="34" y="1100"/>
                  </a:lnTo>
                  <a:lnTo>
                    <a:pt x="14" y="1017"/>
                  </a:lnTo>
                  <a:lnTo>
                    <a:pt x="5" y="934"/>
                  </a:lnTo>
                  <a:lnTo>
                    <a:pt x="0" y="847"/>
                  </a:lnTo>
                  <a:lnTo>
                    <a:pt x="0" y="847"/>
                  </a:lnTo>
                  <a:lnTo>
                    <a:pt x="5" y="759"/>
                  </a:lnTo>
                  <a:lnTo>
                    <a:pt x="14" y="676"/>
                  </a:lnTo>
                  <a:lnTo>
                    <a:pt x="34" y="598"/>
                  </a:lnTo>
                  <a:lnTo>
                    <a:pt x="63" y="521"/>
                  </a:lnTo>
                  <a:lnTo>
                    <a:pt x="97" y="443"/>
                  </a:lnTo>
                  <a:lnTo>
                    <a:pt x="136" y="375"/>
                  </a:lnTo>
                  <a:lnTo>
                    <a:pt x="180" y="311"/>
                  </a:lnTo>
                  <a:lnTo>
                    <a:pt x="233" y="248"/>
                  </a:lnTo>
                  <a:lnTo>
                    <a:pt x="292" y="195"/>
                  </a:lnTo>
                  <a:lnTo>
                    <a:pt x="350" y="146"/>
                  </a:lnTo>
                  <a:lnTo>
                    <a:pt x="418" y="102"/>
                  </a:lnTo>
                  <a:lnTo>
                    <a:pt x="486" y="68"/>
                  </a:lnTo>
                  <a:lnTo>
                    <a:pt x="559" y="39"/>
                  </a:lnTo>
                  <a:lnTo>
                    <a:pt x="637" y="19"/>
                  </a:lnTo>
                  <a:lnTo>
                    <a:pt x="715" y="5"/>
                  </a:lnTo>
                  <a:lnTo>
                    <a:pt x="798" y="0"/>
                  </a:lnTo>
                  <a:lnTo>
                    <a:pt x="798" y="0"/>
                  </a:lnTo>
                  <a:close/>
                </a:path>
              </a:pathLst>
            </a:custGeom>
            <a:solidFill>
              <a:srgbClr val="fa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39200" y="1258200"/>
              <a:ext cx="1269720" cy="1571040"/>
            </a:xfrm>
            <a:custGeom>
              <a:avLst/>
              <a:gdLst/>
              <a:ahLst/>
              <a:rect l="l" t="t" r="r" b="b"/>
              <a:pathLst>
                <a:path w="1513" h="1626">
                  <a:moveTo>
                    <a:pt x="754" y="0"/>
                  </a:moveTo>
                  <a:lnTo>
                    <a:pt x="754" y="0"/>
                  </a:lnTo>
                  <a:lnTo>
                    <a:pt x="832" y="5"/>
                  </a:lnTo>
                  <a:lnTo>
                    <a:pt x="910" y="15"/>
                  </a:lnTo>
                  <a:lnTo>
                    <a:pt x="983" y="34"/>
                  </a:lnTo>
                  <a:lnTo>
                    <a:pt x="1051" y="64"/>
                  </a:lnTo>
                  <a:lnTo>
                    <a:pt x="1119" y="98"/>
                  </a:lnTo>
                  <a:lnTo>
                    <a:pt x="1183" y="141"/>
                  </a:lnTo>
                  <a:lnTo>
                    <a:pt x="1241" y="185"/>
                  </a:lnTo>
                  <a:lnTo>
                    <a:pt x="1294" y="239"/>
                  </a:lnTo>
                  <a:lnTo>
                    <a:pt x="1343" y="297"/>
                  </a:lnTo>
                  <a:lnTo>
                    <a:pt x="1387" y="360"/>
                  </a:lnTo>
                  <a:lnTo>
                    <a:pt x="1426" y="424"/>
                  </a:lnTo>
                  <a:lnTo>
                    <a:pt x="1455" y="497"/>
                  </a:lnTo>
                  <a:lnTo>
                    <a:pt x="1479" y="570"/>
                  </a:lnTo>
                  <a:lnTo>
                    <a:pt x="1499" y="648"/>
                  </a:lnTo>
                  <a:lnTo>
                    <a:pt x="1513" y="730"/>
                  </a:lnTo>
                  <a:lnTo>
                    <a:pt x="1513" y="813"/>
                  </a:lnTo>
                  <a:lnTo>
                    <a:pt x="1513" y="813"/>
                  </a:lnTo>
                  <a:lnTo>
                    <a:pt x="1513" y="896"/>
                  </a:lnTo>
                  <a:lnTo>
                    <a:pt x="1499" y="978"/>
                  </a:lnTo>
                  <a:lnTo>
                    <a:pt x="1479" y="1056"/>
                  </a:lnTo>
                  <a:lnTo>
                    <a:pt x="1455" y="1129"/>
                  </a:lnTo>
                  <a:lnTo>
                    <a:pt x="1426" y="1197"/>
                  </a:lnTo>
                  <a:lnTo>
                    <a:pt x="1387" y="1266"/>
                  </a:lnTo>
                  <a:lnTo>
                    <a:pt x="1343" y="1329"/>
                  </a:lnTo>
                  <a:lnTo>
                    <a:pt x="1294" y="1387"/>
                  </a:lnTo>
                  <a:lnTo>
                    <a:pt x="1241" y="1441"/>
                  </a:lnTo>
                  <a:lnTo>
                    <a:pt x="1183" y="1484"/>
                  </a:lnTo>
                  <a:lnTo>
                    <a:pt x="1119" y="1528"/>
                  </a:lnTo>
                  <a:lnTo>
                    <a:pt x="1051" y="1562"/>
                  </a:lnTo>
                  <a:lnTo>
                    <a:pt x="983" y="1587"/>
                  </a:lnTo>
                  <a:lnTo>
                    <a:pt x="910" y="1611"/>
                  </a:lnTo>
                  <a:lnTo>
                    <a:pt x="832" y="1621"/>
                  </a:lnTo>
                  <a:lnTo>
                    <a:pt x="754" y="1626"/>
                  </a:lnTo>
                  <a:lnTo>
                    <a:pt x="754" y="1626"/>
                  </a:lnTo>
                  <a:lnTo>
                    <a:pt x="681" y="1621"/>
                  </a:lnTo>
                  <a:lnTo>
                    <a:pt x="604" y="1611"/>
                  </a:lnTo>
                  <a:lnTo>
                    <a:pt x="531" y="1587"/>
                  </a:lnTo>
                  <a:lnTo>
                    <a:pt x="463" y="1562"/>
                  </a:lnTo>
                  <a:lnTo>
                    <a:pt x="394" y="1528"/>
                  </a:lnTo>
                  <a:lnTo>
                    <a:pt x="331" y="1484"/>
                  </a:lnTo>
                  <a:lnTo>
                    <a:pt x="273" y="1441"/>
                  </a:lnTo>
                  <a:lnTo>
                    <a:pt x="219" y="1387"/>
                  </a:lnTo>
                  <a:lnTo>
                    <a:pt x="171" y="1329"/>
                  </a:lnTo>
                  <a:lnTo>
                    <a:pt x="127" y="1266"/>
                  </a:lnTo>
                  <a:lnTo>
                    <a:pt x="88" y="1197"/>
                  </a:lnTo>
                  <a:lnTo>
                    <a:pt x="59" y="1129"/>
                  </a:lnTo>
                  <a:lnTo>
                    <a:pt x="34" y="1056"/>
                  </a:lnTo>
                  <a:lnTo>
                    <a:pt x="15" y="978"/>
                  </a:lnTo>
                  <a:lnTo>
                    <a:pt x="0" y="896"/>
                  </a:lnTo>
                  <a:lnTo>
                    <a:pt x="0" y="813"/>
                  </a:lnTo>
                  <a:lnTo>
                    <a:pt x="0" y="813"/>
                  </a:lnTo>
                  <a:lnTo>
                    <a:pt x="0" y="730"/>
                  </a:lnTo>
                  <a:lnTo>
                    <a:pt x="15" y="648"/>
                  </a:lnTo>
                  <a:lnTo>
                    <a:pt x="34" y="570"/>
                  </a:lnTo>
                  <a:lnTo>
                    <a:pt x="59" y="497"/>
                  </a:lnTo>
                  <a:lnTo>
                    <a:pt x="88" y="424"/>
                  </a:lnTo>
                  <a:lnTo>
                    <a:pt x="127" y="360"/>
                  </a:lnTo>
                  <a:lnTo>
                    <a:pt x="171" y="297"/>
                  </a:lnTo>
                  <a:lnTo>
                    <a:pt x="219" y="239"/>
                  </a:lnTo>
                  <a:lnTo>
                    <a:pt x="273" y="185"/>
                  </a:lnTo>
                  <a:lnTo>
                    <a:pt x="331" y="141"/>
                  </a:lnTo>
                  <a:lnTo>
                    <a:pt x="394" y="98"/>
                  </a:lnTo>
                  <a:lnTo>
                    <a:pt x="463" y="64"/>
                  </a:lnTo>
                  <a:lnTo>
                    <a:pt x="531" y="34"/>
                  </a:lnTo>
                  <a:lnTo>
                    <a:pt x="604" y="15"/>
                  </a:lnTo>
                  <a:lnTo>
                    <a:pt x="681" y="5"/>
                  </a:lnTo>
                  <a:lnTo>
                    <a:pt x="754" y="0"/>
                  </a:lnTo>
                  <a:lnTo>
                    <a:pt x="754" y="0"/>
                  </a:lnTo>
                  <a:close/>
                </a:path>
              </a:pathLst>
            </a:custGeom>
            <a:solidFill>
              <a:srgbClr val="ff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56120" y="1282320"/>
              <a:ext cx="1240920" cy="1527480"/>
            </a:xfrm>
            <a:custGeom>
              <a:avLst/>
              <a:gdLst/>
              <a:ahLst/>
              <a:rect l="l" t="t" r="r" b="b"/>
              <a:pathLst>
                <a:path w="1479" h="1581">
                  <a:moveTo>
                    <a:pt x="739" y="0"/>
                  </a:moveTo>
                  <a:lnTo>
                    <a:pt x="739" y="0"/>
                  </a:lnTo>
                  <a:lnTo>
                    <a:pt x="817" y="5"/>
                  </a:lnTo>
                  <a:lnTo>
                    <a:pt x="890" y="14"/>
                  </a:lnTo>
                  <a:lnTo>
                    <a:pt x="958" y="34"/>
                  </a:lnTo>
                  <a:lnTo>
                    <a:pt x="1026" y="63"/>
                  </a:lnTo>
                  <a:lnTo>
                    <a:pt x="1094" y="97"/>
                  </a:lnTo>
                  <a:lnTo>
                    <a:pt x="1153" y="136"/>
                  </a:lnTo>
                  <a:lnTo>
                    <a:pt x="1211" y="180"/>
                  </a:lnTo>
                  <a:lnTo>
                    <a:pt x="1265" y="233"/>
                  </a:lnTo>
                  <a:lnTo>
                    <a:pt x="1313" y="287"/>
                  </a:lnTo>
                  <a:lnTo>
                    <a:pt x="1352" y="350"/>
                  </a:lnTo>
                  <a:lnTo>
                    <a:pt x="1391" y="413"/>
                  </a:lnTo>
                  <a:lnTo>
                    <a:pt x="1420" y="486"/>
                  </a:lnTo>
                  <a:lnTo>
                    <a:pt x="1450" y="559"/>
                  </a:lnTo>
                  <a:lnTo>
                    <a:pt x="1464" y="632"/>
                  </a:lnTo>
                  <a:lnTo>
                    <a:pt x="1479" y="710"/>
                  </a:lnTo>
                  <a:lnTo>
                    <a:pt x="1479" y="793"/>
                  </a:lnTo>
                  <a:lnTo>
                    <a:pt x="1479" y="793"/>
                  </a:lnTo>
                  <a:lnTo>
                    <a:pt x="1479" y="871"/>
                  </a:lnTo>
                  <a:lnTo>
                    <a:pt x="1464" y="949"/>
                  </a:lnTo>
                  <a:lnTo>
                    <a:pt x="1450" y="1026"/>
                  </a:lnTo>
                  <a:lnTo>
                    <a:pt x="1420" y="1099"/>
                  </a:lnTo>
                  <a:lnTo>
                    <a:pt x="1391" y="1168"/>
                  </a:lnTo>
                  <a:lnTo>
                    <a:pt x="1352" y="1236"/>
                  </a:lnTo>
                  <a:lnTo>
                    <a:pt x="1313" y="1294"/>
                  </a:lnTo>
                  <a:lnTo>
                    <a:pt x="1265" y="1352"/>
                  </a:lnTo>
                  <a:lnTo>
                    <a:pt x="1211" y="1401"/>
                  </a:lnTo>
                  <a:lnTo>
                    <a:pt x="1153" y="1450"/>
                  </a:lnTo>
                  <a:lnTo>
                    <a:pt x="1094" y="1489"/>
                  </a:lnTo>
                  <a:lnTo>
                    <a:pt x="1026" y="1523"/>
                  </a:lnTo>
                  <a:lnTo>
                    <a:pt x="958" y="1547"/>
                  </a:lnTo>
                  <a:lnTo>
                    <a:pt x="890" y="1567"/>
                  </a:lnTo>
                  <a:lnTo>
                    <a:pt x="817" y="1581"/>
                  </a:lnTo>
                  <a:lnTo>
                    <a:pt x="739" y="1581"/>
                  </a:lnTo>
                  <a:lnTo>
                    <a:pt x="739" y="1581"/>
                  </a:lnTo>
                  <a:lnTo>
                    <a:pt x="666" y="1581"/>
                  </a:lnTo>
                  <a:lnTo>
                    <a:pt x="593" y="1567"/>
                  </a:lnTo>
                  <a:lnTo>
                    <a:pt x="520" y="1547"/>
                  </a:lnTo>
                  <a:lnTo>
                    <a:pt x="452" y="1523"/>
                  </a:lnTo>
                  <a:lnTo>
                    <a:pt x="389" y="1489"/>
                  </a:lnTo>
                  <a:lnTo>
                    <a:pt x="326" y="1450"/>
                  </a:lnTo>
                  <a:lnTo>
                    <a:pt x="272" y="1401"/>
                  </a:lnTo>
                  <a:lnTo>
                    <a:pt x="219" y="1352"/>
                  </a:lnTo>
                  <a:lnTo>
                    <a:pt x="170" y="1294"/>
                  </a:lnTo>
                  <a:lnTo>
                    <a:pt x="126" y="1236"/>
                  </a:lnTo>
                  <a:lnTo>
                    <a:pt x="92" y="1168"/>
                  </a:lnTo>
                  <a:lnTo>
                    <a:pt x="58" y="1099"/>
                  </a:lnTo>
                  <a:lnTo>
                    <a:pt x="34" y="1026"/>
                  </a:lnTo>
                  <a:lnTo>
                    <a:pt x="14" y="949"/>
                  </a:lnTo>
                  <a:lnTo>
                    <a:pt x="5" y="871"/>
                  </a:lnTo>
                  <a:lnTo>
                    <a:pt x="0" y="793"/>
                  </a:lnTo>
                  <a:lnTo>
                    <a:pt x="0" y="793"/>
                  </a:lnTo>
                  <a:lnTo>
                    <a:pt x="5" y="710"/>
                  </a:lnTo>
                  <a:lnTo>
                    <a:pt x="14" y="632"/>
                  </a:lnTo>
                  <a:lnTo>
                    <a:pt x="34" y="559"/>
                  </a:lnTo>
                  <a:lnTo>
                    <a:pt x="58" y="486"/>
                  </a:lnTo>
                  <a:lnTo>
                    <a:pt x="92" y="413"/>
                  </a:lnTo>
                  <a:lnTo>
                    <a:pt x="126" y="350"/>
                  </a:lnTo>
                  <a:lnTo>
                    <a:pt x="170" y="287"/>
                  </a:lnTo>
                  <a:lnTo>
                    <a:pt x="219" y="233"/>
                  </a:lnTo>
                  <a:lnTo>
                    <a:pt x="272" y="180"/>
                  </a:lnTo>
                  <a:lnTo>
                    <a:pt x="326" y="136"/>
                  </a:lnTo>
                  <a:lnTo>
                    <a:pt x="389" y="97"/>
                  </a:lnTo>
                  <a:lnTo>
                    <a:pt x="452" y="63"/>
                  </a:lnTo>
                  <a:lnTo>
                    <a:pt x="520" y="34"/>
                  </a:lnTo>
                  <a:lnTo>
                    <a:pt x="593" y="14"/>
                  </a:lnTo>
                  <a:lnTo>
                    <a:pt x="666" y="5"/>
                  </a:lnTo>
                  <a:lnTo>
                    <a:pt x="739" y="0"/>
                  </a:lnTo>
                  <a:lnTo>
                    <a:pt x="739" y="0"/>
                  </a:lnTo>
                  <a:close/>
                </a:path>
              </a:pathLst>
            </a:custGeom>
            <a:solidFill>
              <a:srgbClr val="ff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76280" y="1305360"/>
              <a:ext cx="1212480" cy="1490760"/>
            </a:xfrm>
            <a:custGeom>
              <a:avLst/>
              <a:gdLst/>
              <a:ahLst/>
              <a:rect l="l" t="t" r="r" b="b"/>
              <a:pathLst>
                <a:path w="1445" h="1543">
                  <a:moveTo>
                    <a:pt x="720" y="0"/>
                  </a:moveTo>
                  <a:lnTo>
                    <a:pt x="720" y="0"/>
                  </a:lnTo>
                  <a:lnTo>
                    <a:pt x="793" y="5"/>
                  </a:lnTo>
                  <a:lnTo>
                    <a:pt x="866" y="19"/>
                  </a:lnTo>
                  <a:lnTo>
                    <a:pt x="934" y="34"/>
                  </a:lnTo>
                  <a:lnTo>
                    <a:pt x="1002" y="63"/>
                  </a:lnTo>
                  <a:lnTo>
                    <a:pt x="1066" y="97"/>
                  </a:lnTo>
                  <a:lnTo>
                    <a:pt x="1124" y="131"/>
                  </a:lnTo>
                  <a:lnTo>
                    <a:pt x="1178" y="180"/>
                  </a:lnTo>
                  <a:lnTo>
                    <a:pt x="1231" y="229"/>
                  </a:lnTo>
                  <a:lnTo>
                    <a:pt x="1280" y="282"/>
                  </a:lnTo>
                  <a:lnTo>
                    <a:pt x="1319" y="341"/>
                  </a:lnTo>
                  <a:lnTo>
                    <a:pt x="1358" y="404"/>
                  </a:lnTo>
                  <a:lnTo>
                    <a:pt x="1387" y="472"/>
                  </a:lnTo>
                  <a:lnTo>
                    <a:pt x="1411" y="545"/>
                  </a:lnTo>
                  <a:lnTo>
                    <a:pt x="1431" y="618"/>
                  </a:lnTo>
                  <a:lnTo>
                    <a:pt x="1440" y="691"/>
                  </a:lnTo>
                  <a:lnTo>
                    <a:pt x="1445" y="774"/>
                  </a:lnTo>
                  <a:lnTo>
                    <a:pt x="1445" y="774"/>
                  </a:lnTo>
                  <a:lnTo>
                    <a:pt x="1440" y="852"/>
                  </a:lnTo>
                  <a:lnTo>
                    <a:pt x="1431" y="925"/>
                  </a:lnTo>
                  <a:lnTo>
                    <a:pt x="1411" y="1002"/>
                  </a:lnTo>
                  <a:lnTo>
                    <a:pt x="1387" y="1071"/>
                  </a:lnTo>
                  <a:lnTo>
                    <a:pt x="1358" y="1139"/>
                  </a:lnTo>
                  <a:lnTo>
                    <a:pt x="1319" y="1202"/>
                  </a:lnTo>
                  <a:lnTo>
                    <a:pt x="1280" y="1260"/>
                  </a:lnTo>
                  <a:lnTo>
                    <a:pt x="1231" y="1314"/>
                  </a:lnTo>
                  <a:lnTo>
                    <a:pt x="1178" y="1367"/>
                  </a:lnTo>
                  <a:lnTo>
                    <a:pt x="1124" y="1411"/>
                  </a:lnTo>
                  <a:lnTo>
                    <a:pt x="1066" y="1450"/>
                  </a:lnTo>
                  <a:lnTo>
                    <a:pt x="1002" y="1479"/>
                  </a:lnTo>
                  <a:lnTo>
                    <a:pt x="934" y="1508"/>
                  </a:lnTo>
                  <a:lnTo>
                    <a:pt x="866" y="1528"/>
                  </a:lnTo>
                  <a:lnTo>
                    <a:pt x="793" y="1538"/>
                  </a:lnTo>
                  <a:lnTo>
                    <a:pt x="720" y="1543"/>
                  </a:lnTo>
                  <a:lnTo>
                    <a:pt x="720" y="1543"/>
                  </a:lnTo>
                  <a:lnTo>
                    <a:pt x="647" y="1538"/>
                  </a:lnTo>
                  <a:lnTo>
                    <a:pt x="574" y="1528"/>
                  </a:lnTo>
                  <a:lnTo>
                    <a:pt x="506" y="1508"/>
                  </a:lnTo>
                  <a:lnTo>
                    <a:pt x="438" y="1479"/>
                  </a:lnTo>
                  <a:lnTo>
                    <a:pt x="375" y="1450"/>
                  </a:lnTo>
                  <a:lnTo>
                    <a:pt x="316" y="1411"/>
                  </a:lnTo>
                  <a:lnTo>
                    <a:pt x="263" y="1367"/>
                  </a:lnTo>
                  <a:lnTo>
                    <a:pt x="209" y="1314"/>
                  </a:lnTo>
                  <a:lnTo>
                    <a:pt x="166" y="1260"/>
                  </a:lnTo>
                  <a:lnTo>
                    <a:pt x="122" y="1202"/>
                  </a:lnTo>
                  <a:lnTo>
                    <a:pt x="88" y="1139"/>
                  </a:lnTo>
                  <a:lnTo>
                    <a:pt x="54" y="1071"/>
                  </a:lnTo>
                  <a:lnTo>
                    <a:pt x="29" y="1002"/>
                  </a:lnTo>
                  <a:lnTo>
                    <a:pt x="15" y="925"/>
                  </a:lnTo>
                  <a:lnTo>
                    <a:pt x="0" y="852"/>
                  </a:lnTo>
                  <a:lnTo>
                    <a:pt x="0" y="774"/>
                  </a:lnTo>
                  <a:lnTo>
                    <a:pt x="0" y="774"/>
                  </a:lnTo>
                  <a:lnTo>
                    <a:pt x="0" y="691"/>
                  </a:lnTo>
                  <a:lnTo>
                    <a:pt x="15" y="618"/>
                  </a:lnTo>
                  <a:lnTo>
                    <a:pt x="29" y="545"/>
                  </a:lnTo>
                  <a:lnTo>
                    <a:pt x="54" y="472"/>
                  </a:lnTo>
                  <a:lnTo>
                    <a:pt x="88" y="404"/>
                  </a:lnTo>
                  <a:lnTo>
                    <a:pt x="122" y="341"/>
                  </a:lnTo>
                  <a:lnTo>
                    <a:pt x="166" y="282"/>
                  </a:lnTo>
                  <a:lnTo>
                    <a:pt x="209" y="229"/>
                  </a:lnTo>
                  <a:lnTo>
                    <a:pt x="263" y="180"/>
                  </a:lnTo>
                  <a:lnTo>
                    <a:pt x="316" y="131"/>
                  </a:lnTo>
                  <a:lnTo>
                    <a:pt x="375" y="97"/>
                  </a:lnTo>
                  <a:lnTo>
                    <a:pt x="438" y="63"/>
                  </a:lnTo>
                  <a:lnTo>
                    <a:pt x="506" y="34"/>
                  </a:lnTo>
                  <a:lnTo>
                    <a:pt x="574" y="19"/>
                  </a:lnTo>
                  <a:lnTo>
                    <a:pt x="647" y="5"/>
                  </a:lnTo>
                  <a:lnTo>
                    <a:pt x="720" y="0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ffc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93200" y="1333440"/>
              <a:ext cx="1184040" cy="1443600"/>
            </a:xfrm>
            <a:custGeom>
              <a:avLst/>
              <a:gdLst/>
              <a:ahLst/>
              <a:rect l="l" t="t" r="r" b="b"/>
              <a:pathLst>
                <a:path w="1411" h="1494">
                  <a:moveTo>
                    <a:pt x="705" y="0"/>
                  </a:moveTo>
                  <a:lnTo>
                    <a:pt x="705" y="0"/>
                  </a:lnTo>
                  <a:lnTo>
                    <a:pt x="778" y="0"/>
                  </a:lnTo>
                  <a:lnTo>
                    <a:pt x="846" y="15"/>
                  </a:lnTo>
                  <a:lnTo>
                    <a:pt x="914" y="34"/>
                  </a:lnTo>
                  <a:lnTo>
                    <a:pt x="977" y="59"/>
                  </a:lnTo>
                  <a:lnTo>
                    <a:pt x="1041" y="88"/>
                  </a:lnTo>
                  <a:lnTo>
                    <a:pt x="1099" y="127"/>
                  </a:lnTo>
                  <a:lnTo>
                    <a:pt x="1153" y="171"/>
                  </a:lnTo>
                  <a:lnTo>
                    <a:pt x="1201" y="219"/>
                  </a:lnTo>
                  <a:lnTo>
                    <a:pt x="1250" y="273"/>
                  </a:lnTo>
                  <a:lnTo>
                    <a:pt x="1289" y="331"/>
                  </a:lnTo>
                  <a:lnTo>
                    <a:pt x="1323" y="389"/>
                  </a:lnTo>
                  <a:lnTo>
                    <a:pt x="1352" y="458"/>
                  </a:lnTo>
                  <a:lnTo>
                    <a:pt x="1376" y="526"/>
                  </a:lnTo>
                  <a:lnTo>
                    <a:pt x="1396" y="599"/>
                  </a:lnTo>
                  <a:lnTo>
                    <a:pt x="1406" y="672"/>
                  </a:lnTo>
                  <a:lnTo>
                    <a:pt x="1411" y="745"/>
                  </a:lnTo>
                  <a:lnTo>
                    <a:pt x="1411" y="745"/>
                  </a:lnTo>
                  <a:lnTo>
                    <a:pt x="1406" y="823"/>
                  </a:lnTo>
                  <a:lnTo>
                    <a:pt x="1396" y="896"/>
                  </a:lnTo>
                  <a:lnTo>
                    <a:pt x="1376" y="969"/>
                  </a:lnTo>
                  <a:lnTo>
                    <a:pt x="1352" y="1037"/>
                  </a:lnTo>
                  <a:lnTo>
                    <a:pt x="1323" y="1105"/>
                  </a:lnTo>
                  <a:lnTo>
                    <a:pt x="1289" y="1163"/>
                  </a:lnTo>
                  <a:lnTo>
                    <a:pt x="1250" y="1222"/>
                  </a:lnTo>
                  <a:lnTo>
                    <a:pt x="1201" y="1275"/>
                  </a:lnTo>
                  <a:lnTo>
                    <a:pt x="1153" y="1324"/>
                  </a:lnTo>
                  <a:lnTo>
                    <a:pt x="1099" y="1368"/>
                  </a:lnTo>
                  <a:lnTo>
                    <a:pt x="1041" y="1406"/>
                  </a:lnTo>
                  <a:lnTo>
                    <a:pt x="977" y="1436"/>
                  </a:lnTo>
                  <a:lnTo>
                    <a:pt x="914" y="1460"/>
                  </a:lnTo>
                  <a:lnTo>
                    <a:pt x="846" y="1479"/>
                  </a:lnTo>
                  <a:lnTo>
                    <a:pt x="778" y="1494"/>
                  </a:lnTo>
                  <a:lnTo>
                    <a:pt x="705" y="1494"/>
                  </a:lnTo>
                  <a:lnTo>
                    <a:pt x="705" y="1494"/>
                  </a:lnTo>
                  <a:lnTo>
                    <a:pt x="632" y="1494"/>
                  </a:lnTo>
                  <a:lnTo>
                    <a:pt x="564" y="1479"/>
                  </a:lnTo>
                  <a:lnTo>
                    <a:pt x="496" y="1460"/>
                  </a:lnTo>
                  <a:lnTo>
                    <a:pt x="433" y="1436"/>
                  </a:lnTo>
                  <a:lnTo>
                    <a:pt x="369" y="1406"/>
                  </a:lnTo>
                  <a:lnTo>
                    <a:pt x="311" y="1368"/>
                  </a:lnTo>
                  <a:lnTo>
                    <a:pt x="257" y="1324"/>
                  </a:lnTo>
                  <a:lnTo>
                    <a:pt x="209" y="1275"/>
                  </a:lnTo>
                  <a:lnTo>
                    <a:pt x="160" y="1222"/>
                  </a:lnTo>
                  <a:lnTo>
                    <a:pt x="121" y="1163"/>
                  </a:lnTo>
                  <a:lnTo>
                    <a:pt x="87" y="1105"/>
                  </a:lnTo>
                  <a:lnTo>
                    <a:pt x="53" y="1037"/>
                  </a:lnTo>
                  <a:lnTo>
                    <a:pt x="34" y="969"/>
                  </a:lnTo>
                  <a:lnTo>
                    <a:pt x="14" y="896"/>
                  </a:lnTo>
                  <a:lnTo>
                    <a:pt x="4" y="823"/>
                  </a:lnTo>
                  <a:lnTo>
                    <a:pt x="0" y="745"/>
                  </a:lnTo>
                  <a:lnTo>
                    <a:pt x="0" y="745"/>
                  </a:lnTo>
                  <a:lnTo>
                    <a:pt x="4" y="672"/>
                  </a:lnTo>
                  <a:lnTo>
                    <a:pt x="14" y="599"/>
                  </a:lnTo>
                  <a:lnTo>
                    <a:pt x="34" y="526"/>
                  </a:lnTo>
                  <a:lnTo>
                    <a:pt x="53" y="458"/>
                  </a:lnTo>
                  <a:lnTo>
                    <a:pt x="87" y="389"/>
                  </a:lnTo>
                  <a:lnTo>
                    <a:pt x="121" y="331"/>
                  </a:lnTo>
                  <a:lnTo>
                    <a:pt x="160" y="273"/>
                  </a:lnTo>
                  <a:lnTo>
                    <a:pt x="209" y="219"/>
                  </a:lnTo>
                  <a:lnTo>
                    <a:pt x="257" y="171"/>
                  </a:lnTo>
                  <a:lnTo>
                    <a:pt x="311" y="127"/>
                  </a:lnTo>
                  <a:lnTo>
                    <a:pt x="369" y="88"/>
                  </a:lnTo>
                  <a:lnTo>
                    <a:pt x="433" y="59"/>
                  </a:lnTo>
                  <a:lnTo>
                    <a:pt x="496" y="34"/>
                  </a:lnTo>
                  <a:lnTo>
                    <a:pt x="564" y="15"/>
                  </a:lnTo>
                  <a:lnTo>
                    <a:pt x="632" y="0"/>
                  </a:lnTo>
                  <a:lnTo>
                    <a:pt x="705" y="0"/>
                  </a:lnTo>
                  <a:lnTo>
                    <a:pt x="705" y="0"/>
                  </a:lnTo>
                  <a:close/>
                </a:path>
              </a:pathLst>
            </a:custGeom>
            <a:solidFill>
              <a:srgbClr val="fcca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13000" y="1357560"/>
              <a:ext cx="1151280" cy="1405080"/>
            </a:xfrm>
            <a:custGeom>
              <a:avLst/>
              <a:gdLst/>
              <a:ahLst/>
              <a:rect l="l" t="t" r="r" b="b"/>
              <a:pathLst>
                <a:path w="1372" h="1454">
                  <a:moveTo>
                    <a:pt x="686" y="0"/>
                  </a:moveTo>
                  <a:lnTo>
                    <a:pt x="686" y="0"/>
                  </a:lnTo>
                  <a:lnTo>
                    <a:pt x="754" y="4"/>
                  </a:lnTo>
                  <a:lnTo>
                    <a:pt x="822" y="14"/>
                  </a:lnTo>
                  <a:lnTo>
                    <a:pt x="890" y="34"/>
                  </a:lnTo>
                  <a:lnTo>
                    <a:pt x="949" y="58"/>
                  </a:lnTo>
                  <a:lnTo>
                    <a:pt x="1012" y="87"/>
                  </a:lnTo>
                  <a:lnTo>
                    <a:pt x="1065" y="121"/>
                  </a:lnTo>
                  <a:lnTo>
                    <a:pt x="1119" y="165"/>
                  </a:lnTo>
                  <a:lnTo>
                    <a:pt x="1168" y="214"/>
                  </a:lnTo>
                  <a:lnTo>
                    <a:pt x="1211" y="262"/>
                  </a:lnTo>
                  <a:lnTo>
                    <a:pt x="1255" y="321"/>
                  </a:lnTo>
                  <a:lnTo>
                    <a:pt x="1289" y="379"/>
                  </a:lnTo>
                  <a:lnTo>
                    <a:pt x="1318" y="442"/>
                  </a:lnTo>
                  <a:lnTo>
                    <a:pt x="1338" y="510"/>
                  </a:lnTo>
                  <a:lnTo>
                    <a:pt x="1357" y="579"/>
                  </a:lnTo>
                  <a:lnTo>
                    <a:pt x="1367" y="652"/>
                  </a:lnTo>
                  <a:lnTo>
                    <a:pt x="1372" y="725"/>
                  </a:lnTo>
                  <a:lnTo>
                    <a:pt x="1372" y="725"/>
                  </a:lnTo>
                  <a:lnTo>
                    <a:pt x="1367" y="802"/>
                  </a:lnTo>
                  <a:lnTo>
                    <a:pt x="1357" y="871"/>
                  </a:lnTo>
                  <a:lnTo>
                    <a:pt x="1338" y="944"/>
                  </a:lnTo>
                  <a:lnTo>
                    <a:pt x="1318" y="1007"/>
                  </a:lnTo>
                  <a:lnTo>
                    <a:pt x="1289" y="1070"/>
                  </a:lnTo>
                  <a:lnTo>
                    <a:pt x="1255" y="1133"/>
                  </a:lnTo>
                  <a:lnTo>
                    <a:pt x="1211" y="1187"/>
                  </a:lnTo>
                  <a:lnTo>
                    <a:pt x="1168" y="1240"/>
                  </a:lnTo>
                  <a:lnTo>
                    <a:pt x="1119" y="1289"/>
                  </a:lnTo>
                  <a:lnTo>
                    <a:pt x="1065" y="1328"/>
                  </a:lnTo>
                  <a:lnTo>
                    <a:pt x="1012" y="1367"/>
                  </a:lnTo>
                  <a:lnTo>
                    <a:pt x="949" y="1396"/>
                  </a:lnTo>
                  <a:lnTo>
                    <a:pt x="890" y="1420"/>
                  </a:lnTo>
                  <a:lnTo>
                    <a:pt x="822" y="1440"/>
                  </a:lnTo>
                  <a:lnTo>
                    <a:pt x="754" y="1450"/>
                  </a:lnTo>
                  <a:lnTo>
                    <a:pt x="686" y="1454"/>
                  </a:lnTo>
                  <a:lnTo>
                    <a:pt x="686" y="1454"/>
                  </a:lnTo>
                  <a:lnTo>
                    <a:pt x="613" y="1450"/>
                  </a:lnTo>
                  <a:lnTo>
                    <a:pt x="545" y="1440"/>
                  </a:lnTo>
                  <a:lnTo>
                    <a:pt x="482" y="1420"/>
                  </a:lnTo>
                  <a:lnTo>
                    <a:pt x="418" y="1396"/>
                  </a:lnTo>
                  <a:lnTo>
                    <a:pt x="355" y="1367"/>
                  </a:lnTo>
                  <a:lnTo>
                    <a:pt x="302" y="1328"/>
                  </a:lnTo>
                  <a:lnTo>
                    <a:pt x="248" y="1289"/>
                  </a:lnTo>
                  <a:lnTo>
                    <a:pt x="199" y="1240"/>
                  </a:lnTo>
                  <a:lnTo>
                    <a:pt x="156" y="1187"/>
                  </a:lnTo>
                  <a:lnTo>
                    <a:pt x="117" y="1133"/>
                  </a:lnTo>
                  <a:lnTo>
                    <a:pt x="83" y="1070"/>
                  </a:lnTo>
                  <a:lnTo>
                    <a:pt x="53" y="1007"/>
                  </a:lnTo>
                  <a:lnTo>
                    <a:pt x="29" y="944"/>
                  </a:lnTo>
                  <a:lnTo>
                    <a:pt x="10" y="871"/>
                  </a:lnTo>
                  <a:lnTo>
                    <a:pt x="0" y="802"/>
                  </a:lnTo>
                  <a:lnTo>
                    <a:pt x="0" y="725"/>
                  </a:lnTo>
                  <a:lnTo>
                    <a:pt x="0" y="725"/>
                  </a:lnTo>
                  <a:lnTo>
                    <a:pt x="0" y="652"/>
                  </a:lnTo>
                  <a:lnTo>
                    <a:pt x="10" y="579"/>
                  </a:lnTo>
                  <a:lnTo>
                    <a:pt x="29" y="510"/>
                  </a:lnTo>
                  <a:lnTo>
                    <a:pt x="53" y="442"/>
                  </a:lnTo>
                  <a:lnTo>
                    <a:pt x="83" y="379"/>
                  </a:lnTo>
                  <a:lnTo>
                    <a:pt x="117" y="321"/>
                  </a:lnTo>
                  <a:lnTo>
                    <a:pt x="156" y="262"/>
                  </a:lnTo>
                  <a:lnTo>
                    <a:pt x="199" y="214"/>
                  </a:lnTo>
                  <a:lnTo>
                    <a:pt x="248" y="165"/>
                  </a:lnTo>
                  <a:lnTo>
                    <a:pt x="302" y="121"/>
                  </a:lnTo>
                  <a:lnTo>
                    <a:pt x="355" y="87"/>
                  </a:lnTo>
                  <a:lnTo>
                    <a:pt x="418" y="58"/>
                  </a:lnTo>
                  <a:lnTo>
                    <a:pt x="482" y="34"/>
                  </a:lnTo>
                  <a:lnTo>
                    <a:pt x="545" y="14"/>
                  </a:lnTo>
                  <a:lnTo>
                    <a:pt x="613" y="4"/>
                  </a:lnTo>
                  <a:lnTo>
                    <a:pt x="686" y="0"/>
                  </a:lnTo>
                  <a:lnTo>
                    <a:pt x="686" y="0"/>
                  </a:lnTo>
                  <a:close/>
                </a:path>
              </a:pathLst>
            </a:custGeom>
            <a:solidFill>
              <a:srgbClr val="fcc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29200" y="1380960"/>
              <a:ext cx="1122840" cy="1363320"/>
            </a:xfrm>
            <a:custGeom>
              <a:avLst/>
              <a:gdLst/>
              <a:ahLst/>
              <a:rect l="l" t="t" r="r" b="b"/>
              <a:pathLst>
                <a:path w="1338" h="1411">
                  <a:moveTo>
                    <a:pt x="667" y="0"/>
                  </a:moveTo>
                  <a:lnTo>
                    <a:pt x="667" y="0"/>
                  </a:lnTo>
                  <a:lnTo>
                    <a:pt x="735" y="5"/>
                  </a:lnTo>
                  <a:lnTo>
                    <a:pt x="803" y="14"/>
                  </a:lnTo>
                  <a:lnTo>
                    <a:pt x="866" y="34"/>
                  </a:lnTo>
                  <a:lnTo>
                    <a:pt x="930" y="53"/>
                  </a:lnTo>
                  <a:lnTo>
                    <a:pt x="988" y="87"/>
                  </a:lnTo>
                  <a:lnTo>
                    <a:pt x="1042" y="122"/>
                  </a:lnTo>
                  <a:lnTo>
                    <a:pt x="1095" y="160"/>
                  </a:lnTo>
                  <a:lnTo>
                    <a:pt x="1144" y="209"/>
                  </a:lnTo>
                  <a:lnTo>
                    <a:pt x="1183" y="258"/>
                  </a:lnTo>
                  <a:lnTo>
                    <a:pt x="1222" y="311"/>
                  </a:lnTo>
                  <a:lnTo>
                    <a:pt x="1256" y="370"/>
                  </a:lnTo>
                  <a:lnTo>
                    <a:pt x="1285" y="433"/>
                  </a:lnTo>
                  <a:lnTo>
                    <a:pt x="1309" y="496"/>
                  </a:lnTo>
                  <a:lnTo>
                    <a:pt x="1324" y="564"/>
                  </a:lnTo>
                  <a:lnTo>
                    <a:pt x="1333" y="632"/>
                  </a:lnTo>
                  <a:lnTo>
                    <a:pt x="1338" y="705"/>
                  </a:lnTo>
                  <a:lnTo>
                    <a:pt x="1338" y="705"/>
                  </a:lnTo>
                  <a:lnTo>
                    <a:pt x="1333" y="778"/>
                  </a:lnTo>
                  <a:lnTo>
                    <a:pt x="1324" y="847"/>
                  </a:lnTo>
                  <a:lnTo>
                    <a:pt x="1309" y="915"/>
                  </a:lnTo>
                  <a:lnTo>
                    <a:pt x="1285" y="983"/>
                  </a:lnTo>
                  <a:lnTo>
                    <a:pt x="1256" y="1041"/>
                  </a:lnTo>
                  <a:lnTo>
                    <a:pt x="1222" y="1100"/>
                  </a:lnTo>
                  <a:lnTo>
                    <a:pt x="1183" y="1153"/>
                  </a:lnTo>
                  <a:lnTo>
                    <a:pt x="1144" y="1207"/>
                  </a:lnTo>
                  <a:lnTo>
                    <a:pt x="1095" y="1250"/>
                  </a:lnTo>
                  <a:lnTo>
                    <a:pt x="1042" y="1289"/>
                  </a:lnTo>
                  <a:lnTo>
                    <a:pt x="988" y="1328"/>
                  </a:lnTo>
                  <a:lnTo>
                    <a:pt x="930" y="1357"/>
                  </a:lnTo>
                  <a:lnTo>
                    <a:pt x="866" y="1382"/>
                  </a:lnTo>
                  <a:lnTo>
                    <a:pt x="803" y="1396"/>
                  </a:lnTo>
                  <a:lnTo>
                    <a:pt x="735" y="1406"/>
                  </a:lnTo>
                  <a:lnTo>
                    <a:pt x="667" y="1411"/>
                  </a:lnTo>
                  <a:lnTo>
                    <a:pt x="667" y="1411"/>
                  </a:lnTo>
                  <a:lnTo>
                    <a:pt x="599" y="1406"/>
                  </a:lnTo>
                  <a:lnTo>
                    <a:pt x="536" y="1396"/>
                  </a:lnTo>
                  <a:lnTo>
                    <a:pt x="472" y="1382"/>
                  </a:lnTo>
                  <a:lnTo>
                    <a:pt x="409" y="1357"/>
                  </a:lnTo>
                  <a:lnTo>
                    <a:pt x="351" y="1328"/>
                  </a:lnTo>
                  <a:lnTo>
                    <a:pt x="297" y="1289"/>
                  </a:lnTo>
                  <a:lnTo>
                    <a:pt x="244" y="1250"/>
                  </a:lnTo>
                  <a:lnTo>
                    <a:pt x="195" y="1207"/>
                  </a:lnTo>
                  <a:lnTo>
                    <a:pt x="151" y="1153"/>
                  </a:lnTo>
                  <a:lnTo>
                    <a:pt x="117" y="1100"/>
                  </a:lnTo>
                  <a:lnTo>
                    <a:pt x="83" y="1041"/>
                  </a:lnTo>
                  <a:lnTo>
                    <a:pt x="54" y="983"/>
                  </a:lnTo>
                  <a:lnTo>
                    <a:pt x="30" y="915"/>
                  </a:lnTo>
                  <a:lnTo>
                    <a:pt x="15" y="847"/>
                  </a:lnTo>
                  <a:lnTo>
                    <a:pt x="5" y="778"/>
                  </a:lnTo>
                  <a:lnTo>
                    <a:pt x="0" y="705"/>
                  </a:lnTo>
                  <a:lnTo>
                    <a:pt x="0" y="705"/>
                  </a:lnTo>
                  <a:lnTo>
                    <a:pt x="5" y="632"/>
                  </a:lnTo>
                  <a:lnTo>
                    <a:pt x="15" y="564"/>
                  </a:lnTo>
                  <a:lnTo>
                    <a:pt x="30" y="496"/>
                  </a:lnTo>
                  <a:lnTo>
                    <a:pt x="54" y="433"/>
                  </a:lnTo>
                  <a:lnTo>
                    <a:pt x="83" y="370"/>
                  </a:lnTo>
                  <a:lnTo>
                    <a:pt x="117" y="311"/>
                  </a:lnTo>
                  <a:lnTo>
                    <a:pt x="151" y="258"/>
                  </a:lnTo>
                  <a:lnTo>
                    <a:pt x="195" y="209"/>
                  </a:lnTo>
                  <a:lnTo>
                    <a:pt x="244" y="160"/>
                  </a:lnTo>
                  <a:lnTo>
                    <a:pt x="297" y="122"/>
                  </a:lnTo>
                  <a:lnTo>
                    <a:pt x="351" y="87"/>
                  </a:lnTo>
                  <a:lnTo>
                    <a:pt x="409" y="53"/>
                  </a:lnTo>
                  <a:lnTo>
                    <a:pt x="472" y="34"/>
                  </a:lnTo>
                  <a:lnTo>
                    <a:pt x="536" y="14"/>
                  </a:lnTo>
                  <a:lnTo>
                    <a:pt x="599" y="5"/>
                  </a:lnTo>
                  <a:lnTo>
                    <a:pt x="667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cd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0080" y="1404000"/>
              <a:ext cx="1090080" cy="1325520"/>
            </a:xfrm>
            <a:custGeom>
              <a:avLst/>
              <a:gdLst/>
              <a:ahLst/>
              <a:rect l="l" t="t" r="r" b="b"/>
              <a:pathLst>
                <a:path w="1299" h="1372">
                  <a:moveTo>
                    <a:pt x="647" y="0"/>
                  </a:moveTo>
                  <a:lnTo>
                    <a:pt x="647" y="0"/>
                  </a:lnTo>
                  <a:lnTo>
                    <a:pt x="715" y="5"/>
                  </a:lnTo>
                  <a:lnTo>
                    <a:pt x="778" y="15"/>
                  </a:lnTo>
                  <a:lnTo>
                    <a:pt x="841" y="34"/>
                  </a:lnTo>
                  <a:lnTo>
                    <a:pt x="900" y="54"/>
                  </a:lnTo>
                  <a:lnTo>
                    <a:pt x="958" y="83"/>
                  </a:lnTo>
                  <a:lnTo>
                    <a:pt x="1012" y="117"/>
                  </a:lnTo>
                  <a:lnTo>
                    <a:pt x="1060" y="156"/>
                  </a:lnTo>
                  <a:lnTo>
                    <a:pt x="1109" y="205"/>
                  </a:lnTo>
                  <a:lnTo>
                    <a:pt x="1148" y="253"/>
                  </a:lnTo>
                  <a:lnTo>
                    <a:pt x="1187" y="302"/>
                  </a:lnTo>
                  <a:lnTo>
                    <a:pt x="1221" y="360"/>
                  </a:lnTo>
                  <a:lnTo>
                    <a:pt x="1245" y="419"/>
                  </a:lnTo>
                  <a:lnTo>
                    <a:pt x="1270" y="482"/>
                  </a:lnTo>
                  <a:lnTo>
                    <a:pt x="1284" y="550"/>
                  </a:lnTo>
                  <a:lnTo>
                    <a:pt x="1294" y="618"/>
                  </a:lnTo>
                  <a:lnTo>
                    <a:pt x="1299" y="686"/>
                  </a:lnTo>
                  <a:lnTo>
                    <a:pt x="1299" y="686"/>
                  </a:lnTo>
                  <a:lnTo>
                    <a:pt x="1294" y="754"/>
                  </a:lnTo>
                  <a:lnTo>
                    <a:pt x="1284" y="823"/>
                  </a:lnTo>
                  <a:lnTo>
                    <a:pt x="1270" y="891"/>
                  </a:lnTo>
                  <a:lnTo>
                    <a:pt x="1245" y="954"/>
                  </a:lnTo>
                  <a:lnTo>
                    <a:pt x="1221" y="1012"/>
                  </a:lnTo>
                  <a:lnTo>
                    <a:pt x="1187" y="1071"/>
                  </a:lnTo>
                  <a:lnTo>
                    <a:pt x="1148" y="1119"/>
                  </a:lnTo>
                  <a:lnTo>
                    <a:pt x="1109" y="1168"/>
                  </a:lnTo>
                  <a:lnTo>
                    <a:pt x="1060" y="1212"/>
                  </a:lnTo>
                  <a:lnTo>
                    <a:pt x="1012" y="1256"/>
                  </a:lnTo>
                  <a:lnTo>
                    <a:pt x="958" y="1290"/>
                  </a:lnTo>
                  <a:lnTo>
                    <a:pt x="900" y="1319"/>
                  </a:lnTo>
                  <a:lnTo>
                    <a:pt x="841" y="1338"/>
                  </a:lnTo>
                  <a:lnTo>
                    <a:pt x="778" y="1358"/>
                  </a:lnTo>
                  <a:lnTo>
                    <a:pt x="715" y="1368"/>
                  </a:lnTo>
                  <a:lnTo>
                    <a:pt x="647" y="1372"/>
                  </a:lnTo>
                  <a:lnTo>
                    <a:pt x="647" y="1372"/>
                  </a:lnTo>
                  <a:lnTo>
                    <a:pt x="584" y="1368"/>
                  </a:lnTo>
                  <a:lnTo>
                    <a:pt x="515" y="1358"/>
                  </a:lnTo>
                  <a:lnTo>
                    <a:pt x="457" y="1338"/>
                  </a:lnTo>
                  <a:lnTo>
                    <a:pt x="394" y="1319"/>
                  </a:lnTo>
                  <a:lnTo>
                    <a:pt x="340" y="1290"/>
                  </a:lnTo>
                  <a:lnTo>
                    <a:pt x="287" y="1256"/>
                  </a:lnTo>
                  <a:lnTo>
                    <a:pt x="233" y="1212"/>
                  </a:lnTo>
                  <a:lnTo>
                    <a:pt x="189" y="1168"/>
                  </a:lnTo>
                  <a:lnTo>
                    <a:pt x="146" y="1119"/>
                  </a:lnTo>
                  <a:lnTo>
                    <a:pt x="107" y="1071"/>
                  </a:lnTo>
                  <a:lnTo>
                    <a:pt x="78" y="1012"/>
                  </a:lnTo>
                  <a:lnTo>
                    <a:pt x="48" y="954"/>
                  </a:lnTo>
                  <a:lnTo>
                    <a:pt x="29" y="891"/>
                  </a:lnTo>
                  <a:lnTo>
                    <a:pt x="9" y="823"/>
                  </a:lnTo>
                  <a:lnTo>
                    <a:pt x="0" y="754"/>
                  </a:lnTo>
                  <a:lnTo>
                    <a:pt x="0" y="686"/>
                  </a:lnTo>
                  <a:lnTo>
                    <a:pt x="0" y="686"/>
                  </a:lnTo>
                  <a:lnTo>
                    <a:pt x="0" y="618"/>
                  </a:lnTo>
                  <a:lnTo>
                    <a:pt x="9" y="550"/>
                  </a:lnTo>
                  <a:lnTo>
                    <a:pt x="29" y="482"/>
                  </a:lnTo>
                  <a:lnTo>
                    <a:pt x="48" y="419"/>
                  </a:lnTo>
                  <a:lnTo>
                    <a:pt x="78" y="360"/>
                  </a:lnTo>
                  <a:lnTo>
                    <a:pt x="107" y="302"/>
                  </a:lnTo>
                  <a:lnTo>
                    <a:pt x="146" y="253"/>
                  </a:lnTo>
                  <a:lnTo>
                    <a:pt x="189" y="205"/>
                  </a:lnTo>
                  <a:lnTo>
                    <a:pt x="233" y="156"/>
                  </a:lnTo>
                  <a:lnTo>
                    <a:pt x="287" y="117"/>
                  </a:lnTo>
                  <a:lnTo>
                    <a:pt x="340" y="83"/>
                  </a:lnTo>
                  <a:lnTo>
                    <a:pt x="394" y="54"/>
                  </a:lnTo>
                  <a:lnTo>
                    <a:pt x="457" y="34"/>
                  </a:lnTo>
                  <a:lnTo>
                    <a:pt x="515" y="15"/>
                  </a:lnTo>
                  <a:lnTo>
                    <a:pt x="584" y="5"/>
                  </a:lnTo>
                  <a:lnTo>
                    <a:pt x="647" y="0"/>
                  </a:lnTo>
                  <a:lnTo>
                    <a:pt x="647" y="0"/>
                  </a:lnTo>
                  <a:close/>
                </a:path>
              </a:pathLst>
            </a:custGeom>
            <a:solidFill>
              <a:srgbClr val="fcd6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65920" y="1428120"/>
              <a:ext cx="1061640" cy="1283040"/>
            </a:xfrm>
            <a:custGeom>
              <a:avLst/>
              <a:gdLst/>
              <a:ahLst/>
              <a:rect l="l" t="t" r="r" b="b"/>
              <a:pathLst>
                <a:path w="1265" h="1328">
                  <a:moveTo>
                    <a:pt x="633" y="0"/>
                  </a:moveTo>
                  <a:lnTo>
                    <a:pt x="633" y="0"/>
                  </a:lnTo>
                  <a:lnTo>
                    <a:pt x="696" y="4"/>
                  </a:lnTo>
                  <a:lnTo>
                    <a:pt x="759" y="14"/>
                  </a:lnTo>
                  <a:lnTo>
                    <a:pt x="822" y="34"/>
                  </a:lnTo>
                  <a:lnTo>
                    <a:pt x="881" y="53"/>
                  </a:lnTo>
                  <a:lnTo>
                    <a:pt x="934" y="82"/>
                  </a:lnTo>
                  <a:lnTo>
                    <a:pt x="988" y="116"/>
                  </a:lnTo>
                  <a:lnTo>
                    <a:pt x="1036" y="155"/>
                  </a:lnTo>
                  <a:lnTo>
                    <a:pt x="1080" y="194"/>
                  </a:lnTo>
                  <a:lnTo>
                    <a:pt x="1119" y="243"/>
                  </a:lnTo>
                  <a:lnTo>
                    <a:pt x="1158" y="296"/>
                  </a:lnTo>
                  <a:lnTo>
                    <a:pt x="1187" y="350"/>
                  </a:lnTo>
                  <a:lnTo>
                    <a:pt x="1216" y="408"/>
                  </a:lnTo>
                  <a:lnTo>
                    <a:pt x="1236" y="467"/>
                  </a:lnTo>
                  <a:lnTo>
                    <a:pt x="1251" y="530"/>
                  </a:lnTo>
                  <a:lnTo>
                    <a:pt x="1260" y="598"/>
                  </a:lnTo>
                  <a:lnTo>
                    <a:pt x="1265" y="666"/>
                  </a:lnTo>
                  <a:lnTo>
                    <a:pt x="1265" y="666"/>
                  </a:lnTo>
                  <a:lnTo>
                    <a:pt x="1260" y="734"/>
                  </a:lnTo>
                  <a:lnTo>
                    <a:pt x="1251" y="798"/>
                  </a:lnTo>
                  <a:lnTo>
                    <a:pt x="1236" y="861"/>
                  </a:lnTo>
                  <a:lnTo>
                    <a:pt x="1216" y="924"/>
                  </a:lnTo>
                  <a:lnTo>
                    <a:pt x="1187" y="982"/>
                  </a:lnTo>
                  <a:lnTo>
                    <a:pt x="1158" y="1036"/>
                  </a:lnTo>
                  <a:lnTo>
                    <a:pt x="1119" y="1085"/>
                  </a:lnTo>
                  <a:lnTo>
                    <a:pt x="1080" y="1133"/>
                  </a:lnTo>
                  <a:lnTo>
                    <a:pt x="1036" y="1177"/>
                  </a:lnTo>
                  <a:lnTo>
                    <a:pt x="988" y="1216"/>
                  </a:lnTo>
                  <a:lnTo>
                    <a:pt x="934" y="1250"/>
                  </a:lnTo>
                  <a:lnTo>
                    <a:pt x="881" y="1274"/>
                  </a:lnTo>
                  <a:lnTo>
                    <a:pt x="822" y="1299"/>
                  </a:lnTo>
                  <a:lnTo>
                    <a:pt x="759" y="1313"/>
                  </a:lnTo>
                  <a:lnTo>
                    <a:pt x="696" y="1323"/>
                  </a:lnTo>
                  <a:lnTo>
                    <a:pt x="633" y="1328"/>
                  </a:lnTo>
                  <a:lnTo>
                    <a:pt x="633" y="1328"/>
                  </a:lnTo>
                  <a:lnTo>
                    <a:pt x="569" y="1323"/>
                  </a:lnTo>
                  <a:lnTo>
                    <a:pt x="506" y="1313"/>
                  </a:lnTo>
                  <a:lnTo>
                    <a:pt x="443" y="1299"/>
                  </a:lnTo>
                  <a:lnTo>
                    <a:pt x="389" y="1274"/>
                  </a:lnTo>
                  <a:lnTo>
                    <a:pt x="331" y="1250"/>
                  </a:lnTo>
                  <a:lnTo>
                    <a:pt x="277" y="1216"/>
                  </a:lnTo>
                  <a:lnTo>
                    <a:pt x="229" y="1177"/>
                  </a:lnTo>
                  <a:lnTo>
                    <a:pt x="185" y="1133"/>
                  </a:lnTo>
                  <a:lnTo>
                    <a:pt x="146" y="1085"/>
                  </a:lnTo>
                  <a:lnTo>
                    <a:pt x="107" y="1036"/>
                  </a:lnTo>
                  <a:lnTo>
                    <a:pt x="78" y="982"/>
                  </a:lnTo>
                  <a:lnTo>
                    <a:pt x="49" y="924"/>
                  </a:lnTo>
                  <a:lnTo>
                    <a:pt x="29" y="861"/>
                  </a:lnTo>
                  <a:lnTo>
                    <a:pt x="15" y="798"/>
                  </a:lnTo>
                  <a:lnTo>
                    <a:pt x="5" y="734"/>
                  </a:lnTo>
                  <a:lnTo>
                    <a:pt x="0" y="666"/>
                  </a:lnTo>
                  <a:lnTo>
                    <a:pt x="0" y="666"/>
                  </a:lnTo>
                  <a:lnTo>
                    <a:pt x="5" y="598"/>
                  </a:lnTo>
                  <a:lnTo>
                    <a:pt x="15" y="530"/>
                  </a:lnTo>
                  <a:lnTo>
                    <a:pt x="29" y="467"/>
                  </a:lnTo>
                  <a:lnTo>
                    <a:pt x="49" y="408"/>
                  </a:lnTo>
                  <a:lnTo>
                    <a:pt x="78" y="350"/>
                  </a:lnTo>
                  <a:lnTo>
                    <a:pt x="107" y="296"/>
                  </a:lnTo>
                  <a:lnTo>
                    <a:pt x="146" y="243"/>
                  </a:lnTo>
                  <a:lnTo>
                    <a:pt x="185" y="194"/>
                  </a:lnTo>
                  <a:lnTo>
                    <a:pt x="229" y="155"/>
                  </a:lnTo>
                  <a:lnTo>
                    <a:pt x="277" y="116"/>
                  </a:lnTo>
                  <a:lnTo>
                    <a:pt x="331" y="82"/>
                  </a:lnTo>
                  <a:lnTo>
                    <a:pt x="389" y="53"/>
                  </a:lnTo>
                  <a:lnTo>
                    <a:pt x="443" y="34"/>
                  </a:lnTo>
                  <a:lnTo>
                    <a:pt x="506" y="14"/>
                  </a:lnTo>
                  <a:lnTo>
                    <a:pt x="569" y="4"/>
                  </a:lnTo>
                  <a:lnTo>
                    <a:pt x="633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fad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86080" y="1456200"/>
              <a:ext cx="1029600" cy="1240560"/>
            </a:xfrm>
            <a:custGeom>
              <a:avLst/>
              <a:gdLst/>
              <a:ahLst/>
              <a:rect l="l" t="t" r="r" b="b"/>
              <a:pathLst>
                <a:path w="1227" h="1284">
                  <a:moveTo>
                    <a:pt x="613" y="0"/>
                  </a:moveTo>
                  <a:lnTo>
                    <a:pt x="613" y="0"/>
                  </a:lnTo>
                  <a:lnTo>
                    <a:pt x="677" y="0"/>
                  </a:lnTo>
                  <a:lnTo>
                    <a:pt x="735" y="9"/>
                  </a:lnTo>
                  <a:lnTo>
                    <a:pt x="794" y="29"/>
                  </a:lnTo>
                  <a:lnTo>
                    <a:pt x="852" y="48"/>
                  </a:lnTo>
                  <a:lnTo>
                    <a:pt x="905" y="78"/>
                  </a:lnTo>
                  <a:lnTo>
                    <a:pt x="954" y="107"/>
                  </a:lnTo>
                  <a:lnTo>
                    <a:pt x="1003" y="146"/>
                  </a:lnTo>
                  <a:lnTo>
                    <a:pt x="1047" y="185"/>
                  </a:lnTo>
                  <a:lnTo>
                    <a:pt x="1085" y="233"/>
                  </a:lnTo>
                  <a:lnTo>
                    <a:pt x="1119" y="282"/>
                  </a:lnTo>
                  <a:lnTo>
                    <a:pt x="1154" y="335"/>
                  </a:lnTo>
                  <a:lnTo>
                    <a:pt x="1178" y="389"/>
                  </a:lnTo>
                  <a:lnTo>
                    <a:pt x="1197" y="447"/>
                  </a:lnTo>
                  <a:lnTo>
                    <a:pt x="1217" y="511"/>
                  </a:lnTo>
                  <a:lnTo>
                    <a:pt x="1222" y="574"/>
                  </a:lnTo>
                  <a:lnTo>
                    <a:pt x="1227" y="642"/>
                  </a:lnTo>
                  <a:lnTo>
                    <a:pt x="1227" y="642"/>
                  </a:lnTo>
                  <a:lnTo>
                    <a:pt x="1222" y="705"/>
                  </a:lnTo>
                  <a:lnTo>
                    <a:pt x="1217" y="769"/>
                  </a:lnTo>
                  <a:lnTo>
                    <a:pt x="1197" y="832"/>
                  </a:lnTo>
                  <a:lnTo>
                    <a:pt x="1178" y="890"/>
                  </a:lnTo>
                  <a:lnTo>
                    <a:pt x="1154" y="944"/>
                  </a:lnTo>
                  <a:lnTo>
                    <a:pt x="1119" y="997"/>
                  </a:lnTo>
                  <a:lnTo>
                    <a:pt x="1085" y="1046"/>
                  </a:lnTo>
                  <a:lnTo>
                    <a:pt x="1047" y="1095"/>
                  </a:lnTo>
                  <a:lnTo>
                    <a:pt x="1003" y="1134"/>
                  </a:lnTo>
                  <a:lnTo>
                    <a:pt x="954" y="1172"/>
                  </a:lnTo>
                  <a:lnTo>
                    <a:pt x="905" y="1207"/>
                  </a:lnTo>
                  <a:lnTo>
                    <a:pt x="852" y="1231"/>
                  </a:lnTo>
                  <a:lnTo>
                    <a:pt x="794" y="1255"/>
                  </a:lnTo>
                  <a:lnTo>
                    <a:pt x="735" y="1270"/>
                  </a:lnTo>
                  <a:lnTo>
                    <a:pt x="677" y="1279"/>
                  </a:lnTo>
                  <a:lnTo>
                    <a:pt x="613" y="1284"/>
                  </a:lnTo>
                  <a:lnTo>
                    <a:pt x="613" y="1284"/>
                  </a:lnTo>
                  <a:lnTo>
                    <a:pt x="550" y="1279"/>
                  </a:lnTo>
                  <a:lnTo>
                    <a:pt x="487" y="1270"/>
                  </a:lnTo>
                  <a:lnTo>
                    <a:pt x="429" y="1255"/>
                  </a:lnTo>
                  <a:lnTo>
                    <a:pt x="375" y="1231"/>
                  </a:lnTo>
                  <a:lnTo>
                    <a:pt x="322" y="1207"/>
                  </a:lnTo>
                  <a:lnTo>
                    <a:pt x="268" y="1172"/>
                  </a:lnTo>
                  <a:lnTo>
                    <a:pt x="224" y="1134"/>
                  </a:lnTo>
                  <a:lnTo>
                    <a:pt x="180" y="1095"/>
                  </a:lnTo>
                  <a:lnTo>
                    <a:pt x="137" y="1046"/>
                  </a:lnTo>
                  <a:lnTo>
                    <a:pt x="103" y="997"/>
                  </a:lnTo>
                  <a:lnTo>
                    <a:pt x="73" y="944"/>
                  </a:lnTo>
                  <a:lnTo>
                    <a:pt x="44" y="890"/>
                  </a:lnTo>
                  <a:lnTo>
                    <a:pt x="25" y="832"/>
                  </a:lnTo>
                  <a:lnTo>
                    <a:pt x="10" y="769"/>
                  </a:lnTo>
                  <a:lnTo>
                    <a:pt x="0" y="705"/>
                  </a:lnTo>
                  <a:lnTo>
                    <a:pt x="0" y="642"/>
                  </a:lnTo>
                  <a:lnTo>
                    <a:pt x="0" y="642"/>
                  </a:lnTo>
                  <a:lnTo>
                    <a:pt x="0" y="574"/>
                  </a:lnTo>
                  <a:lnTo>
                    <a:pt x="10" y="511"/>
                  </a:lnTo>
                  <a:lnTo>
                    <a:pt x="25" y="447"/>
                  </a:lnTo>
                  <a:lnTo>
                    <a:pt x="44" y="389"/>
                  </a:lnTo>
                  <a:lnTo>
                    <a:pt x="73" y="335"/>
                  </a:lnTo>
                  <a:lnTo>
                    <a:pt x="103" y="282"/>
                  </a:lnTo>
                  <a:lnTo>
                    <a:pt x="137" y="233"/>
                  </a:lnTo>
                  <a:lnTo>
                    <a:pt x="180" y="185"/>
                  </a:lnTo>
                  <a:lnTo>
                    <a:pt x="224" y="146"/>
                  </a:lnTo>
                  <a:lnTo>
                    <a:pt x="268" y="107"/>
                  </a:lnTo>
                  <a:lnTo>
                    <a:pt x="322" y="78"/>
                  </a:lnTo>
                  <a:lnTo>
                    <a:pt x="375" y="48"/>
                  </a:lnTo>
                  <a:lnTo>
                    <a:pt x="429" y="29"/>
                  </a:lnTo>
                  <a:lnTo>
                    <a:pt x="487" y="9"/>
                  </a:lnTo>
                  <a:lnTo>
                    <a:pt x="550" y="0"/>
                  </a:lnTo>
                  <a:lnTo>
                    <a:pt x="613" y="0"/>
                  </a:lnTo>
                  <a:lnTo>
                    <a:pt x="613" y="0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203000" y="1479600"/>
              <a:ext cx="1000440" cy="1198800"/>
            </a:xfrm>
            <a:custGeom>
              <a:avLst/>
              <a:gdLst/>
              <a:ahLst/>
              <a:rect l="l" t="t" r="r" b="b"/>
              <a:pathLst>
                <a:path w="1192" h="1241">
                  <a:moveTo>
                    <a:pt x="598" y="0"/>
                  </a:moveTo>
                  <a:lnTo>
                    <a:pt x="598" y="0"/>
                  </a:lnTo>
                  <a:lnTo>
                    <a:pt x="657" y="5"/>
                  </a:lnTo>
                  <a:lnTo>
                    <a:pt x="715" y="10"/>
                  </a:lnTo>
                  <a:lnTo>
                    <a:pt x="774" y="29"/>
                  </a:lnTo>
                  <a:lnTo>
                    <a:pt x="827" y="49"/>
                  </a:lnTo>
                  <a:lnTo>
                    <a:pt x="881" y="73"/>
                  </a:lnTo>
                  <a:lnTo>
                    <a:pt x="929" y="107"/>
                  </a:lnTo>
                  <a:lnTo>
                    <a:pt x="978" y="141"/>
                  </a:lnTo>
                  <a:lnTo>
                    <a:pt x="1017" y="180"/>
                  </a:lnTo>
                  <a:lnTo>
                    <a:pt x="1056" y="224"/>
                  </a:lnTo>
                  <a:lnTo>
                    <a:pt x="1090" y="273"/>
                  </a:lnTo>
                  <a:lnTo>
                    <a:pt x="1119" y="326"/>
                  </a:lnTo>
                  <a:lnTo>
                    <a:pt x="1148" y="380"/>
                  </a:lnTo>
                  <a:lnTo>
                    <a:pt x="1168" y="438"/>
                  </a:lnTo>
                  <a:lnTo>
                    <a:pt x="1182" y="496"/>
                  </a:lnTo>
                  <a:lnTo>
                    <a:pt x="1192" y="555"/>
                  </a:lnTo>
                  <a:lnTo>
                    <a:pt x="1192" y="618"/>
                  </a:lnTo>
                  <a:lnTo>
                    <a:pt x="1192" y="618"/>
                  </a:lnTo>
                  <a:lnTo>
                    <a:pt x="1192" y="681"/>
                  </a:lnTo>
                  <a:lnTo>
                    <a:pt x="1182" y="745"/>
                  </a:lnTo>
                  <a:lnTo>
                    <a:pt x="1168" y="803"/>
                  </a:lnTo>
                  <a:lnTo>
                    <a:pt x="1148" y="861"/>
                  </a:lnTo>
                  <a:lnTo>
                    <a:pt x="1119" y="915"/>
                  </a:lnTo>
                  <a:lnTo>
                    <a:pt x="1090" y="968"/>
                  </a:lnTo>
                  <a:lnTo>
                    <a:pt x="1056" y="1017"/>
                  </a:lnTo>
                  <a:lnTo>
                    <a:pt x="1017" y="1061"/>
                  </a:lnTo>
                  <a:lnTo>
                    <a:pt x="978" y="1100"/>
                  </a:lnTo>
                  <a:lnTo>
                    <a:pt x="929" y="1134"/>
                  </a:lnTo>
                  <a:lnTo>
                    <a:pt x="881" y="1168"/>
                  </a:lnTo>
                  <a:lnTo>
                    <a:pt x="827" y="1192"/>
                  </a:lnTo>
                  <a:lnTo>
                    <a:pt x="774" y="1212"/>
                  </a:lnTo>
                  <a:lnTo>
                    <a:pt x="715" y="1226"/>
                  </a:lnTo>
                  <a:lnTo>
                    <a:pt x="657" y="1236"/>
                  </a:lnTo>
                  <a:lnTo>
                    <a:pt x="598" y="1241"/>
                  </a:lnTo>
                  <a:lnTo>
                    <a:pt x="598" y="1241"/>
                  </a:lnTo>
                  <a:lnTo>
                    <a:pt x="535" y="1236"/>
                  </a:lnTo>
                  <a:lnTo>
                    <a:pt x="477" y="1226"/>
                  </a:lnTo>
                  <a:lnTo>
                    <a:pt x="418" y="1212"/>
                  </a:lnTo>
                  <a:lnTo>
                    <a:pt x="365" y="1192"/>
                  </a:lnTo>
                  <a:lnTo>
                    <a:pt x="311" y="1168"/>
                  </a:lnTo>
                  <a:lnTo>
                    <a:pt x="263" y="1134"/>
                  </a:lnTo>
                  <a:lnTo>
                    <a:pt x="219" y="1100"/>
                  </a:lnTo>
                  <a:lnTo>
                    <a:pt x="175" y="1061"/>
                  </a:lnTo>
                  <a:lnTo>
                    <a:pt x="136" y="1017"/>
                  </a:lnTo>
                  <a:lnTo>
                    <a:pt x="102" y="968"/>
                  </a:lnTo>
                  <a:lnTo>
                    <a:pt x="73" y="915"/>
                  </a:lnTo>
                  <a:lnTo>
                    <a:pt x="49" y="861"/>
                  </a:lnTo>
                  <a:lnTo>
                    <a:pt x="29" y="803"/>
                  </a:lnTo>
                  <a:lnTo>
                    <a:pt x="15" y="745"/>
                  </a:lnTo>
                  <a:lnTo>
                    <a:pt x="5" y="681"/>
                  </a:lnTo>
                  <a:lnTo>
                    <a:pt x="0" y="618"/>
                  </a:lnTo>
                  <a:lnTo>
                    <a:pt x="0" y="618"/>
                  </a:lnTo>
                  <a:lnTo>
                    <a:pt x="5" y="555"/>
                  </a:lnTo>
                  <a:lnTo>
                    <a:pt x="15" y="496"/>
                  </a:lnTo>
                  <a:lnTo>
                    <a:pt x="29" y="438"/>
                  </a:lnTo>
                  <a:lnTo>
                    <a:pt x="49" y="380"/>
                  </a:lnTo>
                  <a:lnTo>
                    <a:pt x="73" y="326"/>
                  </a:lnTo>
                  <a:lnTo>
                    <a:pt x="102" y="273"/>
                  </a:lnTo>
                  <a:lnTo>
                    <a:pt x="136" y="224"/>
                  </a:lnTo>
                  <a:lnTo>
                    <a:pt x="175" y="180"/>
                  </a:lnTo>
                  <a:lnTo>
                    <a:pt x="219" y="141"/>
                  </a:lnTo>
                  <a:lnTo>
                    <a:pt x="263" y="107"/>
                  </a:lnTo>
                  <a:lnTo>
                    <a:pt x="311" y="73"/>
                  </a:lnTo>
                  <a:lnTo>
                    <a:pt x="365" y="49"/>
                  </a:lnTo>
                  <a:lnTo>
                    <a:pt x="418" y="29"/>
                  </a:lnTo>
                  <a:lnTo>
                    <a:pt x="477" y="10"/>
                  </a:lnTo>
                  <a:lnTo>
                    <a:pt x="535" y="5"/>
                  </a:lnTo>
                  <a:lnTo>
                    <a:pt x="598" y="0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fad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8840" y="1502640"/>
              <a:ext cx="971640" cy="1156320"/>
            </a:xfrm>
            <a:custGeom>
              <a:avLst/>
              <a:gdLst/>
              <a:ahLst/>
              <a:rect l="l" t="t" r="r" b="b"/>
              <a:pathLst>
                <a:path w="1158" h="1197">
                  <a:moveTo>
                    <a:pt x="579" y="0"/>
                  </a:moveTo>
                  <a:lnTo>
                    <a:pt x="579" y="0"/>
                  </a:lnTo>
                  <a:lnTo>
                    <a:pt x="643" y="5"/>
                  </a:lnTo>
                  <a:lnTo>
                    <a:pt x="696" y="15"/>
                  </a:lnTo>
                  <a:lnTo>
                    <a:pt x="755" y="30"/>
                  </a:lnTo>
                  <a:lnTo>
                    <a:pt x="808" y="49"/>
                  </a:lnTo>
                  <a:lnTo>
                    <a:pt x="857" y="73"/>
                  </a:lnTo>
                  <a:lnTo>
                    <a:pt x="905" y="103"/>
                  </a:lnTo>
                  <a:lnTo>
                    <a:pt x="949" y="137"/>
                  </a:lnTo>
                  <a:lnTo>
                    <a:pt x="988" y="176"/>
                  </a:lnTo>
                  <a:lnTo>
                    <a:pt x="1027" y="219"/>
                  </a:lnTo>
                  <a:lnTo>
                    <a:pt x="1061" y="263"/>
                  </a:lnTo>
                  <a:lnTo>
                    <a:pt x="1090" y="317"/>
                  </a:lnTo>
                  <a:lnTo>
                    <a:pt x="1115" y="365"/>
                  </a:lnTo>
                  <a:lnTo>
                    <a:pt x="1134" y="424"/>
                  </a:lnTo>
                  <a:lnTo>
                    <a:pt x="1149" y="477"/>
                  </a:lnTo>
                  <a:lnTo>
                    <a:pt x="1158" y="541"/>
                  </a:lnTo>
                  <a:lnTo>
                    <a:pt x="1158" y="599"/>
                  </a:lnTo>
                  <a:lnTo>
                    <a:pt x="1158" y="599"/>
                  </a:lnTo>
                  <a:lnTo>
                    <a:pt x="1158" y="662"/>
                  </a:lnTo>
                  <a:lnTo>
                    <a:pt x="1149" y="721"/>
                  </a:lnTo>
                  <a:lnTo>
                    <a:pt x="1134" y="779"/>
                  </a:lnTo>
                  <a:lnTo>
                    <a:pt x="1115" y="832"/>
                  </a:lnTo>
                  <a:lnTo>
                    <a:pt x="1090" y="886"/>
                  </a:lnTo>
                  <a:lnTo>
                    <a:pt x="1061" y="935"/>
                  </a:lnTo>
                  <a:lnTo>
                    <a:pt x="1027" y="983"/>
                  </a:lnTo>
                  <a:lnTo>
                    <a:pt x="988" y="1022"/>
                  </a:lnTo>
                  <a:lnTo>
                    <a:pt x="949" y="1061"/>
                  </a:lnTo>
                  <a:lnTo>
                    <a:pt x="905" y="1095"/>
                  </a:lnTo>
                  <a:lnTo>
                    <a:pt x="857" y="1129"/>
                  </a:lnTo>
                  <a:lnTo>
                    <a:pt x="808" y="1154"/>
                  </a:lnTo>
                  <a:lnTo>
                    <a:pt x="755" y="1173"/>
                  </a:lnTo>
                  <a:lnTo>
                    <a:pt x="696" y="1188"/>
                  </a:lnTo>
                  <a:lnTo>
                    <a:pt x="643" y="1197"/>
                  </a:lnTo>
                  <a:lnTo>
                    <a:pt x="579" y="1197"/>
                  </a:lnTo>
                  <a:lnTo>
                    <a:pt x="579" y="1197"/>
                  </a:lnTo>
                  <a:lnTo>
                    <a:pt x="521" y="1197"/>
                  </a:lnTo>
                  <a:lnTo>
                    <a:pt x="463" y="1188"/>
                  </a:lnTo>
                  <a:lnTo>
                    <a:pt x="409" y="1173"/>
                  </a:lnTo>
                  <a:lnTo>
                    <a:pt x="356" y="1154"/>
                  </a:lnTo>
                  <a:lnTo>
                    <a:pt x="307" y="1129"/>
                  </a:lnTo>
                  <a:lnTo>
                    <a:pt x="258" y="1095"/>
                  </a:lnTo>
                  <a:lnTo>
                    <a:pt x="214" y="1061"/>
                  </a:lnTo>
                  <a:lnTo>
                    <a:pt x="171" y="1022"/>
                  </a:lnTo>
                  <a:lnTo>
                    <a:pt x="137" y="983"/>
                  </a:lnTo>
                  <a:lnTo>
                    <a:pt x="103" y="935"/>
                  </a:lnTo>
                  <a:lnTo>
                    <a:pt x="73" y="886"/>
                  </a:lnTo>
                  <a:lnTo>
                    <a:pt x="49" y="832"/>
                  </a:lnTo>
                  <a:lnTo>
                    <a:pt x="30" y="779"/>
                  </a:lnTo>
                  <a:lnTo>
                    <a:pt x="15" y="721"/>
                  </a:lnTo>
                  <a:lnTo>
                    <a:pt x="5" y="662"/>
                  </a:lnTo>
                  <a:lnTo>
                    <a:pt x="0" y="599"/>
                  </a:lnTo>
                  <a:lnTo>
                    <a:pt x="0" y="599"/>
                  </a:lnTo>
                  <a:lnTo>
                    <a:pt x="5" y="541"/>
                  </a:lnTo>
                  <a:lnTo>
                    <a:pt x="15" y="477"/>
                  </a:lnTo>
                  <a:lnTo>
                    <a:pt x="30" y="424"/>
                  </a:lnTo>
                  <a:lnTo>
                    <a:pt x="49" y="365"/>
                  </a:lnTo>
                  <a:lnTo>
                    <a:pt x="73" y="317"/>
                  </a:lnTo>
                  <a:lnTo>
                    <a:pt x="103" y="263"/>
                  </a:lnTo>
                  <a:lnTo>
                    <a:pt x="137" y="219"/>
                  </a:lnTo>
                  <a:lnTo>
                    <a:pt x="171" y="176"/>
                  </a:lnTo>
                  <a:lnTo>
                    <a:pt x="214" y="137"/>
                  </a:lnTo>
                  <a:lnTo>
                    <a:pt x="258" y="103"/>
                  </a:lnTo>
                  <a:lnTo>
                    <a:pt x="307" y="73"/>
                  </a:lnTo>
                  <a:lnTo>
                    <a:pt x="356" y="49"/>
                  </a:lnTo>
                  <a:lnTo>
                    <a:pt x="409" y="30"/>
                  </a:lnTo>
                  <a:lnTo>
                    <a:pt x="463" y="15"/>
                  </a:lnTo>
                  <a:lnTo>
                    <a:pt x="521" y="5"/>
                  </a:lnTo>
                  <a:lnTo>
                    <a:pt x="579" y="0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fae3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40080" y="1526760"/>
              <a:ext cx="938880" cy="1118880"/>
            </a:xfrm>
            <a:custGeom>
              <a:avLst/>
              <a:gdLst/>
              <a:ahLst/>
              <a:rect l="l" t="t" r="r" b="b"/>
              <a:pathLst>
                <a:path w="1119" h="1158">
                  <a:moveTo>
                    <a:pt x="559" y="0"/>
                  </a:moveTo>
                  <a:lnTo>
                    <a:pt x="559" y="0"/>
                  </a:lnTo>
                  <a:lnTo>
                    <a:pt x="618" y="5"/>
                  </a:lnTo>
                  <a:lnTo>
                    <a:pt x="671" y="14"/>
                  </a:lnTo>
                  <a:lnTo>
                    <a:pt x="725" y="29"/>
                  </a:lnTo>
                  <a:lnTo>
                    <a:pt x="778" y="48"/>
                  </a:lnTo>
                  <a:lnTo>
                    <a:pt x="827" y="73"/>
                  </a:lnTo>
                  <a:lnTo>
                    <a:pt x="875" y="102"/>
                  </a:lnTo>
                  <a:lnTo>
                    <a:pt x="914" y="131"/>
                  </a:lnTo>
                  <a:lnTo>
                    <a:pt x="958" y="170"/>
                  </a:lnTo>
                  <a:lnTo>
                    <a:pt x="992" y="214"/>
                  </a:lnTo>
                  <a:lnTo>
                    <a:pt x="1026" y="258"/>
                  </a:lnTo>
                  <a:lnTo>
                    <a:pt x="1051" y="306"/>
                  </a:lnTo>
                  <a:lnTo>
                    <a:pt x="1075" y="355"/>
                  </a:lnTo>
                  <a:lnTo>
                    <a:pt x="1094" y="408"/>
                  </a:lnTo>
                  <a:lnTo>
                    <a:pt x="1109" y="462"/>
                  </a:lnTo>
                  <a:lnTo>
                    <a:pt x="1119" y="520"/>
                  </a:lnTo>
                  <a:lnTo>
                    <a:pt x="1119" y="579"/>
                  </a:lnTo>
                  <a:lnTo>
                    <a:pt x="1119" y="579"/>
                  </a:lnTo>
                  <a:lnTo>
                    <a:pt x="1119" y="637"/>
                  </a:lnTo>
                  <a:lnTo>
                    <a:pt x="1109" y="696"/>
                  </a:lnTo>
                  <a:lnTo>
                    <a:pt x="1094" y="749"/>
                  </a:lnTo>
                  <a:lnTo>
                    <a:pt x="1075" y="803"/>
                  </a:lnTo>
                  <a:lnTo>
                    <a:pt x="1051" y="856"/>
                  </a:lnTo>
                  <a:lnTo>
                    <a:pt x="1026" y="900"/>
                  </a:lnTo>
                  <a:lnTo>
                    <a:pt x="992" y="949"/>
                  </a:lnTo>
                  <a:lnTo>
                    <a:pt x="958" y="988"/>
                  </a:lnTo>
                  <a:lnTo>
                    <a:pt x="914" y="1026"/>
                  </a:lnTo>
                  <a:lnTo>
                    <a:pt x="875" y="1061"/>
                  </a:lnTo>
                  <a:lnTo>
                    <a:pt x="827" y="1090"/>
                  </a:lnTo>
                  <a:lnTo>
                    <a:pt x="778" y="1114"/>
                  </a:lnTo>
                  <a:lnTo>
                    <a:pt x="725" y="1134"/>
                  </a:lnTo>
                  <a:lnTo>
                    <a:pt x="671" y="1148"/>
                  </a:lnTo>
                  <a:lnTo>
                    <a:pt x="618" y="1153"/>
                  </a:lnTo>
                  <a:lnTo>
                    <a:pt x="559" y="1158"/>
                  </a:lnTo>
                  <a:lnTo>
                    <a:pt x="559" y="1158"/>
                  </a:lnTo>
                  <a:lnTo>
                    <a:pt x="501" y="1153"/>
                  </a:lnTo>
                  <a:lnTo>
                    <a:pt x="447" y="1148"/>
                  </a:lnTo>
                  <a:lnTo>
                    <a:pt x="394" y="1134"/>
                  </a:lnTo>
                  <a:lnTo>
                    <a:pt x="340" y="1114"/>
                  </a:lnTo>
                  <a:lnTo>
                    <a:pt x="292" y="1090"/>
                  </a:lnTo>
                  <a:lnTo>
                    <a:pt x="248" y="1061"/>
                  </a:lnTo>
                  <a:lnTo>
                    <a:pt x="204" y="1026"/>
                  </a:lnTo>
                  <a:lnTo>
                    <a:pt x="165" y="988"/>
                  </a:lnTo>
                  <a:lnTo>
                    <a:pt x="126" y="949"/>
                  </a:lnTo>
                  <a:lnTo>
                    <a:pt x="97" y="900"/>
                  </a:lnTo>
                  <a:lnTo>
                    <a:pt x="68" y="856"/>
                  </a:lnTo>
                  <a:lnTo>
                    <a:pt x="43" y="803"/>
                  </a:lnTo>
                  <a:lnTo>
                    <a:pt x="24" y="749"/>
                  </a:lnTo>
                  <a:lnTo>
                    <a:pt x="9" y="696"/>
                  </a:lnTo>
                  <a:lnTo>
                    <a:pt x="5" y="637"/>
                  </a:lnTo>
                  <a:lnTo>
                    <a:pt x="0" y="579"/>
                  </a:lnTo>
                  <a:lnTo>
                    <a:pt x="0" y="579"/>
                  </a:lnTo>
                  <a:lnTo>
                    <a:pt x="5" y="520"/>
                  </a:lnTo>
                  <a:lnTo>
                    <a:pt x="9" y="462"/>
                  </a:lnTo>
                  <a:lnTo>
                    <a:pt x="24" y="408"/>
                  </a:lnTo>
                  <a:lnTo>
                    <a:pt x="43" y="355"/>
                  </a:lnTo>
                  <a:lnTo>
                    <a:pt x="68" y="306"/>
                  </a:lnTo>
                  <a:lnTo>
                    <a:pt x="97" y="258"/>
                  </a:lnTo>
                  <a:lnTo>
                    <a:pt x="126" y="214"/>
                  </a:lnTo>
                  <a:lnTo>
                    <a:pt x="165" y="170"/>
                  </a:lnTo>
                  <a:lnTo>
                    <a:pt x="204" y="131"/>
                  </a:lnTo>
                  <a:lnTo>
                    <a:pt x="248" y="102"/>
                  </a:lnTo>
                  <a:lnTo>
                    <a:pt x="292" y="73"/>
                  </a:lnTo>
                  <a:lnTo>
                    <a:pt x="340" y="48"/>
                  </a:lnTo>
                  <a:lnTo>
                    <a:pt x="394" y="29"/>
                  </a:lnTo>
                  <a:lnTo>
                    <a:pt x="447" y="14"/>
                  </a:lnTo>
                  <a:lnTo>
                    <a:pt x="501" y="5"/>
                  </a:lnTo>
                  <a:lnTo>
                    <a:pt x="559" y="0"/>
                  </a:lnTo>
                  <a:lnTo>
                    <a:pt x="559" y="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55920" y="1550160"/>
              <a:ext cx="910440" cy="1076040"/>
            </a:xfrm>
            <a:custGeom>
              <a:avLst/>
              <a:gdLst/>
              <a:ahLst/>
              <a:rect l="l" t="t" r="r" b="b"/>
              <a:pathLst>
                <a:path w="1085" h="1114">
                  <a:moveTo>
                    <a:pt x="545" y="0"/>
                  </a:moveTo>
                  <a:lnTo>
                    <a:pt x="545" y="0"/>
                  </a:lnTo>
                  <a:lnTo>
                    <a:pt x="599" y="5"/>
                  </a:lnTo>
                  <a:lnTo>
                    <a:pt x="652" y="15"/>
                  </a:lnTo>
                  <a:lnTo>
                    <a:pt x="706" y="29"/>
                  </a:lnTo>
                  <a:lnTo>
                    <a:pt x="754" y="49"/>
                  </a:lnTo>
                  <a:lnTo>
                    <a:pt x="803" y="68"/>
                  </a:lnTo>
                  <a:lnTo>
                    <a:pt x="847" y="97"/>
                  </a:lnTo>
                  <a:lnTo>
                    <a:pt x="891" y="131"/>
                  </a:lnTo>
                  <a:lnTo>
                    <a:pt x="929" y="165"/>
                  </a:lnTo>
                  <a:lnTo>
                    <a:pt x="964" y="204"/>
                  </a:lnTo>
                  <a:lnTo>
                    <a:pt x="993" y="248"/>
                  </a:lnTo>
                  <a:lnTo>
                    <a:pt x="1022" y="292"/>
                  </a:lnTo>
                  <a:lnTo>
                    <a:pt x="1046" y="341"/>
                  </a:lnTo>
                  <a:lnTo>
                    <a:pt x="1061" y="394"/>
                  </a:lnTo>
                  <a:lnTo>
                    <a:pt x="1075" y="448"/>
                  </a:lnTo>
                  <a:lnTo>
                    <a:pt x="1085" y="501"/>
                  </a:lnTo>
                  <a:lnTo>
                    <a:pt x="1085" y="560"/>
                  </a:lnTo>
                  <a:lnTo>
                    <a:pt x="1085" y="560"/>
                  </a:lnTo>
                  <a:lnTo>
                    <a:pt x="1085" y="618"/>
                  </a:lnTo>
                  <a:lnTo>
                    <a:pt x="1075" y="672"/>
                  </a:lnTo>
                  <a:lnTo>
                    <a:pt x="1061" y="725"/>
                  </a:lnTo>
                  <a:lnTo>
                    <a:pt x="1046" y="774"/>
                  </a:lnTo>
                  <a:lnTo>
                    <a:pt x="1022" y="822"/>
                  </a:lnTo>
                  <a:lnTo>
                    <a:pt x="993" y="871"/>
                  </a:lnTo>
                  <a:lnTo>
                    <a:pt x="964" y="915"/>
                  </a:lnTo>
                  <a:lnTo>
                    <a:pt x="929" y="954"/>
                  </a:lnTo>
                  <a:lnTo>
                    <a:pt x="891" y="988"/>
                  </a:lnTo>
                  <a:lnTo>
                    <a:pt x="847" y="1022"/>
                  </a:lnTo>
                  <a:lnTo>
                    <a:pt x="803" y="1051"/>
                  </a:lnTo>
                  <a:lnTo>
                    <a:pt x="754" y="1071"/>
                  </a:lnTo>
                  <a:lnTo>
                    <a:pt x="706" y="1090"/>
                  </a:lnTo>
                  <a:lnTo>
                    <a:pt x="652" y="1105"/>
                  </a:lnTo>
                  <a:lnTo>
                    <a:pt x="599" y="1114"/>
                  </a:lnTo>
                  <a:lnTo>
                    <a:pt x="545" y="1114"/>
                  </a:lnTo>
                  <a:lnTo>
                    <a:pt x="545" y="1114"/>
                  </a:lnTo>
                  <a:lnTo>
                    <a:pt x="492" y="1114"/>
                  </a:lnTo>
                  <a:lnTo>
                    <a:pt x="438" y="1105"/>
                  </a:lnTo>
                  <a:lnTo>
                    <a:pt x="385" y="1090"/>
                  </a:lnTo>
                  <a:lnTo>
                    <a:pt x="336" y="1071"/>
                  </a:lnTo>
                  <a:lnTo>
                    <a:pt x="287" y="1051"/>
                  </a:lnTo>
                  <a:lnTo>
                    <a:pt x="243" y="1022"/>
                  </a:lnTo>
                  <a:lnTo>
                    <a:pt x="200" y="988"/>
                  </a:lnTo>
                  <a:lnTo>
                    <a:pt x="161" y="954"/>
                  </a:lnTo>
                  <a:lnTo>
                    <a:pt x="127" y="915"/>
                  </a:lnTo>
                  <a:lnTo>
                    <a:pt x="97" y="871"/>
                  </a:lnTo>
                  <a:lnTo>
                    <a:pt x="68" y="822"/>
                  </a:lnTo>
                  <a:lnTo>
                    <a:pt x="44" y="774"/>
                  </a:lnTo>
                  <a:lnTo>
                    <a:pt x="29" y="725"/>
                  </a:lnTo>
                  <a:lnTo>
                    <a:pt x="15" y="672"/>
                  </a:lnTo>
                  <a:lnTo>
                    <a:pt x="5" y="618"/>
                  </a:lnTo>
                  <a:lnTo>
                    <a:pt x="0" y="560"/>
                  </a:lnTo>
                  <a:lnTo>
                    <a:pt x="0" y="560"/>
                  </a:lnTo>
                  <a:lnTo>
                    <a:pt x="5" y="501"/>
                  </a:lnTo>
                  <a:lnTo>
                    <a:pt x="15" y="448"/>
                  </a:lnTo>
                  <a:lnTo>
                    <a:pt x="29" y="394"/>
                  </a:lnTo>
                  <a:lnTo>
                    <a:pt x="44" y="341"/>
                  </a:lnTo>
                  <a:lnTo>
                    <a:pt x="68" y="292"/>
                  </a:lnTo>
                  <a:lnTo>
                    <a:pt x="97" y="248"/>
                  </a:lnTo>
                  <a:lnTo>
                    <a:pt x="127" y="204"/>
                  </a:lnTo>
                  <a:lnTo>
                    <a:pt x="161" y="165"/>
                  </a:lnTo>
                  <a:lnTo>
                    <a:pt x="200" y="131"/>
                  </a:lnTo>
                  <a:lnTo>
                    <a:pt x="243" y="97"/>
                  </a:lnTo>
                  <a:lnTo>
                    <a:pt x="287" y="68"/>
                  </a:lnTo>
                  <a:lnTo>
                    <a:pt x="336" y="49"/>
                  </a:lnTo>
                  <a:lnTo>
                    <a:pt x="385" y="29"/>
                  </a:lnTo>
                  <a:lnTo>
                    <a:pt x="438" y="15"/>
                  </a:lnTo>
                  <a:lnTo>
                    <a:pt x="492" y="5"/>
                  </a:lnTo>
                  <a:lnTo>
                    <a:pt x="545" y="0"/>
                  </a:lnTo>
                  <a:lnTo>
                    <a:pt x="545" y="0"/>
                  </a:lnTo>
                  <a:close/>
                </a:path>
              </a:pathLst>
            </a:custGeom>
            <a:solidFill>
              <a:srgbClr val="fae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76080" y="1577880"/>
              <a:ext cx="882000" cy="1034640"/>
            </a:xfrm>
            <a:custGeom>
              <a:avLst/>
              <a:gdLst/>
              <a:ahLst/>
              <a:rect l="l" t="t" r="r" b="b"/>
              <a:pathLst>
                <a:path w="1051" h="1071">
                  <a:moveTo>
                    <a:pt x="526" y="0"/>
                  </a:moveTo>
                  <a:lnTo>
                    <a:pt x="526" y="0"/>
                  </a:lnTo>
                  <a:lnTo>
                    <a:pt x="579" y="0"/>
                  </a:lnTo>
                  <a:lnTo>
                    <a:pt x="628" y="10"/>
                  </a:lnTo>
                  <a:lnTo>
                    <a:pt x="682" y="25"/>
                  </a:lnTo>
                  <a:lnTo>
                    <a:pt x="730" y="39"/>
                  </a:lnTo>
                  <a:lnTo>
                    <a:pt x="774" y="64"/>
                  </a:lnTo>
                  <a:lnTo>
                    <a:pt x="818" y="93"/>
                  </a:lnTo>
                  <a:lnTo>
                    <a:pt x="857" y="122"/>
                  </a:lnTo>
                  <a:lnTo>
                    <a:pt x="896" y="156"/>
                  </a:lnTo>
                  <a:lnTo>
                    <a:pt x="930" y="195"/>
                  </a:lnTo>
                  <a:lnTo>
                    <a:pt x="959" y="234"/>
                  </a:lnTo>
                  <a:lnTo>
                    <a:pt x="988" y="278"/>
                  </a:lnTo>
                  <a:lnTo>
                    <a:pt x="1008" y="326"/>
                  </a:lnTo>
                  <a:lnTo>
                    <a:pt x="1027" y="375"/>
                  </a:lnTo>
                  <a:lnTo>
                    <a:pt x="1037" y="428"/>
                  </a:lnTo>
                  <a:lnTo>
                    <a:pt x="1047" y="482"/>
                  </a:lnTo>
                  <a:lnTo>
                    <a:pt x="1051" y="536"/>
                  </a:lnTo>
                  <a:lnTo>
                    <a:pt x="1051" y="536"/>
                  </a:lnTo>
                  <a:lnTo>
                    <a:pt x="1047" y="589"/>
                  </a:lnTo>
                  <a:lnTo>
                    <a:pt x="1037" y="643"/>
                  </a:lnTo>
                  <a:lnTo>
                    <a:pt x="1027" y="691"/>
                  </a:lnTo>
                  <a:lnTo>
                    <a:pt x="1008" y="745"/>
                  </a:lnTo>
                  <a:lnTo>
                    <a:pt x="988" y="789"/>
                  </a:lnTo>
                  <a:lnTo>
                    <a:pt x="959" y="832"/>
                  </a:lnTo>
                  <a:lnTo>
                    <a:pt x="930" y="876"/>
                  </a:lnTo>
                  <a:lnTo>
                    <a:pt x="896" y="915"/>
                  </a:lnTo>
                  <a:lnTo>
                    <a:pt x="857" y="949"/>
                  </a:lnTo>
                  <a:lnTo>
                    <a:pt x="818" y="978"/>
                  </a:lnTo>
                  <a:lnTo>
                    <a:pt x="774" y="1008"/>
                  </a:lnTo>
                  <a:lnTo>
                    <a:pt x="730" y="1027"/>
                  </a:lnTo>
                  <a:lnTo>
                    <a:pt x="682" y="1046"/>
                  </a:lnTo>
                  <a:lnTo>
                    <a:pt x="628" y="1061"/>
                  </a:lnTo>
                  <a:lnTo>
                    <a:pt x="579" y="1066"/>
                  </a:lnTo>
                  <a:lnTo>
                    <a:pt x="526" y="1071"/>
                  </a:lnTo>
                  <a:lnTo>
                    <a:pt x="526" y="1071"/>
                  </a:lnTo>
                  <a:lnTo>
                    <a:pt x="472" y="1066"/>
                  </a:lnTo>
                  <a:lnTo>
                    <a:pt x="419" y="1061"/>
                  </a:lnTo>
                  <a:lnTo>
                    <a:pt x="370" y="1046"/>
                  </a:lnTo>
                  <a:lnTo>
                    <a:pt x="322" y="1027"/>
                  </a:lnTo>
                  <a:lnTo>
                    <a:pt x="273" y="1008"/>
                  </a:lnTo>
                  <a:lnTo>
                    <a:pt x="234" y="978"/>
                  </a:lnTo>
                  <a:lnTo>
                    <a:pt x="190" y="949"/>
                  </a:lnTo>
                  <a:lnTo>
                    <a:pt x="156" y="915"/>
                  </a:lnTo>
                  <a:lnTo>
                    <a:pt x="122" y="876"/>
                  </a:lnTo>
                  <a:lnTo>
                    <a:pt x="88" y="832"/>
                  </a:lnTo>
                  <a:lnTo>
                    <a:pt x="64" y="789"/>
                  </a:lnTo>
                  <a:lnTo>
                    <a:pt x="39" y="745"/>
                  </a:lnTo>
                  <a:lnTo>
                    <a:pt x="25" y="691"/>
                  </a:lnTo>
                  <a:lnTo>
                    <a:pt x="10" y="643"/>
                  </a:lnTo>
                  <a:lnTo>
                    <a:pt x="5" y="589"/>
                  </a:lnTo>
                  <a:lnTo>
                    <a:pt x="0" y="536"/>
                  </a:lnTo>
                  <a:lnTo>
                    <a:pt x="0" y="536"/>
                  </a:lnTo>
                  <a:lnTo>
                    <a:pt x="5" y="482"/>
                  </a:lnTo>
                  <a:lnTo>
                    <a:pt x="10" y="428"/>
                  </a:lnTo>
                  <a:lnTo>
                    <a:pt x="25" y="375"/>
                  </a:lnTo>
                  <a:lnTo>
                    <a:pt x="39" y="326"/>
                  </a:lnTo>
                  <a:lnTo>
                    <a:pt x="64" y="278"/>
                  </a:lnTo>
                  <a:lnTo>
                    <a:pt x="88" y="234"/>
                  </a:lnTo>
                  <a:lnTo>
                    <a:pt x="122" y="195"/>
                  </a:lnTo>
                  <a:lnTo>
                    <a:pt x="156" y="156"/>
                  </a:lnTo>
                  <a:lnTo>
                    <a:pt x="190" y="122"/>
                  </a:lnTo>
                  <a:lnTo>
                    <a:pt x="234" y="93"/>
                  </a:lnTo>
                  <a:lnTo>
                    <a:pt x="273" y="64"/>
                  </a:lnTo>
                  <a:lnTo>
                    <a:pt x="322" y="39"/>
                  </a:lnTo>
                  <a:lnTo>
                    <a:pt x="370" y="25"/>
                  </a:lnTo>
                  <a:lnTo>
                    <a:pt x="419" y="10"/>
                  </a:lnTo>
                  <a:lnTo>
                    <a:pt x="472" y="0"/>
                  </a:lnTo>
                  <a:lnTo>
                    <a:pt x="526" y="0"/>
                  </a:lnTo>
                  <a:lnTo>
                    <a:pt x="526" y="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92640" y="1602000"/>
              <a:ext cx="853200" cy="991080"/>
            </a:xfrm>
            <a:custGeom>
              <a:avLst/>
              <a:gdLst/>
              <a:ahLst/>
              <a:rect l="l" t="t" r="r" b="b"/>
              <a:pathLst>
                <a:path w="1017" h="1026">
                  <a:moveTo>
                    <a:pt x="511" y="0"/>
                  </a:moveTo>
                  <a:lnTo>
                    <a:pt x="511" y="0"/>
                  </a:lnTo>
                  <a:lnTo>
                    <a:pt x="559" y="0"/>
                  </a:lnTo>
                  <a:lnTo>
                    <a:pt x="613" y="9"/>
                  </a:lnTo>
                  <a:lnTo>
                    <a:pt x="657" y="24"/>
                  </a:lnTo>
                  <a:lnTo>
                    <a:pt x="705" y="39"/>
                  </a:lnTo>
                  <a:lnTo>
                    <a:pt x="749" y="63"/>
                  </a:lnTo>
                  <a:lnTo>
                    <a:pt x="793" y="87"/>
                  </a:lnTo>
                  <a:lnTo>
                    <a:pt x="832" y="116"/>
                  </a:lnTo>
                  <a:lnTo>
                    <a:pt x="866" y="150"/>
                  </a:lnTo>
                  <a:lnTo>
                    <a:pt x="900" y="184"/>
                  </a:lnTo>
                  <a:lnTo>
                    <a:pt x="929" y="228"/>
                  </a:lnTo>
                  <a:lnTo>
                    <a:pt x="954" y="267"/>
                  </a:lnTo>
                  <a:lnTo>
                    <a:pt x="973" y="316"/>
                  </a:lnTo>
                  <a:lnTo>
                    <a:pt x="992" y="360"/>
                  </a:lnTo>
                  <a:lnTo>
                    <a:pt x="1007" y="408"/>
                  </a:lnTo>
                  <a:lnTo>
                    <a:pt x="1012" y="462"/>
                  </a:lnTo>
                  <a:lnTo>
                    <a:pt x="1017" y="515"/>
                  </a:lnTo>
                  <a:lnTo>
                    <a:pt x="1017" y="515"/>
                  </a:lnTo>
                  <a:lnTo>
                    <a:pt x="1012" y="564"/>
                  </a:lnTo>
                  <a:lnTo>
                    <a:pt x="1007" y="618"/>
                  </a:lnTo>
                  <a:lnTo>
                    <a:pt x="992" y="666"/>
                  </a:lnTo>
                  <a:lnTo>
                    <a:pt x="973" y="715"/>
                  </a:lnTo>
                  <a:lnTo>
                    <a:pt x="954" y="759"/>
                  </a:lnTo>
                  <a:lnTo>
                    <a:pt x="929" y="802"/>
                  </a:lnTo>
                  <a:lnTo>
                    <a:pt x="900" y="841"/>
                  </a:lnTo>
                  <a:lnTo>
                    <a:pt x="866" y="875"/>
                  </a:lnTo>
                  <a:lnTo>
                    <a:pt x="832" y="910"/>
                  </a:lnTo>
                  <a:lnTo>
                    <a:pt x="793" y="939"/>
                  </a:lnTo>
                  <a:lnTo>
                    <a:pt x="749" y="963"/>
                  </a:lnTo>
                  <a:lnTo>
                    <a:pt x="705" y="987"/>
                  </a:lnTo>
                  <a:lnTo>
                    <a:pt x="657" y="1007"/>
                  </a:lnTo>
                  <a:lnTo>
                    <a:pt x="613" y="1017"/>
                  </a:lnTo>
                  <a:lnTo>
                    <a:pt x="559" y="1026"/>
                  </a:lnTo>
                  <a:lnTo>
                    <a:pt x="511" y="1026"/>
                  </a:lnTo>
                  <a:lnTo>
                    <a:pt x="511" y="1026"/>
                  </a:lnTo>
                  <a:lnTo>
                    <a:pt x="457" y="1026"/>
                  </a:lnTo>
                  <a:lnTo>
                    <a:pt x="409" y="1017"/>
                  </a:lnTo>
                  <a:lnTo>
                    <a:pt x="360" y="1007"/>
                  </a:lnTo>
                  <a:lnTo>
                    <a:pt x="311" y="987"/>
                  </a:lnTo>
                  <a:lnTo>
                    <a:pt x="268" y="963"/>
                  </a:lnTo>
                  <a:lnTo>
                    <a:pt x="224" y="939"/>
                  </a:lnTo>
                  <a:lnTo>
                    <a:pt x="185" y="910"/>
                  </a:lnTo>
                  <a:lnTo>
                    <a:pt x="151" y="875"/>
                  </a:lnTo>
                  <a:lnTo>
                    <a:pt x="117" y="841"/>
                  </a:lnTo>
                  <a:lnTo>
                    <a:pt x="88" y="802"/>
                  </a:lnTo>
                  <a:lnTo>
                    <a:pt x="63" y="759"/>
                  </a:lnTo>
                  <a:lnTo>
                    <a:pt x="44" y="715"/>
                  </a:lnTo>
                  <a:lnTo>
                    <a:pt x="24" y="666"/>
                  </a:lnTo>
                  <a:lnTo>
                    <a:pt x="15" y="618"/>
                  </a:lnTo>
                  <a:lnTo>
                    <a:pt x="5" y="564"/>
                  </a:lnTo>
                  <a:lnTo>
                    <a:pt x="0" y="515"/>
                  </a:lnTo>
                  <a:lnTo>
                    <a:pt x="0" y="515"/>
                  </a:lnTo>
                  <a:lnTo>
                    <a:pt x="5" y="462"/>
                  </a:lnTo>
                  <a:lnTo>
                    <a:pt x="15" y="408"/>
                  </a:lnTo>
                  <a:lnTo>
                    <a:pt x="24" y="360"/>
                  </a:lnTo>
                  <a:lnTo>
                    <a:pt x="44" y="316"/>
                  </a:lnTo>
                  <a:lnTo>
                    <a:pt x="63" y="267"/>
                  </a:lnTo>
                  <a:lnTo>
                    <a:pt x="88" y="228"/>
                  </a:lnTo>
                  <a:lnTo>
                    <a:pt x="117" y="184"/>
                  </a:lnTo>
                  <a:lnTo>
                    <a:pt x="151" y="150"/>
                  </a:lnTo>
                  <a:lnTo>
                    <a:pt x="185" y="116"/>
                  </a:lnTo>
                  <a:lnTo>
                    <a:pt x="224" y="87"/>
                  </a:lnTo>
                  <a:lnTo>
                    <a:pt x="268" y="63"/>
                  </a:lnTo>
                  <a:lnTo>
                    <a:pt x="311" y="39"/>
                  </a:lnTo>
                  <a:lnTo>
                    <a:pt x="360" y="24"/>
                  </a:lnTo>
                  <a:lnTo>
                    <a:pt x="409" y="9"/>
                  </a:lnTo>
                  <a:lnTo>
                    <a:pt x="457" y="0"/>
                  </a:lnTo>
                  <a:lnTo>
                    <a:pt x="511" y="0"/>
                  </a:lnTo>
                  <a:lnTo>
                    <a:pt x="511" y="0"/>
                  </a:lnTo>
                  <a:close/>
                </a:path>
              </a:pathLst>
            </a:custGeom>
            <a:solidFill>
              <a:srgbClr val="f7ef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3160" y="1625400"/>
              <a:ext cx="820800" cy="954720"/>
            </a:xfrm>
            <a:custGeom>
              <a:avLst/>
              <a:gdLst/>
              <a:ahLst/>
              <a:rect l="l" t="t" r="r" b="b"/>
              <a:pathLst>
                <a:path w="978" h="988">
                  <a:moveTo>
                    <a:pt x="487" y="0"/>
                  </a:moveTo>
                  <a:lnTo>
                    <a:pt x="487" y="0"/>
                  </a:lnTo>
                  <a:lnTo>
                    <a:pt x="540" y="5"/>
                  </a:lnTo>
                  <a:lnTo>
                    <a:pt x="589" y="10"/>
                  </a:lnTo>
                  <a:lnTo>
                    <a:pt x="633" y="24"/>
                  </a:lnTo>
                  <a:lnTo>
                    <a:pt x="677" y="39"/>
                  </a:lnTo>
                  <a:lnTo>
                    <a:pt x="720" y="58"/>
                  </a:lnTo>
                  <a:lnTo>
                    <a:pt x="759" y="83"/>
                  </a:lnTo>
                  <a:lnTo>
                    <a:pt x="798" y="112"/>
                  </a:lnTo>
                  <a:lnTo>
                    <a:pt x="832" y="146"/>
                  </a:lnTo>
                  <a:lnTo>
                    <a:pt x="866" y="180"/>
                  </a:lnTo>
                  <a:lnTo>
                    <a:pt x="896" y="219"/>
                  </a:lnTo>
                  <a:lnTo>
                    <a:pt x="920" y="258"/>
                  </a:lnTo>
                  <a:lnTo>
                    <a:pt x="939" y="302"/>
                  </a:lnTo>
                  <a:lnTo>
                    <a:pt x="954" y="345"/>
                  </a:lnTo>
                  <a:lnTo>
                    <a:pt x="968" y="394"/>
                  </a:lnTo>
                  <a:lnTo>
                    <a:pt x="973" y="443"/>
                  </a:lnTo>
                  <a:lnTo>
                    <a:pt x="978" y="491"/>
                  </a:lnTo>
                  <a:lnTo>
                    <a:pt x="978" y="491"/>
                  </a:lnTo>
                  <a:lnTo>
                    <a:pt x="973" y="545"/>
                  </a:lnTo>
                  <a:lnTo>
                    <a:pt x="968" y="594"/>
                  </a:lnTo>
                  <a:lnTo>
                    <a:pt x="954" y="637"/>
                  </a:lnTo>
                  <a:lnTo>
                    <a:pt x="939" y="686"/>
                  </a:lnTo>
                  <a:lnTo>
                    <a:pt x="920" y="730"/>
                  </a:lnTo>
                  <a:lnTo>
                    <a:pt x="896" y="769"/>
                  </a:lnTo>
                  <a:lnTo>
                    <a:pt x="866" y="808"/>
                  </a:lnTo>
                  <a:lnTo>
                    <a:pt x="832" y="842"/>
                  </a:lnTo>
                  <a:lnTo>
                    <a:pt x="798" y="876"/>
                  </a:lnTo>
                  <a:lnTo>
                    <a:pt x="759" y="900"/>
                  </a:lnTo>
                  <a:lnTo>
                    <a:pt x="720" y="924"/>
                  </a:lnTo>
                  <a:lnTo>
                    <a:pt x="677" y="949"/>
                  </a:lnTo>
                  <a:lnTo>
                    <a:pt x="633" y="963"/>
                  </a:lnTo>
                  <a:lnTo>
                    <a:pt x="589" y="978"/>
                  </a:lnTo>
                  <a:lnTo>
                    <a:pt x="540" y="983"/>
                  </a:lnTo>
                  <a:lnTo>
                    <a:pt x="487" y="988"/>
                  </a:lnTo>
                  <a:lnTo>
                    <a:pt x="487" y="988"/>
                  </a:lnTo>
                  <a:lnTo>
                    <a:pt x="438" y="983"/>
                  </a:lnTo>
                  <a:lnTo>
                    <a:pt x="390" y="978"/>
                  </a:lnTo>
                  <a:lnTo>
                    <a:pt x="346" y="963"/>
                  </a:lnTo>
                  <a:lnTo>
                    <a:pt x="297" y="949"/>
                  </a:lnTo>
                  <a:lnTo>
                    <a:pt x="258" y="924"/>
                  </a:lnTo>
                  <a:lnTo>
                    <a:pt x="214" y="900"/>
                  </a:lnTo>
                  <a:lnTo>
                    <a:pt x="180" y="876"/>
                  </a:lnTo>
                  <a:lnTo>
                    <a:pt x="141" y="842"/>
                  </a:lnTo>
                  <a:lnTo>
                    <a:pt x="112" y="808"/>
                  </a:lnTo>
                  <a:lnTo>
                    <a:pt x="83" y="769"/>
                  </a:lnTo>
                  <a:lnTo>
                    <a:pt x="59" y="730"/>
                  </a:lnTo>
                  <a:lnTo>
                    <a:pt x="39" y="686"/>
                  </a:lnTo>
                  <a:lnTo>
                    <a:pt x="20" y="637"/>
                  </a:lnTo>
                  <a:lnTo>
                    <a:pt x="10" y="594"/>
                  </a:lnTo>
                  <a:lnTo>
                    <a:pt x="0" y="545"/>
                  </a:lnTo>
                  <a:lnTo>
                    <a:pt x="0" y="491"/>
                  </a:lnTo>
                  <a:lnTo>
                    <a:pt x="0" y="491"/>
                  </a:lnTo>
                  <a:lnTo>
                    <a:pt x="0" y="443"/>
                  </a:lnTo>
                  <a:lnTo>
                    <a:pt x="10" y="394"/>
                  </a:lnTo>
                  <a:lnTo>
                    <a:pt x="20" y="345"/>
                  </a:lnTo>
                  <a:lnTo>
                    <a:pt x="39" y="302"/>
                  </a:lnTo>
                  <a:lnTo>
                    <a:pt x="59" y="258"/>
                  </a:lnTo>
                  <a:lnTo>
                    <a:pt x="83" y="219"/>
                  </a:lnTo>
                  <a:lnTo>
                    <a:pt x="112" y="180"/>
                  </a:lnTo>
                  <a:lnTo>
                    <a:pt x="141" y="146"/>
                  </a:lnTo>
                  <a:lnTo>
                    <a:pt x="180" y="112"/>
                  </a:lnTo>
                  <a:lnTo>
                    <a:pt x="214" y="83"/>
                  </a:lnTo>
                  <a:lnTo>
                    <a:pt x="258" y="58"/>
                  </a:lnTo>
                  <a:lnTo>
                    <a:pt x="297" y="39"/>
                  </a:lnTo>
                  <a:lnTo>
                    <a:pt x="346" y="24"/>
                  </a:lnTo>
                  <a:lnTo>
                    <a:pt x="390" y="10"/>
                  </a:lnTo>
                  <a:lnTo>
                    <a:pt x="438" y="5"/>
                  </a:lnTo>
                  <a:lnTo>
                    <a:pt x="487" y="0"/>
                  </a:lnTo>
                  <a:lnTo>
                    <a:pt x="487" y="0"/>
                  </a:lnTo>
                  <a:close/>
                </a:path>
              </a:pathLst>
            </a:custGeom>
            <a:solidFill>
              <a:srgbClr val="f7f2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29720" y="1648440"/>
              <a:ext cx="792000" cy="9118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472" y="0"/>
                  </a:moveTo>
                  <a:lnTo>
                    <a:pt x="472" y="0"/>
                  </a:lnTo>
                  <a:lnTo>
                    <a:pt x="520" y="5"/>
                  </a:lnTo>
                  <a:lnTo>
                    <a:pt x="569" y="10"/>
                  </a:lnTo>
                  <a:lnTo>
                    <a:pt x="613" y="25"/>
                  </a:lnTo>
                  <a:lnTo>
                    <a:pt x="657" y="39"/>
                  </a:lnTo>
                  <a:lnTo>
                    <a:pt x="695" y="59"/>
                  </a:lnTo>
                  <a:lnTo>
                    <a:pt x="734" y="83"/>
                  </a:lnTo>
                  <a:lnTo>
                    <a:pt x="773" y="112"/>
                  </a:lnTo>
                  <a:lnTo>
                    <a:pt x="803" y="141"/>
                  </a:lnTo>
                  <a:lnTo>
                    <a:pt x="837" y="175"/>
                  </a:lnTo>
                  <a:lnTo>
                    <a:pt x="861" y="209"/>
                  </a:lnTo>
                  <a:lnTo>
                    <a:pt x="885" y="248"/>
                  </a:lnTo>
                  <a:lnTo>
                    <a:pt x="905" y="292"/>
                  </a:lnTo>
                  <a:lnTo>
                    <a:pt x="924" y="331"/>
                  </a:lnTo>
                  <a:lnTo>
                    <a:pt x="934" y="380"/>
                  </a:lnTo>
                  <a:lnTo>
                    <a:pt x="939" y="424"/>
                  </a:lnTo>
                  <a:lnTo>
                    <a:pt x="944" y="472"/>
                  </a:lnTo>
                  <a:lnTo>
                    <a:pt x="944" y="472"/>
                  </a:lnTo>
                  <a:lnTo>
                    <a:pt x="939" y="521"/>
                  </a:lnTo>
                  <a:lnTo>
                    <a:pt x="934" y="570"/>
                  </a:lnTo>
                  <a:lnTo>
                    <a:pt x="924" y="613"/>
                  </a:lnTo>
                  <a:lnTo>
                    <a:pt x="905" y="657"/>
                  </a:lnTo>
                  <a:lnTo>
                    <a:pt x="885" y="696"/>
                  </a:lnTo>
                  <a:lnTo>
                    <a:pt x="861" y="735"/>
                  </a:lnTo>
                  <a:lnTo>
                    <a:pt x="837" y="774"/>
                  </a:lnTo>
                  <a:lnTo>
                    <a:pt x="803" y="808"/>
                  </a:lnTo>
                  <a:lnTo>
                    <a:pt x="773" y="837"/>
                  </a:lnTo>
                  <a:lnTo>
                    <a:pt x="734" y="866"/>
                  </a:lnTo>
                  <a:lnTo>
                    <a:pt x="695" y="886"/>
                  </a:lnTo>
                  <a:lnTo>
                    <a:pt x="657" y="910"/>
                  </a:lnTo>
                  <a:lnTo>
                    <a:pt x="613" y="925"/>
                  </a:lnTo>
                  <a:lnTo>
                    <a:pt x="569" y="935"/>
                  </a:lnTo>
                  <a:lnTo>
                    <a:pt x="520" y="944"/>
                  </a:lnTo>
                  <a:lnTo>
                    <a:pt x="472" y="944"/>
                  </a:lnTo>
                  <a:lnTo>
                    <a:pt x="472" y="944"/>
                  </a:lnTo>
                  <a:lnTo>
                    <a:pt x="423" y="944"/>
                  </a:lnTo>
                  <a:lnTo>
                    <a:pt x="379" y="935"/>
                  </a:lnTo>
                  <a:lnTo>
                    <a:pt x="331" y="925"/>
                  </a:lnTo>
                  <a:lnTo>
                    <a:pt x="292" y="910"/>
                  </a:lnTo>
                  <a:lnTo>
                    <a:pt x="248" y="886"/>
                  </a:lnTo>
                  <a:lnTo>
                    <a:pt x="209" y="866"/>
                  </a:lnTo>
                  <a:lnTo>
                    <a:pt x="175" y="837"/>
                  </a:lnTo>
                  <a:lnTo>
                    <a:pt x="141" y="808"/>
                  </a:lnTo>
                  <a:lnTo>
                    <a:pt x="112" y="774"/>
                  </a:lnTo>
                  <a:lnTo>
                    <a:pt x="82" y="735"/>
                  </a:lnTo>
                  <a:lnTo>
                    <a:pt x="58" y="696"/>
                  </a:lnTo>
                  <a:lnTo>
                    <a:pt x="39" y="657"/>
                  </a:lnTo>
                  <a:lnTo>
                    <a:pt x="24" y="613"/>
                  </a:lnTo>
                  <a:lnTo>
                    <a:pt x="9" y="570"/>
                  </a:lnTo>
                  <a:lnTo>
                    <a:pt x="5" y="521"/>
                  </a:lnTo>
                  <a:lnTo>
                    <a:pt x="0" y="472"/>
                  </a:lnTo>
                  <a:lnTo>
                    <a:pt x="0" y="472"/>
                  </a:lnTo>
                  <a:lnTo>
                    <a:pt x="5" y="424"/>
                  </a:lnTo>
                  <a:lnTo>
                    <a:pt x="9" y="380"/>
                  </a:lnTo>
                  <a:lnTo>
                    <a:pt x="24" y="331"/>
                  </a:lnTo>
                  <a:lnTo>
                    <a:pt x="39" y="292"/>
                  </a:lnTo>
                  <a:lnTo>
                    <a:pt x="58" y="248"/>
                  </a:lnTo>
                  <a:lnTo>
                    <a:pt x="82" y="209"/>
                  </a:lnTo>
                  <a:lnTo>
                    <a:pt x="112" y="175"/>
                  </a:lnTo>
                  <a:lnTo>
                    <a:pt x="141" y="141"/>
                  </a:lnTo>
                  <a:lnTo>
                    <a:pt x="175" y="112"/>
                  </a:lnTo>
                  <a:lnTo>
                    <a:pt x="209" y="83"/>
                  </a:lnTo>
                  <a:lnTo>
                    <a:pt x="248" y="59"/>
                  </a:lnTo>
                  <a:lnTo>
                    <a:pt x="292" y="39"/>
                  </a:lnTo>
                  <a:lnTo>
                    <a:pt x="331" y="25"/>
                  </a:lnTo>
                  <a:lnTo>
                    <a:pt x="379" y="10"/>
                  </a:lnTo>
                  <a:lnTo>
                    <a:pt x="423" y="5"/>
                  </a:lnTo>
                  <a:lnTo>
                    <a:pt x="472" y="0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0000" y="1935360"/>
              <a:ext cx="273600" cy="192960"/>
            </a:xfrm>
            <a:custGeom>
              <a:avLst/>
              <a:gdLst/>
              <a:ahLst/>
              <a:rect l="l" t="t" r="r" b="b"/>
              <a:pathLst>
                <a:path w="326" h="200">
                  <a:moveTo>
                    <a:pt x="190" y="15"/>
                  </a:moveTo>
                  <a:lnTo>
                    <a:pt x="190" y="15"/>
                  </a:lnTo>
                  <a:lnTo>
                    <a:pt x="224" y="24"/>
                  </a:lnTo>
                  <a:lnTo>
                    <a:pt x="253" y="39"/>
                  </a:lnTo>
                  <a:lnTo>
                    <a:pt x="278" y="54"/>
                  </a:lnTo>
                  <a:lnTo>
                    <a:pt x="297" y="73"/>
                  </a:lnTo>
                  <a:lnTo>
                    <a:pt x="312" y="93"/>
                  </a:lnTo>
                  <a:lnTo>
                    <a:pt x="321" y="112"/>
                  </a:lnTo>
                  <a:lnTo>
                    <a:pt x="326" y="131"/>
                  </a:lnTo>
                  <a:lnTo>
                    <a:pt x="326" y="146"/>
                  </a:lnTo>
                  <a:lnTo>
                    <a:pt x="326" y="146"/>
                  </a:lnTo>
                  <a:lnTo>
                    <a:pt x="316" y="166"/>
                  </a:lnTo>
                  <a:lnTo>
                    <a:pt x="302" y="180"/>
                  </a:lnTo>
                  <a:lnTo>
                    <a:pt x="282" y="190"/>
                  </a:lnTo>
                  <a:lnTo>
                    <a:pt x="263" y="195"/>
                  </a:lnTo>
                  <a:lnTo>
                    <a:pt x="234" y="200"/>
                  </a:lnTo>
                  <a:lnTo>
                    <a:pt x="205" y="200"/>
                  </a:lnTo>
                  <a:lnTo>
                    <a:pt x="171" y="195"/>
                  </a:lnTo>
                  <a:lnTo>
                    <a:pt x="141" y="190"/>
                  </a:lnTo>
                  <a:lnTo>
                    <a:pt x="141" y="190"/>
                  </a:lnTo>
                  <a:lnTo>
                    <a:pt x="107" y="175"/>
                  </a:lnTo>
                  <a:lnTo>
                    <a:pt x="78" y="166"/>
                  </a:lnTo>
                  <a:lnTo>
                    <a:pt x="54" y="146"/>
                  </a:lnTo>
                  <a:lnTo>
                    <a:pt x="34" y="131"/>
                  </a:lnTo>
                  <a:lnTo>
                    <a:pt x="20" y="112"/>
                  </a:lnTo>
                  <a:lnTo>
                    <a:pt x="5" y="93"/>
                  </a:lnTo>
                  <a:lnTo>
                    <a:pt x="0" y="73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15" y="34"/>
                  </a:lnTo>
                  <a:lnTo>
                    <a:pt x="25" y="24"/>
                  </a:lnTo>
                  <a:lnTo>
                    <a:pt x="44" y="15"/>
                  </a:lnTo>
                  <a:lnTo>
                    <a:pt x="68" y="5"/>
                  </a:lnTo>
                  <a:lnTo>
                    <a:pt x="98" y="0"/>
                  </a:lnTo>
                  <a:lnTo>
                    <a:pt x="127" y="0"/>
                  </a:lnTo>
                  <a:lnTo>
                    <a:pt x="156" y="5"/>
                  </a:lnTo>
                  <a:lnTo>
                    <a:pt x="190" y="15"/>
                  </a:lnTo>
                  <a:lnTo>
                    <a:pt x="190" y="15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8640" y="1940400"/>
              <a:ext cx="26100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80" y="10"/>
                  </a:moveTo>
                  <a:lnTo>
                    <a:pt x="180" y="10"/>
                  </a:lnTo>
                  <a:lnTo>
                    <a:pt x="209" y="24"/>
                  </a:lnTo>
                  <a:lnTo>
                    <a:pt x="238" y="34"/>
                  </a:lnTo>
                  <a:lnTo>
                    <a:pt x="263" y="53"/>
                  </a:lnTo>
                  <a:lnTo>
                    <a:pt x="282" y="68"/>
                  </a:lnTo>
                  <a:lnTo>
                    <a:pt x="297" y="88"/>
                  </a:lnTo>
                  <a:lnTo>
                    <a:pt x="306" y="107"/>
                  </a:lnTo>
                  <a:lnTo>
                    <a:pt x="311" y="122"/>
                  </a:lnTo>
                  <a:lnTo>
                    <a:pt x="311" y="141"/>
                  </a:lnTo>
                  <a:lnTo>
                    <a:pt x="311" y="141"/>
                  </a:lnTo>
                  <a:lnTo>
                    <a:pt x="302" y="156"/>
                  </a:lnTo>
                  <a:lnTo>
                    <a:pt x="287" y="170"/>
                  </a:lnTo>
                  <a:lnTo>
                    <a:pt x="268" y="180"/>
                  </a:lnTo>
                  <a:lnTo>
                    <a:pt x="248" y="185"/>
                  </a:lnTo>
                  <a:lnTo>
                    <a:pt x="219" y="190"/>
                  </a:lnTo>
                  <a:lnTo>
                    <a:pt x="195" y="190"/>
                  </a:lnTo>
                  <a:lnTo>
                    <a:pt x="161" y="185"/>
                  </a:lnTo>
                  <a:lnTo>
                    <a:pt x="131" y="180"/>
                  </a:lnTo>
                  <a:lnTo>
                    <a:pt x="131" y="180"/>
                  </a:lnTo>
                  <a:lnTo>
                    <a:pt x="102" y="170"/>
                  </a:lnTo>
                  <a:lnTo>
                    <a:pt x="73" y="156"/>
                  </a:lnTo>
                  <a:lnTo>
                    <a:pt x="49" y="141"/>
                  </a:lnTo>
                  <a:lnTo>
                    <a:pt x="29" y="122"/>
                  </a:lnTo>
                  <a:lnTo>
                    <a:pt x="15" y="107"/>
                  </a:lnTo>
                  <a:lnTo>
                    <a:pt x="5" y="88"/>
                  </a:lnTo>
                  <a:lnTo>
                    <a:pt x="0" y="68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8" y="0"/>
                  </a:lnTo>
                  <a:lnTo>
                    <a:pt x="117" y="0"/>
                  </a:lnTo>
                  <a:lnTo>
                    <a:pt x="151" y="5"/>
                  </a:lnTo>
                  <a:lnTo>
                    <a:pt x="180" y="10"/>
                  </a:lnTo>
                  <a:lnTo>
                    <a:pt x="180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72600" y="1945080"/>
              <a:ext cx="252720" cy="173880"/>
            </a:xfrm>
            <a:custGeom>
              <a:avLst/>
              <a:gdLst/>
              <a:ahLst/>
              <a:rect l="l" t="t" r="r" b="b"/>
              <a:pathLst>
                <a:path w="301" h="180">
                  <a:moveTo>
                    <a:pt x="175" y="10"/>
                  </a:moveTo>
                  <a:lnTo>
                    <a:pt x="175" y="10"/>
                  </a:lnTo>
                  <a:lnTo>
                    <a:pt x="204" y="19"/>
                  </a:lnTo>
                  <a:lnTo>
                    <a:pt x="229" y="34"/>
                  </a:lnTo>
                  <a:lnTo>
                    <a:pt x="253" y="48"/>
                  </a:lnTo>
                  <a:lnTo>
                    <a:pt x="272" y="63"/>
                  </a:lnTo>
                  <a:lnTo>
                    <a:pt x="287" y="83"/>
                  </a:lnTo>
                  <a:lnTo>
                    <a:pt x="297" y="97"/>
                  </a:lnTo>
                  <a:lnTo>
                    <a:pt x="301" y="117"/>
                  </a:lnTo>
                  <a:lnTo>
                    <a:pt x="297" y="136"/>
                  </a:lnTo>
                  <a:lnTo>
                    <a:pt x="297" y="136"/>
                  </a:lnTo>
                  <a:lnTo>
                    <a:pt x="292" y="151"/>
                  </a:lnTo>
                  <a:lnTo>
                    <a:pt x="277" y="160"/>
                  </a:lnTo>
                  <a:lnTo>
                    <a:pt x="258" y="170"/>
                  </a:lnTo>
                  <a:lnTo>
                    <a:pt x="238" y="180"/>
                  </a:lnTo>
                  <a:lnTo>
                    <a:pt x="214" y="180"/>
                  </a:lnTo>
                  <a:lnTo>
                    <a:pt x="185" y="180"/>
                  </a:lnTo>
                  <a:lnTo>
                    <a:pt x="156" y="180"/>
                  </a:lnTo>
                  <a:lnTo>
                    <a:pt x="126" y="170"/>
                  </a:lnTo>
                  <a:lnTo>
                    <a:pt x="126" y="170"/>
                  </a:lnTo>
                  <a:lnTo>
                    <a:pt x="97" y="160"/>
                  </a:lnTo>
                  <a:lnTo>
                    <a:pt x="73" y="146"/>
                  </a:lnTo>
                  <a:lnTo>
                    <a:pt x="48" y="131"/>
                  </a:lnTo>
                  <a:lnTo>
                    <a:pt x="29" y="117"/>
                  </a:lnTo>
                  <a:lnTo>
                    <a:pt x="14" y="102"/>
                  </a:lnTo>
                  <a:lnTo>
                    <a:pt x="5" y="83"/>
                  </a:lnTo>
                  <a:lnTo>
                    <a:pt x="0" y="63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10" y="34"/>
                  </a:lnTo>
                  <a:lnTo>
                    <a:pt x="24" y="19"/>
                  </a:lnTo>
                  <a:lnTo>
                    <a:pt x="39" y="10"/>
                  </a:lnTo>
                  <a:lnTo>
                    <a:pt x="63" y="5"/>
                  </a:lnTo>
                  <a:lnTo>
                    <a:pt x="87" y="0"/>
                  </a:lnTo>
                  <a:lnTo>
                    <a:pt x="117" y="0"/>
                  </a:lnTo>
                  <a:lnTo>
                    <a:pt x="146" y="5"/>
                  </a:lnTo>
                  <a:lnTo>
                    <a:pt x="175" y="10"/>
                  </a:lnTo>
                  <a:lnTo>
                    <a:pt x="175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81240" y="1950120"/>
              <a:ext cx="236520" cy="168840"/>
            </a:xfrm>
            <a:custGeom>
              <a:avLst/>
              <a:gdLst/>
              <a:ahLst/>
              <a:rect l="l" t="t" r="r" b="b"/>
              <a:pathLst>
                <a:path w="282" h="175">
                  <a:moveTo>
                    <a:pt x="165" y="9"/>
                  </a:moveTo>
                  <a:lnTo>
                    <a:pt x="165" y="9"/>
                  </a:lnTo>
                  <a:lnTo>
                    <a:pt x="189" y="19"/>
                  </a:lnTo>
                  <a:lnTo>
                    <a:pt x="214" y="29"/>
                  </a:lnTo>
                  <a:lnTo>
                    <a:pt x="238" y="43"/>
                  </a:lnTo>
                  <a:lnTo>
                    <a:pt x="257" y="63"/>
                  </a:lnTo>
                  <a:lnTo>
                    <a:pt x="272" y="78"/>
                  </a:lnTo>
                  <a:lnTo>
                    <a:pt x="277" y="92"/>
                  </a:lnTo>
                  <a:lnTo>
                    <a:pt x="282" y="112"/>
                  </a:lnTo>
                  <a:lnTo>
                    <a:pt x="282" y="126"/>
                  </a:lnTo>
                  <a:lnTo>
                    <a:pt x="282" y="126"/>
                  </a:lnTo>
                  <a:lnTo>
                    <a:pt x="272" y="141"/>
                  </a:lnTo>
                  <a:lnTo>
                    <a:pt x="262" y="155"/>
                  </a:lnTo>
                  <a:lnTo>
                    <a:pt x="243" y="165"/>
                  </a:lnTo>
                  <a:lnTo>
                    <a:pt x="223" y="170"/>
                  </a:lnTo>
                  <a:lnTo>
                    <a:pt x="199" y="175"/>
                  </a:lnTo>
                  <a:lnTo>
                    <a:pt x="175" y="175"/>
                  </a:lnTo>
                  <a:lnTo>
                    <a:pt x="146" y="170"/>
                  </a:lnTo>
                  <a:lnTo>
                    <a:pt x="116" y="160"/>
                  </a:lnTo>
                  <a:lnTo>
                    <a:pt x="116" y="160"/>
                  </a:lnTo>
                  <a:lnTo>
                    <a:pt x="92" y="151"/>
                  </a:lnTo>
                  <a:lnTo>
                    <a:pt x="63" y="141"/>
                  </a:lnTo>
                  <a:lnTo>
                    <a:pt x="43" y="126"/>
                  </a:lnTo>
                  <a:lnTo>
                    <a:pt x="24" y="112"/>
                  </a:lnTo>
                  <a:lnTo>
                    <a:pt x="9" y="92"/>
                  </a:lnTo>
                  <a:lnTo>
                    <a:pt x="0" y="78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4" y="29"/>
                  </a:lnTo>
                  <a:lnTo>
                    <a:pt x="19" y="19"/>
                  </a:lnTo>
                  <a:lnTo>
                    <a:pt x="34" y="9"/>
                  </a:lnTo>
                  <a:lnTo>
                    <a:pt x="58" y="0"/>
                  </a:lnTo>
                  <a:lnTo>
                    <a:pt x="82" y="0"/>
                  </a:lnTo>
                  <a:lnTo>
                    <a:pt x="107" y="0"/>
                  </a:lnTo>
                  <a:lnTo>
                    <a:pt x="136" y="0"/>
                  </a:lnTo>
                  <a:lnTo>
                    <a:pt x="165" y="9"/>
                  </a:lnTo>
                  <a:lnTo>
                    <a:pt x="165" y="9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84480" y="1954800"/>
              <a:ext cx="228960" cy="15912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56" y="9"/>
                  </a:moveTo>
                  <a:lnTo>
                    <a:pt x="156" y="9"/>
                  </a:lnTo>
                  <a:lnTo>
                    <a:pt x="185" y="19"/>
                  </a:lnTo>
                  <a:lnTo>
                    <a:pt x="210" y="29"/>
                  </a:lnTo>
                  <a:lnTo>
                    <a:pt x="229" y="43"/>
                  </a:lnTo>
                  <a:lnTo>
                    <a:pt x="249" y="58"/>
                  </a:lnTo>
                  <a:lnTo>
                    <a:pt x="258" y="73"/>
                  </a:lnTo>
                  <a:lnTo>
                    <a:pt x="268" y="87"/>
                  </a:lnTo>
                  <a:lnTo>
                    <a:pt x="273" y="107"/>
                  </a:lnTo>
                  <a:lnTo>
                    <a:pt x="273" y="121"/>
                  </a:lnTo>
                  <a:lnTo>
                    <a:pt x="273" y="121"/>
                  </a:lnTo>
                  <a:lnTo>
                    <a:pt x="263" y="136"/>
                  </a:lnTo>
                  <a:lnTo>
                    <a:pt x="253" y="146"/>
                  </a:lnTo>
                  <a:lnTo>
                    <a:pt x="234" y="155"/>
                  </a:lnTo>
                  <a:lnTo>
                    <a:pt x="215" y="160"/>
                  </a:lnTo>
                  <a:lnTo>
                    <a:pt x="195" y="165"/>
                  </a:lnTo>
                  <a:lnTo>
                    <a:pt x="171" y="165"/>
                  </a:lnTo>
                  <a:lnTo>
                    <a:pt x="142" y="160"/>
                  </a:lnTo>
                  <a:lnTo>
                    <a:pt x="117" y="155"/>
                  </a:lnTo>
                  <a:lnTo>
                    <a:pt x="117" y="155"/>
                  </a:lnTo>
                  <a:lnTo>
                    <a:pt x="88" y="146"/>
                  </a:lnTo>
                  <a:lnTo>
                    <a:pt x="64" y="131"/>
                  </a:lnTo>
                  <a:lnTo>
                    <a:pt x="44" y="121"/>
                  </a:lnTo>
                  <a:lnTo>
                    <a:pt x="25" y="107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0" y="29"/>
                  </a:lnTo>
                  <a:lnTo>
                    <a:pt x="20" y="14"/>
                  </a:lnTo>
                  <a:lnTo>
                    <a:pt x="34" y="9"/>
                  </a:lnTo>
                  <a:lnTo>
                    <a:pt x="59" y="0"/>
                  </a:lnTo>
                  <a:lnTo>
                    <a:pt x="78" y="0"/>
                  </a:lnTo>
                  <a:lnTo>
                    <a:pt x="103" y="0"/>
                  </a:lnTo>
                  <a:lnTo>
                    <a:pt x="132" y="0"/>
                  </a:lnTo>
                  <a:lnTo>
                    <a:pt x="156" y="9"/>
                  </a:lnTo>
                  <a:lnTo>
                    <a:pt x="156" y="9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88800" y="1954800"/>
              <a:ext cx="220680" cy="154440"/>
            </a:xfrm>
            <a:custGeom>
              <a:avLst/>
              <a:gdLst/>
              <a:ahLst/>
              <a:rect l="l" t="t" r="r" b="b"/>
              <a:pathLst>
                <a:path w="263" h="160">
                  <a:moveTo>
                    <a:pt x="151" y="9"/>
                  </a:moveTo>
                  <a:lnTo>
                    <a:pt x="151" y="9"/>
                  </a:lnTo>
                  <a:lnTo>
                    <a:pt x="175" y="19"/>
                  </a:lnTo>
                  <a:lnTo>
                    <a:pt x="200" y="29"/>
                  </a:lnTo>
                  <a:lnTo>
                    <a:pt x="219" y="43"/>
                  </a:lnTo>
                  <a:lnTo>
                    <a:pt x="234" y="58"/>
                  </a:lnTo>
                  <a:lnTo>
                    <a:pt x="248" y="73"/>
                  </a:lnTo>
                  <a:lnTo>
                    <a:pt x="258" y="87"/>
                  </a:lnTo>
                  <a:lnTo>
                    <a:pt x="263" y="102"/>
                  </a:lnTo>
                  <a:lnTo>
                    <a:pt x="258" y="116"/>
                  </a:lnTo>
                  <a:lnTo>
                    <a:pt x="258" y="116"/>
                  </a:lnTo>
                  <a:lnTo>
                    <a:pt x="253" y="131"/>
                  </a:lnTo>
                  <a:lnTo>
                    <a:pt x="244" y="141"/>
                  </a:lnTo>
                  <a:lnTo>
                    <a:pt x="224" y="150"/>
                  </a:lnTo>
                  <a:lnTo>
                    <a:pt x="210" y="155"/>
                  </a:lnTo>
                  <a:lnTo>
                    <a:pt x="185" y="160"/>
                  </a:lnTo>
                  <a:lnTo>
                    <a:pt x="161" y="160"/>
                  </a:lnTo>
                  <a:lnTo>
                    <a:pt x="137" y="155"/>
                  </a:lnTo>
                  <a:lnTo>
                    <a:pt x="112" y="150"/>
                  </a:lnTo>
                  <a:lnTo>
                    <a:pt x="112" y="150"/>
                  </a:lnTo>
                  <a:lnTo>
                    <a:pt x="88" y="141"/>
                  </a:lnTo>
                  <a:lnTo>
                    <a:pt x="64" y="131"/>
                  </a:lnTo>
                  <a:lnTo>
                    <a:pt x="44" y="116"/>
                  </a:lnTo>
                  <a:lnTo>
                    <a:pt x="25" y="102"/>
                  </a:lnTo>
                  <a:lnTo>
                    <a:pt x="15" y="87"/>
                  </a:lnTo>
                  <a:lnTo>
                    <a:pt x="5" y="73"/>
                  </a:lnTo>
                  <a:lnTo>
                    <a:pt x="0" y="58"/>
                  </a:lnTo>
                  <a:lnTo>
                    <a:pt x="5" y="43"/>
                  </a:lnTo>
                  <a:lnTo>
                    <a:pt x="5" y="43"/>
                  </a:lnTo>
                  <a:lnTo>
                    <a:pt x="10" y="29"/>
                  </a:lnTo>
                  <a:lnTo>
                    <a:pt x="20" y="19"/>
                  </a:lnTo>
                  <a:lnTo>
                    <a:pt x="34" y="9"/>
                  </a:lnTo>
                  <a:lnTo>
                    <a:pt x="54" y="4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27" y="4"/>
                  </a:lnTo>
                  <a:lnTo>
                    <a:pt x="151" y="9"/>
                  </a:lnTo>
                  <a:lnTo>
                    <a:pt x="151" y="9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97080" y="1958760"/>
              <a:ext cx="203760" cy="145800"/>
            </a:xfrm>
            <a:custGeom>
              <a:avLst/>
              <a:gdLst/>
              <a:ahLst/>
              <a:rect l="l" t="t" r="r" b="b"/>
              <a:pathLst>
                <a:path w="243" h="151">
                  <a:moveTo>
                    <a:pt x="141" y="10"/>
                  </a:moveTo>
                  <a:lnTo>
                    <a:pt x="141" y="10"/>
                  </a:lnTo>
                  <a:lnTo>
                    <a:pt x="185" y="30"/>
                  </a:lnTo>
                  <a:lnTo>
                    <a:pt x="219" y="54"/>
                  </a:lnTo>
                  <a:lnTo>
                    <a:pt x="234" y="69"/>
                  </a:lnTo>
                  <a:lnTo>
                    <a:pt x="238" y="83"/>
                  </a:lnTo>
                  <a:lnTo>
                    <a:pt x="243" y="98"/>
                  </a:lnTo>
                  <a:lnTo>
                    <a:pt x="243" y="112"/>
                  </a:lnTo>
                  <a:lnTo>
                    <a:pt x="243" y="112"/>
                  </a:lnTo>
                  <a:lnTo>
                    <a:pt x="238" y="127"/>
                  </a:lnTo>
                  <a:lnTo>
                    <a:pt x="224" y="137"/>
                  </a:lnTo>
                  <a:lnTo>
                    <a:pt x="209" y="142"/>
                  </a:lnTo>
                  <a:lnTo>
                    <a:pt x="195" y="146"/>
                  </a:lnTo>
                  <a:lnTo>
                    <a:pt x="151" y="151"/>
                  </a:lnTo>
                  <a:lnTo>
                    <a:pt x="102" y="142"/>
                  </a:lnTo>
                  <a:lnTo>
                    <a:pt x="102" y="142"/>
                  </a:lnTo>
                  <a:lnTo>
                    <a:pt x="58" y="122"/>
                  </a:lnTo>
                  <a:lnTo>
                    <a:pt x="24" y="98"/>
                  </a:lnTo>
                  <a:lnTo>
                    <a:pt x="10" y="83"/>
                  </a:lnTo>
                  <a:lnTo>
                    <a:pt x="0" y="69"/>
                  </a:lnTo>
                  <a:lnTo>
                    <a:pt x="0" y="54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5" y="30"/>
                  </a:lnTo>
                  <a:lnTo>
                    <a:pt x="19" y="20"/>
                  </a:lnTo>
                  <a:lnTo>
                    <a:pt x="29" y="10"/>
                  </a:lnTo>
                  <a:lnTo>
                    <a:pt x="49" y="5"/>
                  </a:lnTo>
                  <a:lnTo>
                    <a:pt x="92" y="0"/>
                  </a:lnTo>
                  <a:lnTo>
                    <a:pt x="141" y="10"/>
                  </a:lnTo>
                  <a:lnTo>
                    <a:pt x="141" y="10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01400" y="196344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36" y="10"/>
                  </a:moveTo>
                  <a:lnTo>
                    <a:pt x="136" y="10"/>
                  </a:lnTo>
                  <a:lnTo>
                    <a:pt x="180" y="29"/>
                  </a:lnTo>
                  <a:lnTo>
                    <a:pt x="209" y="49"/>
                  </a:lnTo>
                  <a:lnTo>
                    <a:pt x="224" y="64"/>
                  </a:lnTo>
                  <a:lnTo>
                    <a:pt x="229" y="78"/>
                  </a:lnTo>
                  <a:lnTo>
                    <a:pt x="233" y="93"/>
                  </a:lnTo>
                  <a:lnTo>
                    <a:pt x="229" y="107"/>
                  </a:lnTo>
                  <a:lnTo>
                    <a:pt x="229" y="107"/>
                  </a:lnTo>
                  <a:lnTo>
                    <a:pt x="224" y="117"/>
                  </a:lnTo>
                  <a:lnTo>
                    <a:pt x="214" y="127"/>
                  </a:lnTo>
                  <a:lnTo>
                    <a:pt x="199" y="137"/>
                  </a:lnTo>
                  <a:lnTo>
                    <a:pt x="185" y="141"/>
                  </a:lnTo>
                  <a:lnTo>
                    <a:pt x="146" y="141"/>
                  </a:lnTo>
                  <a:lnTo>
                    <a:pt x="97" y="132"/>
                  </a:lnTo>
                  <a:lnTo>
                    <a:pt x="97" y="132"/>
                  </a:lnTo>
                  <a:lnTo>
                    <a:pt x="53" y="117"/>
                  </a:lnTo>
                  <a:lnTo>
                    <a:pt x="24" y="93"/>
                  </a:lnTo>
                  <a:lnTo>
                    <a:pt x="10" y="78"/>
                  </a:lnTo>
                  <a:lnTo>
                    <a:pt x="5" y="64"/>
                  </a:lnTo>
                  <a:lnTo>
                    <a:pt x="0" y="49"/>
                  </a:lnTo>
                  <a:lnTo>
                    <a:pt x="0" y="39"/>
                  </a:lnTo>
                  <a:lnTo>
                    <a:pt x="0" y="39"/>
                  </a:lnTo>
                  <a:lnTo>
                    <a:pt x="10" y="25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9" y="5"/>
                  </a:lnTo>
                  <a:lnTo>
                    <a:pt x="87" y="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905360" y="196848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126" y="10"/>
                  </a:moveTo>
                  <a:lnTo>
                    <a:pt x="126" y="10"/>
                  </a:lnTo>
                  <a:lnTo>
                    <a:pt x="170" y="24"/>
                  </a:lnTo>
                  <a:lnTo>
                    <a:pt x="199" y="49"/>
                  </a:lnTo>
                  <a:lnTo>
                    <a:pt x="209" y="59"/>
                  </a:lnTo>
                  <a:lnTo>
                    <a:pt x="219" y="73"/>
                  </a:lnTo>
                  <a:lnTo>
                    <a:pt x="219" y="88"/>
                  </a:lnTo>
                  <a:lnTo>
                    <a:pt x="219" y="97"/>
                  </a:lnTo>
                  <a:lnTo>
                    <a:pt x="219" y="97"/>
                  </a:lnTo>
                  <a:lnTo>
                    <a:pt x="214" y="107"/>
                  </a:lnTo>
                  <a:lnTo>
                    <a:pt x="204" y="117"/>
                  </a:lnTo>
                  <a:lnTo>
                    <a:pt x="190" y="127"/>
                  </a:lnTo>
                  <a:lnTo>
                    <a:pt x="175" y="132"/>
                  </a:lnTo>
                  <a:lnTo>
                    <a:pt x="136" y="132"/>
                  </a:lnTo>
                  <a:lnTo>
                    <a:pt x="92" y="127"/>
                  </a:lnTo>
                  <a:lnTo>
                    <a:pt x="92" y="127"/>
                  </a:lnTo>
                  <a:lnTo>
                    <a:pt x="53" y="107"/>
                  </a:lnTo>
                  <a:lnTo>
                    <a:pt x="24" y="88"/>
                  </a:lnTo>
                  <a:lnTo>
                    <a:pt x="14" y="73"/>
                  </a:lnTo>
                  <a:lnTo>
                    <a:pt x="5" y="59"/>
                  </a:lnTo>
                  <a:lnTo>
                    <a:pt x="0" y="49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9" y="24"/>
                  </a:lnTo>
                  <a:lnTo>
                    <a:pt x="19" y="15"/>
                  </a:lnTo>
                  <a:lnTo>
                    <a:pt x="34" y="10"/>
                  </a:lnTo>
                  <a:lnTo>
                    <a:pt x="48" y="5"/>
                  </a:lnTo>
                  <a:lnTo>
                    <a:pt x="87" y="0"/>
                  </a:lnTo>
                  <a:lnTo>
                    <a:pt x="126" y="10"/>
                  </a:lnTo>
                  <a:lnTo>
                    <a:pt x="126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912920" y="1973160"/>
              <a:ext cx="171720" cy="11772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117" y="5"/>
                  </a:moveTo>
                  <a:lnTo>
                    <a:pt x="117" y="5"/>
                  </a:lnTo>
                  <a:lnTo>
                    <a:pt x="156" y="24"/>
                  </a:lnTo>
                  <a:lnTo>
                    <a:pt x="185" y="44"/>
                  </a:lnTo>
                  <a:lnTo>
                    <a:pt x="195" y="54"/>
                  </a:lnTo>
                  <a:lnTo>
                    <a:pt x="200" y="68"/>
                  </a:lnTo>
                  <a:lnTo>
                    <a:pt x="205" y="78"/>
                  </a:lnTo>
                  <a:lnTo>
                    <a:pt x="205" y="92"/>
                  </a:lnTo>
                  <a:lnTo>
                    <a:pt x="205" y="92"/>
                  </a:lnTo>
                  <a:lnTo>
                    <a:pt x="200" y="102"/>
                  </a:lnTo>
                  <a:lnTo>
                    <a:pt x="190" y="112"/>
                  </a:lnTo>
                  <a:lnTo>
                    <a:pt x="176" y="117"/>
                  </a:lnTo>
                  <a:lnTo>
                    <a:pt x="161" y="122"/>
                  </a:lnTo>
                  <a:lnTo>
                    <a:pt x="127" y="122"/>
                  </a:lnTo>
                  <a:lnTo>
                    <a:pt x="88" y="117"/>
                  </a:lnTo>
                  <a:lnTo>
                    <a:pt x="88" y="117"/>
                  </a:lnTo>
                  <a:lnTo>
                    <a:pt x="49" y="102"/>
                  </a:lnTo>
                  <a:lnTo>
                    <a:pt x="20" y="78"/>
                  </a:lnTo>
                  <a:lnTo>
                    <a:pt x="10" y="68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5" y="19"/>
                  </a:lnTo>
                  <a:lnTo>
                    <a:pt x="15" y="15"/>
                  </a:lnTo>
                  <a:lnTo>
                    <a:pt x="30" y="5"/>
                  </a:lnTo>
                  <a:lnTo>
                    <a:pt x="44" y="0"/>
                  </a:lnTo>
                  <a:lnTo>
                    <a:pt x="78" y="0"/>
                  </a:lnTo>
                  <a:lnTo>
                    <a:pt x="117" y="5"/>
                  </a:lnTo>
                  <a:lnTo>
                    <a:pt x="11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17240" y="1977840"/>
              <a:ext cx="163440" cy="113040"/>
            </a:xfrm>
            <a:custGeom>
              <a:avLst/>
              <a:gdLst/>
              <a:ahLst/>
              <a:rect l="l" t="t" r="r" b="b"/>
              <a:pathLst>
                <a:path w="195" h="117">
                  <a:moveTo>
                    <a:pt x="112" y="5"/>
                  </a:moveTo>
                  <a:lnTo>
                    <a:pt x="112" y="5"/>
                  </a:lnTo>
                  <a:lnTo>
                    <a:pt x="146" y="19"/>
                  </a:lnTo>
                  <a:lnTo>
                    <a:pt x="176" y="39"/>
                  </a:lnTo>
                  <a:lnTo>
                    <a:pt x="190" y="63"/>
                  </a:lnTo>
                  <a:lnTo>
                    <a:pt x="195" y="73"/>
                  </a:lnTo>
                  <a:lnTo>
                    <a:pt x="190" y="83"/>
                  </a:lnTo>
                  <a:lnTo>
                    <a:pt x="190" y="83"/>
                  </a:lnTo>
                  <a:lnTo>
                    <a:pt x="185" y="92"/>
                  </a:lnTo>
                  <a:lnTo>
                    <a:pt x="180" y="102"/>
                  </a:lnTo>
                  <a:lnTo>
                    <a:pt x="151" y="112"/>
                  </a:lnTo>
                  <a:lnTo>
                    <a:pt x="122" y="117"/>
                  </a:lnTo>
                  <a:lnTo>
                    <a:pt x="83" y="107"/>
                  </a:lnTo>
                  <a:lnTo>
                    <a:pt x="83" y="107"/>
                  </a:lnTo>
                  <a:lnTo>
                    <a:pt x="49" y="92"/>
                  </a:lnTo>
                  <a:lnTo>
                    <a:pt x="20" y="73"/>
                  </a:lnTo>
                  <a:lnTo>
                    <a:pt x="5" y="53"/>
                  </a:lnTo>
                  <a:lnTo>
                    <a:pt x="0" y="3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0" y="19"/>
                  </a:lnTo>
                  <a:lnTo>
                    <a:pt x="15" y="10"/>
                  </a:lnTo>
                  <a:lnTo>
                    <a:pt x="39" y="0"/>
                  </a:lnTo>
                  <a:lnTo>
                    <a:pt x="73" y="0"/>
                  </a:lnTo>
                  <a:lnTo>
                    <a:pt x="112" y="5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25520" y="1982880"/>
              <a:ext cx="146880" cy="10332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102" y="5"/>
                  </a:moveTo>
                  <a:lnTo>
                    <a:pt x="102" y="5"/>
                  </a:lnTo>
                  <a:lnTo>
                    <a:pt x="136" y="19"/>
                  </a:lnTo>
                  <a:lnTo>
                    <a:pt x="161" y="34"/>
                  </a:lnTo>
                  <a:lnTo>
                    <a:pt x="175" y="58"/>
                  </a:lnTo>
                  <a:lnTo>
                    <a:pt x="175" y="68"/>
                  </a:lnTo>
                  <a:lnTo>
                    <a:pt x="175" y="78"/>
                  </a:lnTo>
                  <a:lnTo>
                    <a:pt x="175" y="78"/>
                  </a:lnTo>
                  <a:lnTo>
                    <a:pt x="170" y="87"/>
                  </a:lnTo>
                  <a:lnTo>
                    <a:pt x="161" y="92"/>
                  </a:lnTo>
                  <a:lnTo>
                    <a:pt x="141" y="102"/>
                  </a:lnTo>
                  <a:lnTo>
                    <a:pt x="107" y="107"/>
                  </a:lnTo>
                  <a:lnTo>
                    <a:pt x="73" y="102"/>
                  </a:lnTo>
                  <a:lnTo>
                    <a:pt x="73" y="102"/>
                  </a:lnTo>
                  <a:lnTo>
                    <a:pt x="39" y="87"/>
                  </a:lnTo>
                  <a:lnTo>
                    <a:pt x="15" y="68"/>
                  </a:lnTo>
                  <a:lnTo>
                    <a:pt x="0" y="48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0" y="9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5"/>
                  </a:lnTo>
                  <a:lnTo>
                    <a:pt x="102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17120" y="1963440"/>
              <a:ext cx="273600" cy="188280"/>
            </a:xfrm>
            <a:custGeom>
              <a:avLst/>
              <a:gdLst/>
              <a:ahLst/>
              <a:rect l="l" t="t" r="r" b="b"/>
              <a:pathLst>
                <a:path w="326" h="195">
                  <a:moveTo>
                    <a:pt x="136" y="10"/>
                  </a:moveTo>
                  <a:lnTo>
                    <a:pt x="136" y="10"/>
                  </a:lnTo>
                  <a:lnTo>
                    <a:pt x="170" y="0"/>
                  </a:lnTo>
                  <a:lnTo>
                    <a:pt x="204" y="0"/>
                  </a:lnTo>
                  <a:lnTo>
                    <a:pt x="234" y="0"/>
                  </a:lnTo>
                  <a:lnTo>
                    <a:pt x="258" y="0"/>
                  </a:lnTo>
                  <a:lnTo>
                    <a:pt x="282" y="10"/>
                  </a:lnTo>
                  <a:lnTo>
                    <a:pt x="302" y="20"/>
                  </a:lnTo>
                  <a:lnTo>
                    <a:pt x="316" y="34"/>
                  </a:lnTo>
                  <a:lnTo>
                    <a:pt x="326" y="54"/>
                  </a:lnTo>
                  <a:lnTo>
                    <a:pt x="326" y="54"/>
                  </a:lnTo>
                  <a:lnTo>
                    <a:pt x="326" y="68"/>
                  </a:lnTo>
                  <a:lnTo>
                    <a:pt x="321" y="88"/>
                  </a:lnTo>
                  <a:lnTo>
                    <a:pt x="312" y="107"/>
                  </a:lnTo>
                  <a:lnTo>
                    <a:pt x="292" y="127"/>
                  </a:lnTo>
                  <a:lnTo>
                    <a:pt x="273" y="146"/>
                  </a:lnTo>
                  <a:lnTo>
                    <a:pt x="248" y="161"/>
                  </a:lnTo>
                  <a:lnTo>
                    <a:pt x="219" y="175"/>
                  </a:lnTo>
                  <a:lnTo>
                    <a:pt x="185" y="185"/>
                  </a:lnTo>
                  <a:lnTo>
                    <a:pt x="185" y="185"/>
                  </a:lnTo>
                  <a:lnTo>
                    <a:pt x="156" y="190"/>
                  </a:lnTo>
                  <a:lnTo>
                    <a:pt x="122" y="195"/>
                  </a:lnTo>
                  <a:lnTo>
                    <a:pt x="93" y="195"/>
                  </a:lnTo>
                  <a:lnTo>
                    <a:pt x="63" y="190"/>
                  </a:lnTo>
                  <a:lnTo>
                    <a:pt x="39" y="185"/>
                  </a:lnTo>
                  <a:lnTo>
                    <a:pt x="24" y="171"/>
                  </a:lnTo>
                  <a:lnTo>
                    <a:pt x="10" y="161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8" y="34"/>
                  </a:lnTo>
                  <a:lnTo>
                    <a:pt x="107" y="20"/>
                  </a:lnTo>
                  <a:lnTo>
                    <a:pt x="136" y="10"/>
                  </a:lnTo>
                  <a:lnTo>
                    <a:pt x="136" y="10"/>
                  </a:lnTo>
                  <a:close/>
                </a:path>
              </a:pathLst>
            </a:custGeom>
            <a:solidFill>
              <a:srgbClr val="f7f7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21440" y="1963440"/>
              <a:ext cx="260640" cy="183600"/>
            </a:xfrm>
            <a:custGeom>
              <a:avLst/>
              <a:gdLst/>
              <a:ahLst/>
              <a:rect l="l" t="t" r="r" b="b"/>
              <a:pathLst>
                <a:path w="311" h="190">
                  <a:moveTo>
                    <a:pt x="131" y="10"/>
                  </a:moveTo>
                  <a:lnTo>
                    <a:pt x="131" y="10"/>
                  </a:lnTo>
                  <a:lnTo>
                    <a:pt x="165" y="5"/>
                  </a:lnTo>
                  <a:lnTo>
                    <a:pt x="195" y="0"/>
                  </a:lnTo>
                  <a:lnTo>
                    <a:pt x="224" y="0"/>
                  </a:lnTo>
                  <a:lnTo>
                    <a:pt x="248" y="5"/>
                  </a:lnTo>
                  <a:lnTo>
                    <a:pt x="272" y="15"/>
                  </a:lnTo>
                  <a:lnTo>
                    <a:pt x="292" y="25"/>
                  </a:lnTo>
                  <a:lnTo>
                    <a:pt x="307" y="39"/>
                  </a:lnTo>
                  <a:lnTo>
                    <a:pt x="311" y="54"/>
                  </a:lnTo>
                  <a:lnTo>
                    <a:pt x="311" y="54"/>
                  </a:lnTo>
                  <a:lnTo>
                    <a:pt x="311" y="73"/>
                  </a:lnTo>
                  <a:lnTo>
                    <a:pt x="307" y="88"/>
                  </a:lnTo>
                  <a:lnTo>
                    <a:pt x="297" y="107"/>
                  </a:lnTo>
                  <a:lnTo>
                    <a:pt x="282" y="127"/>
                  </a:lnTo>
                  <a:lnTo>
                    <a:pt x="263" y="141"/>
                  </a:lnTo>
                  <a:lnTo>
                    <a:pt x="238" y="156"/>
                  </a:lnTo>
                  <a:lnTo>
                    <a:pt x="209" y="171"/>
                  </a:lnTo>
                  <a:lnTo>
                    <a:pt x="180" y="180"/>
                  </a:lnTo>
                  <a:lnTo>
                    <a:pt x="180" y="180"/>
                  </a:lnTo>
                  <a:lnTo>
                    <a:pt x="151" y="190"/>
                  </a:lnTo>
                  <a:lnTo>
                    <a:pt x="117" y="190"/>
                  </a:lnTo>
                  <a:lnTo>
                    <a:pt x="88" y="190"/>
                  </a:lnTo>
                  <a:lnTo>
                    <a:pt x="63" y="185"/>
                  </a:lnTo>
                  <a:lnTo>
                    <a:pt x="44" y="180"/>
                  </a:lnTo>
                  <a:lnTo>
                    <a:pt x="24" y="171"/>
                  </a:lnTo>
                  <a:lnTo>
                    <a:pt x="10" y="156"/>
                  </a:lnTo>
                  <a:lnTo>
                    <a:pt x="0" y="141"/>
                  </a:lnTo>
                  <a:lnTo>
                    <a:pt x="0" y="141"/>
                  </a:lnTo>
                  <a:lnTo>
                    <a:pt x="0" y="122"/>
                  </a:lnTo>
                  <a:lnTo>
                    <a:pt x="5" y="102"/>
                  </a:lnTo>
                  <a:lnTo>
                    <a:pt x="15" y="83"/>
                  </a:lnTo>
                  <a:lnTo>
                    <a:pt x="29" y="68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5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f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5400" y="1968480"/>
              <a:ext cx="253440" cy="173880"/>
            </a:xfrm>
            <a:custGeom>
              <a:avLst/>
              <a:gdLst/>
              <a:ahLst/>
              <a:rect l="l" t="t" r="r" b="b"/>
              <a:pathLst>
                <a:path w="302" h="180">
                  <a:moveTo>
                    <a:pt x="131" y="10"/>
                  </a:moveTo>
                  <a:lnTo>
                    <a:pt x="131" y="10"/>
                  </a:lnTo>
                  <a:lnTo>
                    <a:pt x="160" y="5"/>
                  </a:lnTo>
                  <a:lnTo>
                    <a:pt x="190" y="0"/>
                  </a:lnTo>
                  <a:lnTo>
                    <a:pt x="214" y="0"/>
                  </a:lnTo>
                  <a:lnTo>
                    <a:pt x="243" y="5"/>
                  </a:lnTo>
                  <a:lnTo>
                    <a:pt x="263" y="10"/>
                  </a:lnTo>
                  <a:lnTo>
                    <a:pt x="282" y="24"/>
                  </a:lnTo>
                  <a:lnTo>
                    <a:pt x="292" y="34"/>
                  </a:lnTo>
                  <a:lnTo>
                    <a:pt x="302" y="49"/>
                  </a:lnTo>
                  <a:lnTo>
                    <a:pt x="302" y="49"/>
                  </a:lnTo>
                  <a:lnTo>
                    <a:pt x="302" y="68"/>
                  </a:lnTo>
                  <a:lnTo>
                    <a:pt x="297" y="83"/>
                  </a:lnTo>
                  <a:lnTo>
                    <a:pt x="287" y="102"/>
                  </a:lnTo>
                  <a:lnTo>
                    <a:pt x="272" y="122"/>
                  </a:lnTo>
                  <a:lnTo>
                    <a:pt x="253" y="136"/>
                  </a:lnTo>
                  <a:lnTo>
                    <a:pt x="229" y="151"/>
                  </a:lnTo>
                  <a:lnTo>
                    <a:pt x="204" y="161"/>
                  </a:lnTo>
                  <a:lnTo>
                    <a:pt x="175" y="170"/>
                  </a:lnTo>
                  <a:lnTo>
                    <a:pt x="175" y="170"/>
                  </a:lnTo>
                  <a:lnTo>
                    <a:pt x="146" y="180"/>
                  </a:lnTo>
                  <a:lnTo>
                    <a:pt x="117" y="180"/>
                  </a:lnTo>
                  <a:lnTo>
                    <a:pt x="87" y="180"/>
                  </a:lnTo>
                  <a:lnTo>
                    <a:pt x="63" y="180"/>
                  </a:lnTo>
                  <a:lnTo>
                    <a:pt x="44" y="170"/>
                  </a:lnTo>
                  <a:lnTo>
                    <a:pt x="24" y="161"/>
                  </a:lnTo>
                  <a:lnTo>
                    <a:pt x="10" y="146"/>
                  </a:lnTo>
                  <a:lnTo>
                    <a:pt x="5" y="132"/>
                  </a:lnTo>
                  <a:lnTo>
                    <a:pt x="5" y="132"/>
                  </a:lnTo>
                  <a:lnTo>
                    <a:pt x="0" y="117"/>
                  </a:lnTo>
                  <a:lnTo>
                    <a:pt x="5" y="97"/>
                  </a:lnTo>
                  <a:lnTo>
                    <a:pt x="14" y="83"/>
                  </a:lnTo>
                  <a:lnTo>
                    <a:pt x="29" y="63"/>
                  </a:lnTo>
                  <a:lnTo>
                    <a:pt x="49" y="49"/>
                  </a:lnTo>
                  <a:lnTo>
                    <a:pt x="73" y="34"/>
                  </a:lnTo>
                  <a:lnTo>
                    <a:pt x="102" y="20"/>
                  </a:lnTo>
                  <a:lnTo>
                    <a:pt x="131" y="10"/>
                  </a:lnTo>
                  <a:lnTo>
                    <a:pt x="131" y="10"/>
                  </a:lnTo>
                  <a:close/>
                </a:path>
              </a:pathLst>
            </a:custGeom>
            <a:solidFill>
              <a:srgbClr val="f7ea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4040" y="1973160"/>
              <a:ext cx="240840" cy="168840"/>
            </a:xfrm>
            <a:custGeom>
              <a:avLst/>
              <a:gdLst/>
              <a:ahLst/>
              <a:rect l="l" t="t" r="r" b="b"/>
              <a:pathLst>
                <a:path w="287" h="175">
                  <a:moveTo>
                    <a:pt x="121" y="10"/>
                  </a:moveTo>
                  <a:lnTo>
                    <a:pt x="121" y="10"/>
                  </a:lnTo>
                  <a:lnTo>
                    <a:pt x="150" y="5"/>
                  </a:lnTo>
                  <a:lnTo>
                    <a:pt x="175" y="0"/>
                  </a:lnTo>
                  <a:lnTo>
                    <a:pt x="204" y="0"/>
                  </a:lnTo>
                  <a:lnTo>
                    <a:pt x="228" y="5"/>
                  </a:lnTo>
                  <a:lnTo>
                    <a:pt x="248" y="10"/>
                  </a:lnTo>
                  <a:lnTo>
                    <a:pt x="262" y="19"/>
                  </a:lnTo>
                  <a:lnTo>
                    <a:pt x="277" y="34"/>
                  </a:lnTo>
                  <a:lnTo>
                    <a:pt x="282" y="49"/>
                  </a:lnTo>
                  <a:lnTo>
                    <a:pt x="282" y="49"/>
                  </a:lnTo>
                  <a:lnTo>
                    <a:pt x="287" y="63"/>
                  </a:lnTo>
                  <a:lnTo>
                    <a:pt x="282" y="78"/>
                  </a:lnTo>
                  <a:lnTo>
                    <a:pt x="272" y="97"/>
                  </a:lnTo>
                  <a:lnTo>
                    <a:pt x="257" y="112"/>
                  </a:lnTo>
                  <a:lnTo>
                    <a:pt x="238" y="127"/>
                  </a:lnTo>
                  <a:lnTo>
                    <a:pt x="219" y="141"/>
                  </a:lnTo>
                  <a:lnTo>
                    <a:pt x="189" y="156"/>
                  </a:lnTo>
                  <a:lnTo>
                    <a:pt x="165" y="165"/>
                  </a:lnTo>
                  <a:lnTo>
                    <a:pt x="165" y="165"/>
                  </a:lnTo>
                  <a:lnTo>
                    <a:pt x="136" y="170"/>
                  </a:lnTo>
                  <a:lnTo>
                    <a:pt x="107" y="175"/>
                  </a:lnTo>
                  <a:lnTo>
                    <a:pt x="82" y="170"/>
                  </a:lnTo>
                  <a:lnTo>
                    <a:pt x="58" y="170"/>
                  </a:lnTo>
                  <a:lnTo>
                    <a:pt x="39" y="161"/>
                  </a:lnTo>
                  <a:lnTo>
                    <a:pt x="19" y="151"/>
                  </a:lnTo>
                  <a:lnTo>
                    <a:pt x="9" y="141"/>
                  </a:lnTo>
                  <a:lnTo>
                    <a:pt x="0" y="127"/>
                  </a:lnTo>
                  <a:lnTo>
                    <a:pt x="0" y="127"/>
                  </a:lnTo>
                  <a:lnTo>
                    <a:pt x="0" y="112"/>
                  </a:lnTo>
                  <a:lnTo>
                    <a:pt x="4" y="92"/>
                  </a:lnTo>
                  <a:lnTo>
                    <a:pt x="14" y="78"/>
                  </a:lnTo>
                  <a:lnTo>
                    <a:pt x="29" y="58"/>
                  </a:lnTo>
                  <a:lnTo>
                    <a:pt x="43" y="44"/>
                  </a:lnTo>
                  <a:lnTo>
                    <a:pt x="68" y="29"/>
                  </a:lnTo>
                  <a:lnTo>
                    <a:pt x="92" y="19"/>
                  </a:lnTo>
                  <a:lnTo>
                    <a:pt x="121" y="10"/>
                  </a:lnTo>
                  <a:lnTo>
                    <a:pt x="121" y="10"/>
                  </a:lnTo>
                  <a:close/>
                </a:path>
              </a:pathLst>
            </a:custGeom>
            <a:solidFill>
              <a:srgbClr val="fae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37280" y="1977840"/>
              <a:ext cx="228960" cy="159480"/>
            </a:xfrm>
            <a:custGeom>
              <a:avLst/>
              <a:gdLst/>
              <a:ahLst/>
              <a:rect l="l" t="t" r="r" b="b"/>
              <a:pathLst>
                <a:path w="273" h="165">
                  <a:moveTo>
                    <a:pt x="117" y="10"/>
                  </a:moveTo>
                  <a:lnTo>
                    <a:pt x="117" y="10"/>
                  </a:lnTo>
                  <a:lnTo>
                    <a:pt x="146" y="0"/>
                  </a:lnTo>
                  <a:lnTo>
                    <a:pt x="171" y="0"/>
                  </a:lnTo>
                  <a:lnTo>
                    <a:pt x="195" y="0"/>
                  </a:lnTo>
                  <a:lnTo>
                    <a:pt x="219" y="5"/>
                  </a:lnTo>
                  <a:lnTo>
                    <a:pt x="239" y="10"/>
                  </a:lnTo>
                  <a:lnTo>
                    <a:pt x="253" y="19"/>
                  </a:lnTo>
                  <a:lnTo>
                    <a:pt x="268" y="29"/>
                  </a:lnTo>
                  <a:lnTo>
                    <a:pt x="273" y="44"/>
                  </a:lnTo>
                  <a:lnTo>
                    <a:pt x="273" y="44"/>
                  </a:lnTo>
                  <a:lnTo>
                    <a:pt x="273" y="58"/>
                  </a:lnTo>
                  <a:lnTo>
                    <a:pt x="268" y="78"/>
                  </a:lnTo>
                  <a:lnTo>
                    <a:pt x="263" y="92"/>
                  </a:lnTo>
                  <a:lnTo>
                    <a:pt x="249" y="107"/>
                  </a:lnTo>
                  <a:lnTo>
                    <a:pt x="229" y="122"/>
                  </a:lnTo>
                  <a:lnTo>
                    <a:pt x="210" y="136"/>
                  </a:lnTo>
                  <a:lnTo>
                    <a:pt x="185" y="146"/>
                  </a:lnTo>
                  <a:lnTo>
                    <a:pt x="156" y="156"/>
                  </a:lnTo>
                  <a:lnTo>
                    <a:pt x="156" y="156"/>
                  </a:lnTo>
                  <a:lnTo>
                    <a:pt x="132" y="160"/>
                  </a:lnTo>
                  <a:lnTo>
                    <a:pt x="103" y="165"/>
                  </a:lnTo>
                  <a:lnTo>
                    <a:pt x="78" y="165"/>
                  </a:lnTo>
                  <a:lnTo>
                    <a:pt x="59" y="160"/>
                  </a:lnTo>
                  <a:lnTo>
                    <a:pt x="39" y="156"/>
                  </a:lnTo>
                  <a:lnTo>
                    <a:pt x="20" y="146"/>
                  </a:lnTo>
                  <a:lnTo>
                    <a:pt x="10" y="131"/>
                  </a:lnTo>
                  <a:lnTo>
                    <a:pt x="0" y="122"/>
                  </a:lnTo>
                  <a:lnTo>
                    <a:pt x="0" y="122"/>
                  </a:lnTo>
                  <a:lnTo>
                    <a:pt x="0" y="102"/>
                  </a:lnTo>
                  <a:lnTo>
                    <a:pt x="5" y="87"/>
                  </a:lnTo>
                  <a:lnTo>
                    <a:pt x="15" y="73"/>
                  </a:lnTo>
                  <a:lnTo>
                    <a:pt x="30" y="58"/>
                  </a:lnTo>
                  <a:lnTo>
                    <a:pt x="44" y="44"/>
                  </a:lnTo>
                  <a:lnTo>
                    <a:pt x="69" y="29"/>
                  </a:lnTo>
                  <a:lnTo>
                    <a:pt x="93" y="19"/>
                  </a:lnTo>
                  <a:lnTo>
                    <a:pt x="117" y="10"/>
                  </a:lnTo>
                  <a:lnTo>
                    <a:pt x="117" y="10"/>
                  </a:lnTo>
                  <a:close/>
                </a:path>
              </a:pathLst>
            </a:custGeom>
            <a:solidFill>
              <a:srgbClr val="fade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5560" y="1982880"/>
              <a:ext cx="216360" cy="149760"/>
            </a:xfrm>
            <a:custGeom>
              <a:avLst/>
              <a:gdLst/>
              <a:ahLst/>
              <a:rect l="l" t="t" r="r" b="b"/>
              <a:pathLst>
                <a:path w="258" h="155">
                  <a:moveTo>
                    <a:pt x="107" y="5"/>
                  </a:moveTo>
                  <a:lnTo>
                    <a:pt x="107" y="5"/>
                  </a:lnTo>
                  <a:lnTo>
                    <a:pt x="136" y="0"/>
                  </a:lnTo>
                  <a:lnTo>
                    <a:pt x="161" y="0"/>
                  </a:lnTo>
                  <a:lnTo>
                    <a:pt x="185" y="0"/>
                  </a:lnTo>
                  <a:lnTo>
                    <a:pt x="205" y="0"/>
                  </a:lnTo>
                  <a:lnTo>
                    <a:pt x="224" y="9"/>
                  </a:lnTo>
                  <a:lnTo>
                    <a:pt x="239" y="14"/>
                  </a:lnTo>
                  <a:lnTo>
                    <a:pt x="248" y="29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8" y="53"/>
                  </a:lnTo>
                  <a:lnTo>
                    <a:pt x="253" y="73"/>
                  </a:lnTo>
                  <a:lnTo>
                    <a:pt x="243" y="87"/>
                  </a:lnTo>
                  <a:lnTo>
                    <a:pt x="234" y="102"/>
                  </a:lnTo>
                  <a:lnTo>
                    <a:pt x="214" y="117"/>
                  </a:lnTo>
                  <a:lnTo>
                    <a:pt x="195" y="126"/>
                  </a:lnTo>
                  <a:lnTo>
                    <a:pt x="170" y="136"/>
                  </a:lnTo>
                  <a:lnTo>
                    <a:pt x="146" y="146"/>
                  </a:lnTo>
                  <a:lnTo>
                    <a:pt x="146" y="146"/>
                  </a:lnTo>
                  <a:lnTo>
                    <a:pt x="122" y="151"/>
                  </a:lnTo>
                  <a:lnTo>
                    <a:pt x="98" y="155"/>
                  </a:lnTo>
                  <a:lnTo>
                    <a:pt x="73" y="155"/>
                  </a:lnTo>
                  <a:lnTo>
                    <a:pt x="49" y="151"/>
                  </a:lnTo>
                  <a:lnTo>
                    <a:pt x="34" y="146"/>
                  </a:lnTo>
                  <a:lnTo>
                    <a:pt x="15" y="136"/>
                  </a:lnTo>
                  <a:lnTo>
                    <a:pt x="5" y="126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10" y="68"/>
                  </a:lnTo>
                  <a:lnTo>
                    <a:pt x="25" y="53"/>
                  </a:lnTo>
                  <a:lnTo>
                    <a:pt x="39" y="39"/>
                  </a:lnTo>
                  <a:lnTo>
                    <a:pt x="59" y="24"/>
                  </a:lnTo>
                  <a:lnTo>
                    <a:pt x="83" y="14"/>
                  </a:lnTo>
                  <a:lnTo>
                    <a:pt x="107" y="5"/>
                  </a:lnTo>
                  <a:lnTo>
                    <a:pt x="107" y="5"/>
                  </a:lnTo>
                  <a:close/>
                </a:path>
              </a:pathLst>
            </a:custGeom>
            <a:solidFill>
              <a:srgbClr val="fada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9880" y="1987920"/>
              <a:ext cx="208080" cy="140760"/>
            </a:xfrm>
            <a:custGeom>
              <a:avLst/>
              <a:gdLst/>
              <a:ahLst/>
              <a:rect l="l" t="t" r="r" b="b"/>
              <a:pathLst>
                <a:path w="248" h="146">
                  <a:moveTo>
                    <a:pt x="102" y="4"/>
                  </a:moveTo>
                  <a:lnTo>
                    <a:pt x="102" y="4"/>
                  </a:lnTo>
                  <a:lnTo>
                    <a:pt x="151" y="0"/>
                  </a:lnTo>
                  <a:lnTo>
                    <a:pt x="195" y="0"/>
                  </a:lnTo>
                  <a:lnTo>
                    <a:pt x="214" y="4"/>
                  </a:lnTo>
                  <a:lnTo>
                    <a:pt x="229" y="14"/>
                  </a:lnTo>
                  <a:lnTo>
                    <a:pt x="238" y="24"/>
                  </a:lnTo>
                  <a:lnTo>
                    <a:pt x="243" y="39"/>
                  </a:lnTo>
                  <a:lnTo>
                    <a:pt x="243" y="39"/>
                  </a:lnTo>
                  <a:lnTo>
                    <a:pt x="248" y="53"/>
                  </a:lnTo>
                  <a:lnTo>
                    <a:pt x="243" y="68"/>
                  </a:lnTo>
                  <a:lnTo>
                    <a:pt x="234" y="82"/>
                  </a:lnTo>
                  <a:lnTo>
                    <a:pt x="224" y="97"/>
                  </a:lnTo>
                  <a:lnTo>
                    <a:pt x="185" y="121"/>
                  </a:lnTo>
                  <a:lnTo>
                    <a:pt x="141" y="136"/>
                  </a:lnTo>
                  <a:lnTo>
                    <a:pt x="141" y="136"/>
                  </a:lnTo>
                  <a:lnTo>
                    <a:pt x="93" y="146"/>
                  </a:lnTo>
                  <a:lnTo>
                    <a:pt x="49" y="141"/>
                  </a:lnTo>
                  <a:lnTo>
                    <a:pt x="34" y="136"/>
                  </a:lnTo>
                  <a:lnTo>
                    <a:pt x="20" y="131"/>
                  </a:lnTo>
                  <a:lnTo>
                    <a:pt x="10" y="116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0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fad2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354200" y="1987920"/>
              <a:ext cx="195480" cy="136080"/>
            </a:xfrm>
            <a:custGeom>
              <a:avLst/>
              <a:gdLst/>
              <a:ahLst/>
              <a:rect l="l" t="t" r="r" b="b"/>
              <a:pathLst>
                <a:path w="233" h="141">
                  <a:moveTo>
                    <a:pt x="102" y="9"/>
                  </a:moveTo>
                  <a:lnTo>
                    <a:pt x="102" y="9"/>
                  </a:lnTo>
                  <a:lnTo>
                    <a:pt x="146" y="0"/>
                  </a:lnTo>
                  <a:lnTo>
                    <a:pt x="185" y="4"/>
                  </a:lnTo>
                  <a:lnTo>
                    <a:pt x="204" y="9"/>
                  </a:lnTo>
                  <a:lnTo>
                    <a:pt x="219" y="19"/>
                  </a:lnTo>
                  <a:lnTo>
                    <a:pt x="229" y="29"/>
                  </a:lnTo>
                  <a:lnTo>
                    <a:pt x="233" y="39"/>
                  </a:lnTo>
                  <a:lnTo>
                    <a:pt x="233" y="39"/>
                  </a:lnTo>
                  <a:lnTo>
                    <a:pt x="233" y="53"/>
                  </a:lnTo>
                  <a:lnTo>
                    <a:pt x="229" y="68"/>
                  </a:lnTo>
                  <a:lnTo>
                    <a:pt x="224" y="82"/>
                  </a:lnTo>
                  <a:lnTo>
                    <a:pt x="209" y="92"/>
                  </a:lnTo>
                  <a:lnTo>
                    <a:pt x="180" y="116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88" y="141"/>
                  </a:lnTo>
                  <a:lnTo>
                    <a:pt x="49" y="141"/>
                  </a:lnTo>
                  <a:lnTo>
                    <a:pt x="34" y="131"/>
                  </a:lnTo>
                  <a:lnTo>
                    <a:pt x="19" y="126"/>
                  </a:lnTo>
                  <a:lnTo>
                    <a:pt x="10" y="116"/>
                  </a:lnTo>
                  <a:lnTo>
                    <a:pt x="5" y="102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5" y="77"/>
                  </a:lnTo>
                  <a:lnTo>
                    <a:pt x="15" y="63"/>
                  </a:lnTo>
                  <a:lnTo>
                    <a:pt x="24" y="48"/>
                  </a:lnTo>
                  <a:lnTo>
                    <a:pt x="58" y="24"/>
                  </a:lnTo>
                  <a:lnTo>
                    <a:pt x="102" y="9"/>
                  </a:lnTo>
                  <a:lnTo>
                    <a:pt x="102" y="9"/>
                  </a:lnTo>
                  <a:close/>
                </a:path>
              </a:pathLst>
            </a:custGeom>
            <a:solidFill>
              <a:srgbClr val="fcc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2480" y="1991520"/>
              <a:ext cx="183600" cy="127440"/>
            </a:xfrm>
            <a:custGeom>
              <a:avLst/>
              <a:gdLst/>
              <a:ahLst/>
              <a:rect l="l" t="t" r="r" b="b"/>
              <a:pathLst>
                <a:path w="219" h="132">
                  <a:moveTo>
                    <a:pt x="92" y="10"/>
                  </a:moveTo>
                  <a:lnTo>
                    <a:pt x="92" y="10"/>
                  </a:lnTo>
                  <a:lnTo>
                    <a:pt x="136" y="0"/>
                  </a:lnTo>
                  <a:lnTo>
                    <a:pt x="175" y="5"/>
                  </a:lnTo>
                  <a:lnTo>
                    <a:pt x="189" y="10"/>
                  </a:lnTo>
                  <a:lnTo>
                    <a:pt x="199" y="15"/>
                  </a:lnTo>
                  <a:lnTo>
                    <a:pt x="209" y="25"/>
                  </a:lnTo>
                  <a:lnTo>
                    <a:pt x="219" y="39"/>
                  </a:lnTo>
                  <a:lnTo>
                    <a:pt x="219" y="39"/>
                  </a:lnTo>
                  <a:lnTo>
                    <a:pt x="219" y="49"/>
                  </a:lnTo>
                  <a:lnTo>
                    <a:pt x="214" y="64"/>
                  </a:lnTo>
                  <a:lnTo>
                    <a:pt x="209" y="73"/>
                  </a:lnTo>
                  <a:lnTo>
                    <a:pt x="194" y="88"/>
                  </a:lnTo>
                  <a:lnTo>
                    <a:pt x="165" y="112"/>
                  </a:lnTo>
                  <a:lnTo>
                    <a:pt x="126" y="127"/>
                  </a:lnTo>
                  <a:lnTo>
                    <a:pt x="126" y="127"/>
                  </a:lnTo>
                  <a:lnTo>
                    <a:pt x="82" y="132"/>
                  </a:lnTo>
                  <a:lnTo>
                    <a:pt x="43" y="132"/>
                  </a:lnTo>
                  <a:lnTo>
                    <a:pt x="29" y="127"/>
                  </a:lnTo>
                  <a:lnTo>
                    <a:pt x="14" y="117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9" y="59"/>
                  </a:lnTo>
                  <a:lnTo>
                    <a:pt x="19" y="49"/>
                  </a:lnTo>
                  <a:lnTo>
                    <a:pt x="48" y="25"/>
                  </a:lnTo>
                  <a:lnTo>
                    <a:pt x="92" y="10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fcc7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66800" y="1996200"/>
              <a:ext cx="171000" cy="122400"/>
            </a:xfrm>
            <a:custGeom>
              <a:avLst/>
              <a:gdLst/>
              <a:ahLst/>
              <a:rect l="l" t="t" r="r" b="b"/>
              <a:pathLst>
                <a:path w="204" h="127">
                  <a:moveTo>
                    <a:pt x="87" y="5"/>
                  </a:moveTo>
                  <a:lnTo>
                    <a:pt x="87" y="5"/>
                  </a:lnTo>
                  <a:lnTo>
                    <a:pt x="126" y="0"/>
                  </a:lnTo>
                  <a:lnTo>
                    <a:pt x="165" y="5"/>
                  </a:lnTo>
                  <a:lnTo>
                    <a:pt x="180" y="10"/>
                  </a:lnTo>
                  <a:lnTo>
                    <a:pt x="189" y="15"/>
                  </a:lnTo>
                  <a:lnTo>
                    <a:pt x="199" y="25"/>
                  </a:lnTo>
                  <a:lnTo>
                    <a:pt x="204" y="34"/>
                  </a:lnTo>
                  <a:lnTo>
                    <a:pt x="204" y="34"/>
                  </a:lnTo>
                  <a:lnTo>
                    <a:pt x="204" y="44"/>
                  </a:lnTo>
                  <a:lnTo>
                    <a:pt x="204" y="59"/>
                  </a:lnTo>
                  <a:lnTo>
                    <a:pt x="194" y="68"/>
                  </a:lnTo>
                  <a:lnTo>
                    <a:pt x="184" y="83"/>
                  </a:lnTo>
                  <a:lnTo>
                    <a:pt x="155" y="103"/>
                  </a:lnTo>
                  <a:lnTo>
                    <a:pt x="116" y="117"/>
                  </a:lnTo>
                  <a:lnTo>
                    <a:pt x="116" y="117"/>
                  </a:lnTo>
                  <a:lnTo>
                    <a:pt x="77" y="127"/>
                  </a:lnTo>
                  <a:lnTo>
                    <a:pt x="43" y="122"/>
                  </a:lnTo>
                  <a:lnTo>
                    <a:pt x="29" y="117"/>
                  </a:lnTo>
                  <a:lnTo>
                    <a:pt x="14" y="112"/>
                  </a:lnTo>
                  <a:lnTo>
                    <a:pt x="4" y="10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0" y="78"/>
                  </a:lnTo>
                  <a:lnTo>
                    <a:pt x="4" y="68"/>
                  </a:lnTo>
                  <a:lnTo>
                    <a:pt x="9" y="54"/>
                  </a:lnTo>
                  <a:lnTo>
                    <a:pt x="19" y="44"/>
                  </a:lnTo>
                  <a:lnTo>
                    <a:pt x="48" y="25"/>
                  </a:lnTo>
                  <a:lnTo>
                    <a:pt x="87" y="5"/>
                  </a:lnTo>
                  <a:lnTo>
                    <a:pt x="87" y="5"/>
                  </a:lnTo>
                  <a:close/>
                </a:path>
              </a:pathLst>
            </a:custGeom>
            <a:solidFill>
              <a:srgbClr val="fcc2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74360" y="2001240"/>
              <a:ext cx="159480" cy="113040"/>
            </a:xfrm>
            <a:custGeom>
              <a:avLst/>
              <a:gdLst/>
              <a:ahLst/>
              <a:rect l="l" t="t" r="r" b="b"/>
              <a:pathLst>
                <a:path w="190" h="117">
                  <a:moveTo>
                    <a:pt x="78" y="5"/>
                  </a:moveTo>
                  <a:lnTo>
                    <a:pt x="78" y="5"/>
                  </a:lnTo>
                  <a:lnTo>
                    <a:pt x="117" y="0"/>
                  </a:lnTo>
                  <a:lnTo>
                    <a:pt x="151" y="0"/>
                  </a:lnTo>
                  <a:lnTo>
                    <a:pt x="175" y="15"/>
                  </a:lnTo>
                  <a:lnTo>
                    <a:pt x="185" y="20"/>
                  </a:lnTo>
                  <a:lnTo>
                    <a:pt x="190" y="29"/>
                  </a:lnTo>
                  <a:lnTo>
                    <a:pt x="190" y="29"/>
                  </a:lnTo>
                  <a:lnTo>
                    <a:pt x="190" y="44"/>
                  </a:lnTo>
                  <a:lnTo>
                    <a:pt x="185" y="54"/>
                  </a:lnTo>
                  <a:lnTo>
                    <a:pt x="171" y="73"/>
                  </a:lnTo>
                  <a:lnTo>
                    <a:pt x="146" y="93"/>
                  </a:lnTo>
                  <a:lnTo>
                    <a:pt x="107" y="107"/>
                  </a:lnTo>
                  <a:lnTo>
                    <a:pt x="107" y="107"/>
                  </a:lnTo>
                  <a:lnTo>
                    <a:pt x="68" y="117"/>
                  </a:lnTo>
                  <a:lnTo>
                    <a:pt x="39" y="112"/>
                  </a:lnTo>
                  <a:lnTo>
                    <a:pt x="10" y="102"/>
                  </a:lnTo>
                  <a:lnTo>
                    <a:pt x="5" y="9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73"/>
                  </a:lnTo>
                  <a:lnTo>
                    <a:pt x="0" y="63"/>
                  </a:lnTo>
                  <a:lnTo>
                    <a:pt x="15" y="39"/>
                  </a:lnTo>
                  <a:lnTo>
                    <a:pt x="44" y="20"/>
                  </a:lnTo>
                  <a:lnTo>
                    <a:pt x="78" y="5"/>
                  </a:lnTo>
                  <a:lnTo>
                    <a:pt x="78" y="5"/>
                  </a:lnTo>
                  <a:close/>
                </a:path>
              </a:pathLst>
            </a:custGeom>
            <a:solidFill>
              <a:srgbClr val="ffbd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378320" y="2005920"/>
              <a:ext cx="150840" cy="103320"/>
            </a:xfrm>
            <a:custGeom>
              <a:avLst/>
              <a:gdLst/>
              <a:ahLst/>
              <a:rect l="l" t="t" r="r" b="b"/>
              <a:pathLst>
                <a:path w="180" h="107">
                  <a:moveTo>
                    <a:pt x="73" y="5"/>
                  </a:moveTo>
                  <a:lnTo>
                    <a:pt x="73" y="5"/>
                  </a:lnTo>
                  <a:lnTo>
                    <a:pt x="112" y="0"/>
                  </a:lnTo>
                  <a:lnTo>
                    <a:pt x="141" y="0"/>
                  </a:lnTo>
                  <a:lnTo>
                    <a:pt x="166" y="10"/>
                  </a:lnTo>
                  <a:lnTo>
                    <a:pt x="170" y="20"/>
                  </a:lnTo>
                  <a:lnTo>
                    <a:pt x="175" y="29"/>
                  </a:lnTo>
                  <a:lnTo>
                    <a:pt x="175" y="29"/>
                  </a:lnTo>
                  <a:lnTo>
                    <a:pt x="180" y="39"/>
                  </a:lnTo>
                  <a:lnTo>
                    <a:pt x="175" y="49"/>
                  </a:lnTo>
                  <a:lnTo>
                    <a:pt x="161" y="68"/>
                  </a:lnTo>
                  <a:lnTo>
                    <a:pt x="136" y="88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68" y="107"/>
                  </a:lnTo>
                  <a:lnTo>
                    <a:pt x="34" y="102"/>
                  </a:lnTo>
                  <a:lnTo>
                    <a:pt x="15" y="93"/>
                  </a:lnTo>
                  <a:lnTo>
                    <a:pt x="5" y="88"/>
                  </a:lnTo>
                  <a:lnTo>
                    <a:pt x="0" y="78"/>
                  </a:lnTo>
                  <a:lnTo>
                    <a:pt x="0" y="78"/>
                  </a:lnTo>
                  <a:lnTo>
                    <a:pt x="0" y="68"/>
                  </a:lnTo>
                  <a:lnTo>
                    <a:pt x="0" y="58"/>
                  </a:lnTo>
                  <a:lnTo>
                    <a:pt x="15" y="34"/>
                  </a:lnTo>
                  <a:lnTo>
                    <a:pt x="44" y="2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31240" y="221760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02800" y="2184840"/>
              <a:ext cx="612360" cy="488880"/>
            </a:xfrm>
            <a:custGeom>
              <a:avLst/>
              <a:gdLst/>
              <a:ahLst/>
              <a:rect l="l" t="t" r="r" b="b"/>
              <a:pathLst>
                <a:path w="730" h="506">
                  <a:moveTo>
                    <a:pt x="20" y="44"/>
                  </a:moveTo>
                  <a:lnTo>
                    <a:pt x="20" y="44"/>
                  </a:lnTo>
                  <a:lnTo>
                    <a:pt x="34" y="83"/>
                  </a:lnTo>
                  <a:lnTo>
                    <a:pt x="83" y="180"/>
                  </a:lnTo>
                  <a:lnTo>
                    <a:pt x="112" y="238"/>
                  </a:lnTo>
                  <a:lnTo>
                    <a:pt x="156" y="297"/>
                  </a:lnTo>
                  <a:lnTo>
                    <a:pt x="200" y="360"/>
                  </a:lnTo>
                  <a:lnTo>
                    <a:pt x="253" y="418"/>
                  </a:lnTo>
                  <a:lnTo>
                    <a:pt x="253" y="418"/>
                  </a:lnTo>
                  <a:lnTo>
                    <a:pt x="297" y="453"/>
                  </a:lnTo>
                  <a:lnTo>
                    <a:pt x="331" y="477"/>
                  </a:lnTo>
                  <a:lnTo>
                    <a:pt x="365" y="491"/>
                  </a:lnTo>
                  <a:lnTo>
                    <a:pt x="399" y="501"/>
                  </a:lnTo>
                  <a:lnTo>
                    <a:pt x="428" y="506"/>
                  </a:lnTo>
                  <a:lnTo>
                    <a:pt x="448" y="506"/>
                  </a:lnTo>
                  <a:lnTo>
                    <a:pt x="482" y="496"/>
                  </a:lnTo>
                  <a:lnTo>
                    <a:pt x="482" y="496"/>
                  </a:lnTo>
                  <a:lnTo>
                    <a:pt x="501" y="487"/>
                  </a:lnTo>
                  <a:lnTo>
                    <a:pt x="516" y="472"/>
                  </a:lnTo>
                  <a:lnTo>
                    <a:pt x="540" y="438"/>
                  </a:lnTo>
                  <a:lnTo>
                    <a:pt x="560" y="399"/>
                  </a:lnTo>
                  <a:lnTo>
                    <a:pt x="570" y="360"/>
                  </a:lnTo>
                  <a:lnTo>
                    <a:pt x="570" y="360"/>
                  </a:lnTo>
                  <a:lnTo>
                    <a:pt x="574" y="326"/>
                  </a:lnTo>
                  <a:lnTo>
                    <a:pt x="589" y="287"/>
                  </a:lnTo>
                  <a:lnTo>
                    <a:pt x="608" y="243"/>
                  </a:lnTo>
                  <a:lnTo>
                    <a:pt x="633" y="204"/>
                  </a:lnTo>
                  <a:lnTo>
                    <a:pt x="686" y="131"/>
                  </a:lnTo>
                  <a:lnTo>
                    <a:pt x="730" y="73"/>
                  </a:lnTo>
                  <a:lnTo>
                    <a:pt x="706" y="29"/>
                  </a:lnTo>
                  <a:lnTo>
                    <a:pt x="706" y="29"/>
                  </a:lnTo>
                  <a:lnTo>
                    <a:pt x="662" y="53"/>
                  </a:lnTo>
                  <a:lnTo>
                    <a:pt x="618" y="78"/>
                  </a:lnTo>
                  <a:lnTo>
                    <a:pt x="574" y="92"/>
                  </a:lnTo>
                  <a:lnTo>
                    <a:pt x="526" y="102"/>
                  </a:lnTo>
                  <a:lnTo>
                    <a:pt x="482" y="112"/>
                  </a:lnTo>
                  <a:lnTo>
                    <a:pt x="438" y="112"/>
                  </a:lnTo>
                  <a:lnTo>
                    <a:pt x="394" y="112"/>
                  </a:lnTo>
                  <a:lnTo>
                    <a:pt x="351" y="112"/>
                  </a:lnTo>
                  <a:lnTo>
                    <a:pt x="268" y="97"/>
                  </a:lnTo>
                  <a:lnTo>
                    <a:pt x="180" y="68"/>
                  </a:lnTo>
                  <a:lnTo>
                    <a:pt x="98" y="3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20" y="44"/>
                  </a:lnTo>
                  <a:close/>
                  <a:moveTo>
                    <a:pt x="283" y="365"/>
                  </a:moveTo>
                  <a:lnTo>
                    <a:pt x="283" y="365"/>
                  </a:lnTo>
                  <a:lnTo>
                    <a:pt x="244" y="326"/>
                  </a:lnTo>
                  <a:lnTo>
                    <a:pt x="210" y="287"/>
                  </a:lnTo>
                  <a:lnTo>
                    <a:pt x="151" y="204"/>
                  </a:lnTo>
                  <a:lnTo>
                    <a:pt x="107" y="131"/>
                  </a:lnTo>
                  <a:lnTo>
                    <a:pt x="73" y="73"/>
                  </a:lnTo>
                  <a:lnTo>
                    <a:pt x="73" y="73"/>
                  </a:lnTo>
                  <a:lnTo>
                    <a:pt x="200" y="122"/>
                  </a:lnTo>
                  <a:lnTo>
                    <a:pt x="268" y="141"/>
                  </a:lnTo>
                  <a:lnTo>
                    <a:pt x="336" y="156"/>
                  </a:lnTo>
                  <a:lnTo>
                    <a:pt x="409" y="165"/>
                  </a:lnTo>
                  <a:lnTo>
                    <a:pt x="487" y="161"/>
                  </a:lnTo>
                  <a:lnTo>
                    <a:pt x="526" y="156"/>
                  </a:lnTo>
                  <a:lnTo>
                    <a:pt x="565" y="146"/>
                  </a:lnTo>
                  <a:lnTo>
                    <a:pt x="604" y="136"/>
                  </a:lnTo>
                  <a:lnTo>
                    <a:pt x="643" y="122"/>
                  </a:lnTo>
                  <a:lnTo>
                    <a:pt x="643" y="122"/>
                  </a:lnTo>
                  <a:lnTo>
                    <a:pt x="599" y="180"/>
                  </a:lnTo>
                  <a:lnTo>
                    <a:pt x="560" y="243"/>
                  </a:lnTo>
                  <a:lnTo>
                    <a:pt x="531" y="307"/>
                  </a:lnTo>
                  <a:lnTo>
                    <a:pt x="521" y="336"/>
                  </a:lnTo>
                  <a:lnTo>
                    <a:pt x="516" y="360"/>
                  </a:lnTo>
                  <a:lnTo>
                    <a:pt x="516" y="360"/>
                  </a:lnTo>
                  <a:lnTo>
                    <a:pt x="516" y="384"/>
                  </a:lnTo>
                  <a:lnTo>
                    <a:pt x="506" y="404"/>
                  </a:lnTo>
                  <a:lnTo>
                    <a:pt x="487" y="418"/>
                  </a:lnTo>
                  <a:lnTo>
                    <a:pt x="467" y="433"/>
                  </a:lnTo>
                  <a:lnTo>
                    <a:pt x="467" y="433"/>
                  </a:lnTo>
                  <a:lnTo>
                    <a:pt x="443" y="438"/>
                  </a:lnTo>
                  <a:lnTo>
                    <a:pt x="424" y="438"/>
                  </a:lnTo>
                  <a:lnTo>
                    <a:pt x="399" y="438"/>
                  </a:lnTo>
                  <a:lnTo>
                    <a:pt x="375" y="428"/>
                  </a:lnTo>
                  <a:lnTo>
                    <a:pt x="346" y="414"/>
                  </a:lnTo>
                  <a:lnTo>
                    <a:pt x="317" y="394"/>
                  </a:lnTo>
                  <a:lnTo>
                    <a:pt x="283" y="365"/>
                  </a:lnTo>
                  <a:lnTo>
                    <a:pt x="283" y="365"/>
                  </a:lnTo>
                  <a:close/>
                </a:path>
              </a:pathLst>
            </a:custGeom>
            <a:solidFill>
              <a:srgbClr val="e25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31240" y="2217600"/>
              <a:ext cx="572040" cy="408600"/>
            </a:xfrm>
            <a:custGeom>
              <a:avLst/>
              <a:gdLst/>
              <a:ahLst/>
              <a:rect l="l" t="t" r="r" b="b"/>
              <a:pathLst>
                <a:path w="682" h="423">
                  <a:moveTo>
                    <a:pt x="0" y="0"/>
                  </a:moveTo>
                  <a:lnTo>
                    <a:pt x="0" y="0"/>
                  </a:lnTo>
                  <a:lnTo>
                    <a:pt x="151" y="58"/>
                  </a:lnTo>
                  <a:lnTo>
                    <a:pt x="229" y="83"/>
                  </a:lnTo>
                  <a:lnTo>
                    <a:pt x="312" y="102"/>
                  </a:lnTo>
                  <a:lnTo>
                    <a:pt x="356" y="107"/>
                  </a:lnTo>
                  <a:lnTo>
                    <a:pt x="399" y="112"/>
                  </a:lnTo>
                  <a:lnTo>
                    <a:pt x="443" y="107"/>
                  </a:lnTo>
                  <a:lnTo>
                    <a:pt x="492" y="102"/>
                  </a:lnTo>
                  <a:lnTo>
                    <a:pt x="536" y="92"/>
                  </a:lnTo>
                  <a:lnTo>
                    <a:pt x="584" y="73"/>
                  </a:lnTo>
                  <a:lnTo>
                    <a:pt x="633" y="54"/>
                  </a:lnTo>
                  <a:lnTo>
                    <a:pt x="682" y="24"/>
                  </a:lnTo>
                  <a:lnTo>
                    <a:pt x="682" y="24"/>
                  </a:lnTo>
                  <a:lnTo>
                    <a:pt x="652" y="58"/>
                  </a:lnTo>
                  <a:lnTo>
                    <a:pt x="594" y="141"/>
                  </a:lnTo>
                  <a:lnTo>
                    <a:pt x="560" y="190"/>
                  </a:lnTo>
                  <a:lnTo>
                    <a:pt x="531" y="243"/>
                  </a:lnTo>
                  <a:lnTo>
                    <a:pt x="511" y="287"/>
                  </a:lnTo>
                  <a:lnTo>
                    <a:pt x="506" y="307"/>
                  </a:lnTo>
                  <a:lnTo>
                    <a:pt x="502" y="326"/>
                  </a:lnTo>
                  <a:lnTo>
                    <a:pt x="502" y="326"/>
                  </a:lnTo>
                  <a:lnTo>
                    <a:pt x="497" y="360"/>
                  </a:lnTo>
                  <a:lnTo>
                    <a:pt x="482" y="384"/>
                  </a:lnTo>
                  <a:lnTo>
                    <a:pt x="458" y="409"/>
                  </a:lnTo>
                  <a:lnTo>
                    <a:pt x="443" y="419"/>
                  </a:lnTo>
                  <a:lnTo>
                    <a:pt x="424" y="423"/>
                  </a:lnTo>
                  <a:lnTo>
                    <a:pt x="404" y="423"/>
                  </a:lnTo>
                  <a:lnTo>
                    <a:pt x="385" y="423"/>
                  </a:lnTo>
                  <a:lnTo>
                    <a:pt x="360" y="423"/>
                  </a:lnTo>
                  <a:lnTo>
                    <a:pt x="336" y="414"/>
                  </a:lnTo>
                  <a:lnTo>
                    <a:pt x="312" y="404"/>
                  </a:lnTo>
                  <a:lnTo>
                    <a:pt x="287" y="389"/>
                  </a:lnTo>
                  <a:lnTo>
                    <a:pt x="263" y="370"/>
                  </a:lnTo>
                  <a:lnTo>
                    <a:pt x="234" y="346"/>
                  </a:lnTo>
                  <a:lnTo>
                    <a:pt x="234" y="346"/>
                  </a:lnTo>
                  <a:lnTo>
                    <a:pt x="180" y="287"/>
                  </a:lnTo>
                  <a:lnTo>
                    <a:pt x="137" y="229"/>
                  </a:lnTo>
                  <a:lnTo>
                    <a:pt x="93" y="170"/>
                  </a:lnTo>
                  <a:lnTo>
                    <a:pt x="64" y="117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5560" y="2132640"/>
              <a:ext cx="82080" cy="9936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93" y="0"/>
                  </a:moveTo>
                  <a:lnTo>
                    <a:pt x="93" y="0"/>
                  </a:lnTo>
                  <a:lnTo>
                    <a:pt x="98" y="10"/>
                  </a:lnTo>
                  <a:lnTo>
                    <a:pt x="98" y="25"/>
                  </a:lnTo>
                  <a:lnTo>
                    <a:pt x="98" y="44"/>
                  </a:lnTo>
                  <a:lnTo>
                    <a:pt x="88" y="59"/>
                  </a:lnTo>
                  <a:lnTo>
                    <a:pt x="73" y="78"/>
                  </a:lnTo>
                  <a:lnTo>
                    <a:pt x="44" y="93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" y="98"/>
                  </a:lnTo>
                  <a:lnTo>
                    <a:pt x="44" y="73"/>
                  </a:lnTo>
                  <a:lnTo>
                    <a:pt x="59" y="59"/>
                  </a:lnTo>
                  <a:lnTo>
                    <a:pt x="73" y="39"/>
                  </a:lnTo>
                  <a:lnTo>
                    <a:pt x="88" y="20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82760" y="2175120"/>
              <a:ext cx="85320" cy="10800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10" y="0"/>
                  </a:moveTo>
                  <a:lnTo>
                    <a:pt x="10" y="0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5" y="49"/>
                  </a:lnTo>
                  <a:lnTo>
                    <a:pt x="10" y="63"/>
                  </a:lnTo>
                  <a:lnTo>
                    <a:pt x="29" y="83"/>
                  </a:lnTo>
                  <a:lnTo>
                    <a:pt x="59" y="98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88" y="102"/>
                  </a:lnTo>
                  <a:lnTo>
                    <a:pt x="59" y="78"/>
                  </a:lnTo>
                  <a:lnTo>
                    <a:pt x="39" y="63"/>
                  </a:lnTo>
                  <a:lnTo>
                    <a:pt x="25" y="44"/>
                  </a:lnTo>
                  <a:lnTo>
                    <a:pt x="15" y="25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684680" y="2659320"/>
              <a:ext cx="171000" cy="75240"/>
            </a:xfrm>
            <a:custGeom>
              <a:avLst/>
              <a:gdLst/>
              <a:ahLst/>
              <a:rect l="l" t="t" r="r" b="b"/>
              <a:pathLst>
                <a:path w="204" h="78">
                  <a:moveTo>
                    <a:pt x="204" y="0"/>
                  </a:moveTo>
                  <a:lnTo>
                    <a:pt x="204" y="0"/>
                  </a:lnTo>
                  <a:lnTo>
                    <a:pt x="180" y="30"/>
                  </a:lnTo>
                  <a:lnTo>
                    <a:pt x="161" y="49"/>
                  </a:lnTo>
                  <a:lnTo>
                    <a:pt x="136" y="64"/>
                  </a:lnTo>
                  <a:lnTo>
                    <a:pt x="107" y="73"/>
                  </a:lnTo>
                  <a:lnTo>
                    <a:pt x="92" y="78"/>
                  </a:lnTo>
                  <a:lnTo>
                    <a:pt x="73" y="73"/>
                  </a:lnTo>
                  <a:lnTo>
                    <a:pt x="54" y="69"/>
                  </a:lnTo>
                  <a:lnTo>
                    <a:pt x="39" y="59"/>
                  </a:lnTo>
                  <a:lnTo>
                    <a:pt x="19" y="3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5" y="30"/>
                  </a:lnTo>
                  <a:lnTo>
                    <a:pt x="29" y="39"/>
                  </a:lnTo>
                  <a:lnTo>
                    <a:pt x="54" y="44"/>
                  </a:lnTo>
                  <a:lnTo>
                    <a:pt x="83" y="49"/>
                  </a:lnTo>
                  <a:lnTo>
                    <a:pt x="117" y="44"/>
                  </a:lnTo>
                  <a:lnTo>
                    <a:pt x="161" y="30"/>
                  </a:lnTo>
                  <a:lnTo>
                    <a:pt x="204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a61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76080" y="1724040"/>
              <a:ext cx="367200" cy="226080"/>
            </a:xfrm>
            <a:custGeom>
              <a:avLst/>
              <a:gdLst/>
              <a:ahLst/>
              <a:rect l="l" t="t" r="r" b="b"/>
              <a:pathLst>
                <a:path w="438" h="234">
                  <a:moveTo>
                    <a:pt x="438" y="234"/>
                  </a:moveTo>
                  <a:lnTo>
                    <a:pt x="438" y="234"/>
                  </a:lnTo>
                  <a:lnTo>
                    <a:pt x="424" y="195"/>
                  </a:lnTo>
                  <a:lnTo>
                    <a:pt x="399" y="161"/>
                  </a:lnTo>
                  <a:lnTo>
                    <a:pt x="365" y="117"/>
                  </a:lnTo>
                  <a:lnTo>
                    <a:pt x="326" y="73"/>
                  </a:lnTo>
                  <a:lnTo>
                    <a:pt x="302" y="54"/>
                  </a:lnTo>
                  <a:lnTo>
                    <a:pt x="273" y="39"/>
                  </a:lnTo>
                  <a:lnTo>
                    <a:pt x="244" y="24"/>
                  </a:lnTo>
                  <a:lnTo>
                    <a:pt x="215" y="10"/>
                  </a:lnTo>
                  <a:lnTo>
                    <a:pt x="181" y="5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12" y="5"/>
                  </a:lnTo>
                  <a:lnTo>
                    <a:pt x="83" y="10"/>
                  </a:lnTo>
                  <a:lnTo>
                    <a:pt x="64" y="15"/>
                  </a:lnTo>
                  <a:lnTo>
                    <a:pt x="44" y="24"/>
                  </a:lnTo>
                  <a:lnTo>
                    <a:pt x="30" y="39"/>
                  </a:lnTo>
                  <a:lnTo>
                    <a:pt x="15" y="49"/>
                  </a:lnTo>
                  <a:lnTo>
                    <a:pt x="5" y="78"/>
                  </a:lnTo>
                  <a:lnTo>
                    <a:pt x="0" y="107"/>
                  </a:lnTo>
                  <a:lnTo>
                    <a:pt x="0" y="131"/>
                  </a:lnTo>
                  <a:lnTo>
                    <a:pt x="5" y="156"/>
                  </a:lnTo>
                  <a:lnTo>
                    <a:pt x="5" y="156"/>
                  </a:lnTo>
                  <a:lnTo>
                    <a:pt x="30" y="151"/>
                  </a:lnTo>
                  <a:lnTo>
                    <a:pt x="98" y="141"/>
                  </a:lnTo>
                  <a:lnTo>
                    <a:pt x="137" y="141"/>
                  </a:lnTo>
                  <a:lnTo>
                    <a:pt x="185" y="141"/>
                  </a:lnTo>
                  <a:lnTo>
                    <a:pt x="234" y="151"/>
                  </a:lnTo>
                  <a:lnTo>
                    <a:pt x="278" y="170"/>
                  </a:lnTo>
                  <a:lnTo>
                    <a:pt x="278" y="170"/>
                  </a:lnTo>
                  <a:lnTo>
                    <a:pt x="356" y="204"/>
                  </a:lnTo>
                  <a:lnTo>
                    <a:pt x="409" y="224"/>
                  </a:lnTo>
                  <a:lnTo>
                    <a:pt x="434" y="229"/>
                  </a:lnTo>
                  <a:lnTo>
                    <a:pt x="438" y="234"/>
                  </a:lnTo>
                  <a:lnTo>
                    <a:pt x="438" y="234"/>
                  </a:lnTo>
                  <a:close/>
                </a:path>
              </a:pathLst>
            </a:custGeom>
            <a:solidFill>
              <a:srgbClr val="fadc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66800" y="1917360"/>
              <a:ext cx="276840" cy="74160"/>
            </a:xfrm>
            <a:custGeom>
              <a:avLst/>
              <a:gdLst/>
              <a:ahLst/>
              <a:rect l="l" t="t" r="r" b="b"/>
              <a:pathLst>
                <a:path w="330" h="77">
                  <a:moveTo>
                    <a:pt x="330" y="29"/>
                  </a:moveTo>
                  <a:lnTo>
                    <a:pt x="330" y="29"/>
                  </a:lnTo>
                  <a:lnTo>
                    <a:pt x="311" y="24"/>
                  </a:lnTo>
                  <a:lnTo>
                    <a:pt x="253" y="4"/>
                  </a:lnTo>
                  <a:lnTo>
                    <a:pt x="218" y="0"/>
                  </a:lnTo>
                  <a:lnTo>
                    <a:pt x="180" y="0"/>
                  </a:lnTo>
                  <a:lnTo>
                    <a:pt x="141" y="4"/>
                  </a:lnTo>
                  <a:lnTo>
                    <a:pt x="107" y="14"/>
                  </a:lnTo>
                  <a:lnTo>
                    <a:pt x="107" y="14"/>
                  </a:lnTo>
                  <a:lnTo>
                    <a:pt x="48" y="43"/>
                  </a:lnTo>
                  <a:lnTo>
                    <a:pt x="19" y="63"/>
                  </a:lnTo>
                  <a:lnTo>
                    <a:pt x="0" y="77"/>
                  </a:lnTo>
                  <a:lnTo>
                    <a:pt x="0" y="77"/>
                  </a:lnTo>
                  <a:lnTo>
                    <a:pt x="92" y="48"/>
                  </a:lnTo>
                  <a:lnTo>
                    <a:pt x="170" y="29"/>
                  </a:lnTo>
                  <a:lnTo>
                    <a:pt x="204" y="24"/>
                  </a:lnTo>
                  <a:lnTo>
                    <a:pt x="233" y="24"/>
                  </a:lnTo>
                  <a:lnTo>
                    <a:pt x="233" y="24"/>
                  </a:lnTo>
                  <a:lnTo>
                    <a:pt x="311" y="29"/>
                  </a:lnTo>
                  <a:lnTo>
                    <a:pt x="330" y="29"/>
                  </a:lnTo>
                  <a:lnTo>
                    <a:pt x="330" y="29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94720" y="1535400"/>
              <a:ext cx="502560" cy="244080"/>
            </a:xfrm>
            <a:custGeom>
              <a:avLst/>
              <a:gdLst/>
              <a:ahLst/>
              <a:rect l="l" t="t" r="r" b="b"/>
              <a:pathLst>
                <a:path w="599" h="253">
                  <a:moveTo>
                    <a:pt x="579" y="117"/>
                  </a:moveTo>
                  <a:lnTo>
                    <a:pt x="579" y="117"/>
                  </a:lnTo>
                  <a:lnTo>
                    <a:pt x="579" y="142"/>
                  </a:lnTo>
                  <a:lnTo>
                    <a:pt x="579" y="161"/>
                  </a:lnTo>
                  <a:lnTo>
                    <a:pt x="574" y="185"/>
                  </a:lnTo>
                  <a:lnTo>
                    <a:pt x="569" y="195"/>
                  </a:lnTo>
                  <a:lnTo>
                    <a:pt x="560" y="205"/>
                  </a:lnTo>
                  <a:lnTo>
                    <a:pt x="555" y="210"/>
                  </a:lnTo>
                  <a:lnTo>
                    <a:pt x="540" y="210"/>
                  </a:lnTo>
                  <a:lnTo>
                    <a:pt x="526" y="210"/>
                  </a:lnTo>
                  <a:lnTo>
                    <a:pt x="506" y="200"/>
                  </a:lnTo>
                  <a:lnTo>
                    <a:pt x="487" y="190"/>
                  </a:lnTo>
                  <a:lnTo>
                    <a:pt x="462" y="171"/>
                  </a:lnTo>
                  <a:lnTo>
                    <a:pt x="462" y="171"/>
                  </a:lnTo>
                  <a:lnTo>
                    <a:pt x="365" y="98"/>
                  </a:lnTo>
                  <a:lnTo>
                    <a:pt x="321" y="64"/>
                  </a:lnTo>
                  <a:lnTo>
                    <a:pt x="282" y="39"/>
                  </a:lnTo>
                  <a:lnTo>
                    <a:pt x="243" y="20"/>
                  </a:lnTo>
                  <a:lnTo>
                    <a:pt x="205" y="5"/>
                  </a:lnTo>
                  <a:lnTo>
                    <a:pt x="166" y="0"/>
                  </a:lnTo>
                  <a:lnTo>
                    <a:pt x="122" y="5"/>
                  </a:lnTo>
                  <a:lnTo>
                    <a:pt x="122" y="5"/>
                  </a:lnTo>
                  <a:lnTo>
                    <a:pt x="83" y="15"/>
                  </a:lnTo>
                  <a:lnTo>
                    <a:pt x="54" y="25"/>
                  </a:lnTo>
                  <a:lnTo>
                    <a:pt x="34" y="39"/>
                  </a:lnTo>
                  <a:lnTo>
                    <a:pt x="20" y="54"/>
                  </a:lnTo>
                  <a:lnTo>
                    <a:pt x="10" y="69"/>
                  </a:lnTo>
                  <a:lnTo>
                    <a:pt x="5" y="83"/>
                  </a:lnTo>
                  <a:lnTo>
                    <a:pt x="0" y="93"/>
                  </a:lnTo>
                  <a:lnTo>
                    <a:pt x="0" y="93"/>
                  </a:lnTo>
                  <a:lnTo>
                    <a:pt x="15" y="78"/>
                  </a:lnTo>
                  <a:lnTo>
                    <a:pt x="34" y="64"/>
                  </a:lnTo>
                  <a:lnTo>
                    <a:pt x="59" y="44"/>
                  </a:lnTo>
                  <a:lnTo>
                    <a:pt x="88" y="35"/>
                  </a:lnTo>
                  <a:lnTo>
                    <a:pt x="117" y="25"/>
                  </a:lnTo>
                  <a:lnTo>
                    <a:pt x="151" y="25"/>
                  </a:lnTo>
                  <a:lnTo>
                    <a:pt x="170" y="30"/>
                  </a:lnTo>
                  <a:lnTo>
                    <a:pt x="185" y="39"/>
                  </a:lnTo>
                  <a:lnTo>
                    <a:pt x="185" y="39"/>
                  </a:lnTo>
                  <a:lnTo>
                    <a:pt x="229" y="64"/>
                  </a:lnTo>
                  <a:lnTo>
                    <a:pt x="273" y="103"/>
                  </a:lnTo>
                  <a:lnTo>
                    <a:pt x="380" y="180"/>
                  </a:lnTo>
                  <a:lnTo>
                    <a:pt x="433" y="215"/>
                  </a:lnTo>
                  <a:lnTo>
                    <a:pt x="482" y="244"/>
                  </a:lnTo>
                  <a:lnTo>
                    <a:pt x="501" y="249"/>
                  </a:lnTo>
                  <a:lnTo>
                    <a:pt x="526" y="253"/>
                  </a:lnTo>
                  <a:lnTo>
                    <a:pt x="540" y="253"/>
                  </a:lnTo>
                  <a:lnTo>
                    <a:pt x="560" y="249"/>
                  </a:lnTo>
                  <a:lnTo>
                    <a:pt x="560" y="249"/>
                  </a:lnTo>
                  <a:lnTo>
                    <a:pt x="579" y="229"/>
                  </a:lnTo>
                  <a:lnTo>
                    <a:pt x="594" y="210"/>
                  </a:lnTo>
                  <a:lnTo>
                    <a:pt x="599" y="185"/>
                  </a:lnTo>
                  <a:lnTo>
                    <a:pt x="599" y="166"/>
                  </a:lnTo>
                  <a:lnTo>
                    <a:pt x="594" y="146"/>
                  </a:lnTo>
                  <a:lnTo>
                    <a:pt x="584" y="132"/>
                  </a:lnTo>
                  <a:lnTo>
                    <a:pt x="579" y="117"/>
                  </a:lnTo>
                  <a:lnTo>
                    <a:pt x="579" y="117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60240" y="1846800"/>
              <a:ext cx="380160" cy="98280"/>
            </a:xfrm>
            <a:custGeom>
              <a:avLst/>
              <a:gdLst/>
              <a:ahLst/>
              <a:rect l="l" t="t" r="r" b="b"/>
              <a:pathLst>
                <a:path w="453" h="102">
                  <a:moveTo>
                    <a:pt x="453" y="102"/>
                  </a:moveTo>
                  <a:lnTo>
                    <a:pt x="453" y="102"/>
                  </a:lnTo>
                  <a:lnTo>
                    <a:pt x="418" y="82"/>
                  </a:lnTo>
                  <a:lnTo>
                    <a:pt x="336" y="48"/>
                  </a:lnTo>
                  <a:lnTo>
                    <a:pt x="282" y="29"/>
                  </a:lnTo>
                  <a:lnTo>
                    <a:pt x="224" y="14"/>
                  </a:lnTo>
                  <a:lnTo>
                    <a:pt x="165" y="0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54" y="4"/>
                  </a:lnTo>
                  <a:lnTo>
                    <a:pt x="24" y="9"/>
                  </a:lnTo>
                  <a:lnTo>
                    <a:pt x="5" y="19"/>
                  </a:lnTo>
                  <a:lnTo>
                    <a:pt x="0" y="29"/>
                  </a:lnTo>
                  <a:lnTo>
                    <a:pt x="0" y="39"/>
                  </a:lnTo>
                  <a:lnTo>
                    <a:pt x="5" y="43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15" y="43"/>
                  </a:lnTo>
                  <a:lnTo>
                    <a:pt x="24" y="39"/>
                  </a:lnTo>
                  <a:lnTo>
                    <a:pt x="39" y="34"/>
                  </a:lnTo>
                  <a:lnTo>
                    <a:pt x="63" y="29"/>
                  </a:lnTo>
                  <a:lnTo>
                    <a:pt x="92" y="29"/>
                  </a:lnTo>
                  <a:lnTo>
                    <a:pt x="136" y="29"/>
                  </a:lnTo>
                  <a:lnTo>
                    <a:pt x="190" y="39"/>
                  </a:lnTo>
                  <a:lnTo>
                    <a:pt x="190" y="39"/>
                  </a:lnTo>
                  <a:lnTo>
                    <a:pt x="302" y="58"/>
                  </a:lnTo>
                  <a:lnTo>
                    <a:pt x="384" y="77"/>
                  </a:lnTo>
                  <a:lnTo>
                    <a:pt x="453" y="102"/>
                  </a:lnTo>
                  <a:lnTo>
                    <a:pt x="453" y="10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54000" y="2386800"/>
              <a:ext cx="273240" cy="168840"/>
            </a:xfrm>
            <a:custGeom>
              <a:avLst/>
              <a:gdLst/>
              <a:ahLst/>
              <a:rect l="l" t="t" r="r" b="b"/>
              <a:pathLst>
                <a:path w="326" h="175">
                  <a:moveTo>
                    <a:pt x="0" y="68"/>
                  </a:moveTo>
                  <a:lnTo>
                    <a:pt x="0" y="68"/>
                  </a:lnTo>
                  <a:lnTo>
                    <a:pt x="30" y="49"/>
                  </a:lnTo>
                  <a:lnTo>
                    <a:pt x="64" y="25"/>
                  </a:lnTo>
                  <a:lnTo>
                    <a:pt x="103" y="10"/>
                  </a:lnTo>
                  <a:lnTo>
                    <a:pt x="117" y="5"/>
                  </a:lnTo>
                  <a:lnTo>
                    <a:pt x="132" y="5"/>
                  </a:lnTo>
                  <a:lnTo>
                    <a:pt x="132" y="5"/>
                  </a:lnTo>
                  <a:lnTo>
                    <a:pt x="156" y="15"/>
                  </a:lnTo>
                  <a:lnTo>
                    <a:pt x="171" y="25"/>
                  </a:lnTo>
                  <a:lnTo>
                    <a:pt x="180" y="29"/>
                  </a:lnTo>
                  <a:lnTo>
                    <a:pt x="190" y="25"/>
                  </a:lnTo>
                  <a:lnTo>
                    <a:pt x="190" y="25"/>
                  </a:lnTo>
                  <a:lnTo>
                    <a:pt x="205" y="10"/>
                  </a:lnTo>
                  <a:lnTo>
                    <a:pt x="224" y="0"/>
                  </a:lnTo>
                  <a:lnTo>
                    <a:pt x="234" y="0"/>
                  </a:lnTo>
                  <a:lnTo>
                    <a:pt x="244" y="0"/>
                  </a:lnTo>
                  <a:lnTo>
                    <a:pt x="253" y="5"/>
                  </a:lnTo>
                  <a:lnTo>
                    <a:pt x="268" y="20"/>
                  </a:lnTo>
                  <a:lnTo>
                    <a:pt x="268" y="20"/>
                  </a:lnTo>
                  <a:lnTo>
                    <a:pt x="287" y="54"/>
                  </a:lnTo>
                  <a:lnTo>
                    <a:pt x="297" y="78"/>
                  </a:lnTo>
                  <a:lnTo>
                    <a:pt x="307" y="98"/>
                  </a:lnTo>
                  <a:lnTo>
                    <a:pt x="312" y="102"/>
                  </a:lnTo>
                  <a:lnTo>
                    <a:pt x="321" y="112"/>
                  </a:lnTo>
                  <a:lnTo>
                    <a:pt x="321" y="112"/>
                  </a:lnTo>
                  <a:lnTo>
                    <a:pt x="326" y="117"/>
                  </a:lnTo>
                  <a:lnTo>
                    <a:pt x="326" y="127"/>
                  </a:lnTo>
                  <a:lnTo>
                    <a:pt x="317" y="136"/>
                  </a:lnTo>
                  <a:lnTo>
                    <a:pt x="307" y="151"/>
                  </a:lnTo>
                  <a:lnTo>
                    <a:pt x="292" y="161"/>
                  </a:lnTo>
                  <a:lnTo>
                    <a:pt x="273" y="171"/>
                  </a:lnTo>
                  <a:lnTo>
                    <a:pt x="253" y="175"/>
                  </a:lnTo>
                  <a:lnTo>
                    <a:pt x="234" y="175"/>
                  </a:lnTo>
                  <a:lnTo>
                    <a:pt x="234" y="175"/>
                  </a:lnTo>
                  <a:lnTo>
                    <a:pt x="214" y="166"/>
                  </a:lnTo>
                  <a:lnTo>
                    <a:pt x="195" y="161"/>
                  </a:lnTo>
                  <a:lnTo>
                    <a:pt x="171" y="141"/>
                  </a:lnTo>
                  <a:lnTo>
                    <a:pt x="156" y="127"/>
                  </a:lnTo>
                  <a:lnTo>
                    <a:pt x="146" y="122"/>
                  </a:lnTo>
                  <a:lnTo>
                    <a:pt x="146" y="122"/>
                  </a:lnTo>
                  <a:lnTo>
                    <a:pt x="137" y="127"/>
                  </a:lnTo>
                  <a:lnTo>
                    <a:pt x="132" y="136"/>
                  </a:lnTo>
                  <a:lnTo>
                    <a:pt x="127" y="166"/>
                  </a:lnTo>
                  <a:lnTo>
                    <a:pt x="127" y="166"/>
                  </a:lnTo>
                  <a:lnTo>
                    <a:pt x="122" y="171"/>
                  </a:lnTo>
                  <a:lnTo>
                    <a:pt x="117" y="175"/>
                  </a:lnTo>
                  <a:lnTo>
                    <a:pt x="93" y="175"/>
                  </a:lnTo>
                  <a:lnTo>
                    <a:pt x="93" y="175"/>
                  </a:lnTo>
                  <a:lnTo>
                    <a:pt x="88" y="171"/>
                  </a:lnTo>
                  <a:lnTo>
                    <a:pt x="88" y="171"/>
                  </a:lnTo>
                  <a:lnTo>
                    <a:pt x="44" y="122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62280" y="2434320"/>
              <a:ext cx="135000" cy="121320"/>
            </a:xfrm>
            <a:custGeom>
              <a:avLst/>
              <a:gdLst/>
              <a:ahLst/>
              <a:rect l="l" t="t" r="r" b="b"/>
              <a:pathLst>
                <a:path w="161" h="126">
                  <a:moveTo>
                    <a:pt x="0" y="34"/>
                  </a:moveTo>
                  <a:lnTo>
                    <a:pt x="0" y="34"/>
                  </a:lnTo>
                  <a:lnTo>
                    <a:pt x="20" y="19"/>
                  </a:lnTo>
                  <a:lnTo>
                    <a:pt x="44" y="5"/>
                  </a:lnTo>
                  <a:lnTo>
                    <a:pt x="63" y="0"/>
                  </a:lnTo>
                  <a:lnTo>
                    <a:pt x="73" y="0"/>
                  </a:lnTo>
                  <a:lnTo>
                    <a:pt x="83" y="5"/>
                  </a:lnTo>
                  <a:lnTo>
                    <a:pt x="83" y="5"/>
                  </a:lnTo>
                  <a:lnTo>
                    <a:pt x="102" y="24"/>
                  </a:lnTo>
                  <a:lnTo>
                    <a:pt x="112" y="39"/>
                  </a:lnTo>
                  <a:lnTo>
                    <a:pt x="122" y="5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36" y="73"/>
                  </a:lnTo>
                  <a:lnTo>
                    <a:pt x="127" y="78"/>
                  </a:lnTo>
                  <a:lnTo>
                    <a:pt x="122" y="87"/>
                  </a:lnTo>
                  <a:lnTo>
                    <a:pt x="117" y="117"/>
                  </a:lnTo>
                  <a:lnTo>
                    <a:pt x="117" y="117"/>
                  </a:lnTo>
                  <a:lnTo>
                    <a:pt x="112" y="122"/>
                  </a:lnTo>
                  <a:lnTo>
                    <a:pt x="107" y="126"/>
                  </a:lnTo>
                  <a:lnTo>
                    <a:pt x="83" y="126"/>
                  </a:lnTo>
                  <a:lnTo>
                    <a:pt x="83" y="126"/>
                  </a:lnTo>
                  <a:lnTo>
                    <a:pt x="78" y="122"/>
                  </a:lnTo>
                  <a:lnTo>
                    <a:pt x="78" y="122"/>
                  </a:lnTo>
                  <a:lnTo>
                    <a:pt x="39" y="78"/>
                  </a:lnTo>
                  <a:lnTo>
                    <a:pt x="0" y="34"/>
                  </a:lnTo>
                  <a:lnTo>
                    <a:pt x="0" y="34"/>
                  </a:lnTo>
                  <a:close/>
                  <a:moveTo>
                    <a:pt x="146" y="83"/>
                  </a:moveTo>
                  <a:lnTo>
                    <a:pt x="146" y="83"/>
                  </a:lnTo>
                  <a:lnTo>
                    <a:pt x="161" y="92"/>
                  </a:lnTo>
                  <a:lnTo>
                    <a:pt x="161" y="92"/>
                  </a:lnTo>
                  <a:lnTo>
                    <a:pt x="146" y="83"/>
                  </a:lnTo>
                  <a:lnTo>
                    <a:pt x="146" y="83"/>
                  </a:lnTo>
                  <a:close/>
                </a:path>
              </a:pathLst>
            </a:custGeom>
            <a:solidFill>
              <a:srgbClr val="b100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04840" y="2410920"/>
              <a:ext cx="65160" cy="79200"/>
            </a:xfrm>
            <a:custGeom>
              <a:avLst/>
              <a:gdLst/>
              <a:ahLst/>
              <a:rect l="l" t="t" r="r" b="b"/>
              <a:pathLst>
                <a:path w="78" h="82">
                  <a:moveTo>
                    <a:pt x="10" y="0"/>
                  </a:moveTo>
                  <a:lnTo>
                    <a:pt x="10" y="0"/>
                  </a:lnTo>
                  <a:lnTo>
                    <a:pt x="30" y="14"/>
                  </a:lnTo>
                  <a:lnTo>
                    <a:pt x="39" y="38"/>
                  </a:lnTo>
                  <a:lnTo>
                    <a:pt x="39" y="38"/>
                  </a:lnTo>
                  <a:lnTo>
                    <a:pt x="49" y="58"/>
                  </a:lnTo>
                  <a:lnTo>
                    <a:pt x="54" y="68"/>
                  </a:lnTo>
                  <a:lnTo>
                    <a:pt x="64" y="73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77"/>
                  </a:lnTo>
                  <a:lnTo>
                    <a:pt x="78" y="82"/>
                  </a:lnTo>
                  <a:lnTo>
                    <a:pt x="64" y="82"/>
                  </a:lnTo>
                  <a:lnTo>
                    <a:pt x="49" y="82"/>
                  </a:lnTo>
                  <a:lnTo>
                    <a:pt x="39" y="77"/>
                  </a:lnTo>
                  <a:lnTo>
                    <a:pt x="30" y="6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0" y="2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700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99360" y="2514240"/>
              <a:ext cx="253080" cy="111960"/>
            </a:xfrm>
            <a:custGeom>
              <a:avLst/>
              <a:gdLst/>
              <a:ahLst/>
              <a:rect l="l" t="t" r="r" b="b"/>
              <a:pathLst>
                <a:path w="302" h="116">
                  <a:moveTo>
                    <a:pt x="10" y="4"/>
                  </a:moveTo>
                  <a:lnTo>
                    <a:pt x="10" y="4"/>
                  </a:lnTo>
                  <a:lnTo>
                    <a:pt x="24" y="14"/>
                  </a:lnTo>
                  <a:lnTo>
                    <a:pt x="63" y="34"/>
                  </a:lnTo>
                  <a:lnTo>
                    <a:pt x="92" y="43"/>
                  </a:lnTo>
                  <a:lnTo>
                    <a:pt x="121" y="53"/>
                  </a:lnTo>
                  <a:lnTo>
                    <a:pt x="151" y="58"/>
                  </a:lnTo>
                  <a:lnTo>
                    <a:pt x="180" y="58"/>
                  </a:lnTo>
                  <a:lnTo>
                    <a:pt x="180" y="58"/>
                  </a:lnTo>
                  <a:lnTo>
                    <a:pt x="233" y="48"/>
                  </a:lnTo>
                  <a:lnTo>
                    <a:pt x="267" y="34"/>
                  </a:lnTo>
                  <a:lnTo>
                    <a:pt x="287" y="1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9"/>
                  </a:lnTo>
                  <a:lnTo>
                    <a:pt x="302" y="19"/>
                  </a:lnTo>
                  <a:lnTo>
                    <a:pt x="302" y="19"/>
                  </a:lnTo>
                  <a:lnTo>
                    <a:pt x="297" y="53"/>
                  </a:lnTo>
                  <a:lnTo>
                    <a:pt x="282" y="77"/>
                  </a:lnTo>
                  <a:lnTo>
                    <a:pt x="258" y="102"/>
                  </a:lnTo>
                  <a:lnTo>
                    <a:pt x="243" y="112"/>
                  </a:lnTo>
                  <a:lnTo>
                    <a:pt x="224" y="116"/>
                  </a:lnTo>
                  <a:lnTo>
                    <a:pt x="204" y="116"/>
                  </a:lnTo>
                  <a:lnTo>
                    <a:pt x="185" y="116"/>
                  </a:lnTo>
                  <a:lnTo>
                    <a:pt x="160" y="116"/>
                  </a:lnTo>
                  <a:lnTo>
                    <a:pt x="136" y="107"/>
                  </a:lnTo>
                  <a:lnTo>
                    <a:pt x="112" y="97"/>
                  </a:lnTo>
                  <a:lnTo>
                    <a:pt x="87" y="82"/>
                  </a:lnTo>
                  <a:lnTo>
                    <a:pt x="63" y="63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0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31240" y="2217600"/>
              <a:ext cx="551160" cy="126360"/>
            </a:xfrm>
            <a:custGeom>
              <a:avLst/>
              <a:gdLst/>
              <a:ahLst/>
              <a:rect l="l" t="t" r="r" b="b"/>
              <a:pathLst>
                <a:path w="657" h="131">
                  <a:moveTo>
                    <a:pt x="34" y="68"/>
                  </a:moveTo>
                  <a:lnTo>
                    <a:pt x="34" y="68"/>
                  </a:lnTo>
                  <a:lnTo>
                    <a:pt x="107" y="88"/>
                  </a:lnTo>
                  <a:lnTo>
                    <a:pt x="210" y="117"/>
                  </a:lnTo>
                  <a:lnTo>
                    <a:pt x="268" y="127"/>
                  </a:lnTo>
                  <a:lnTo>
                    <a:pt x="326" y="131"/>
                  </a:lnTo>
                  <a:lnTo>
                    <a:pt x="385" y="131"/>
                  </a:lnTo>
                  <a:lnTo>
                    <a:pt x="433" y="127"/>
                  </a:lnTo>
                  <a:lnTo>
                    <a:pt x="433" y="127"/>
                  </a:lnTo>
                  <a:lnTo>
                    <a:pt x="579" y="92"/>
                  </a:lnTo>
                  <a:lnTo>
                    <a:pt x="609" y="78"/>
                  </a:lnTo>
                  <a:lnTo>
                    <a:pt x="628" y="68"/>
                  </a:lnTo>
                  <a:lnTo>
                    <a:pt x="628" y="68"/>
                  </a:lnTo>
                  <a:lnTo>
                    <a:pt x="657" y="44"/>
                  </a:lnTo>
                  <a:lnTo>
                    <a:pt x="657" y="44"/>
                  </a:lnTo>
                  <a:lnTo>
                    <a:pt x="609" y="63"/>
                  </a:lnTo>
                  <a:lnTo>
                    <a:pt x="560" y="83"/>
                  </a:lnTo>
                  <a:lnTo>
                    <a:pt x="516" y="97"/>
                  </a:lnTo>
                  <a:lnTo>
                    <a:pt x="472" y="107"/>
                  </a:lnTo>
                  <a:lnTo>
                    <a:pt x="429" y="107"/>
                  </a:lnTo>
                  <a:lnTo>
                    <a:pt x="385" y="112"/>
                  </a:lnTo>
                  <a:lnTo>
                    <a:pt x="341" y="107"/>
                  </a:lnTo>
                  <a:lnTo>
                    <a:pt x="302" y="102"/>
                  </a:lnTo>
                  <a:lnTo>
                    <a:pt x="219" y="83"/>
                  </a:lnTo>
                  <a:lnTo>
                    <a:pt x="146" y="58"/>
                  </a:lnTo>
                  <a:lnTo>
                    <a:pt x="0" y="0"/>
                  </a:lnTo>
                  <a:lnTo>
                    <a:pt x="0" y="0"/>
                  </a:lnTo>
                  <a:lnTo>
                    <a:pt x="34" y="68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362480" y="2039040"/>
              <a:ext cx="20160" cy="2772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14" y="0"/>
                  </a:moveTo>
                  <a:lnTo>
                    <a:pt x="14" y="0"/>
                  </a:lnTo>
                  <a:lnTo>
                    <a:pt x="24" y="5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5" y="2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98480" y="2001240"/>
              <a:ext cx="24840" cy="277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0"/>
                  </a:moveTo>
                  <a:lnTo>
                    <a:pt x="15" y="0"/>
                  </a:lnTo>
                  <a:lnTo>
                    <a:pt x="25" y="5"/>
                  </a:lnTo>
                  <a:lnTo>
                    <a:pt x="30" y="15"/>
                  </a:lnTo>
                  <a:lnTo>
                    <a:pt x="30" y="15"/>
                  </a:lnTo>
                  <a:lnTo>
                    <a:pt x="25" y="25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11080" y="205812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24" y="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03120" y="1239840"/>
              <a:ext cx="236520" cy="234720"/>
            </a:xfrm>
            <a:custGeom>
              <a:avLst/>
              <a:gdLst/>
              <a:ahLst/>
              <a:rect l="l" t="t" r="r" b="b"/>
              <a:pathLst>
                <a:path w="282" h="243">
                  <a:moveTo>
                    <a:pt x="282" y="83"/>
                  </a:moveTo>
                  <a:lnTo>
                    <a:pt x="282" y="83"/>
                  </a:lnTo>
                  <a:lnTo>
                    <a:pt x="258" y="58"/>
                  </a:lnTo>
                  <a:lnTo>
                    <a:pt x="234" y="39"/>
                  </a:lnTo>
                  <a:lnTo>
                    <a:pt x="204" y="19"/>
                  </a:lnTo>
                  <a:lnTo>
                    <a:pt x="175" y="5"/>
                  </a:lnTo>
                  <a:lnTo>
                    <a:pt x="156" y="0"/>
                  </a:lnTo>
                  <a:lnTo>
                    <a:pt x="141" y="0"/>
                  </a:lnTo>
                  <a:lnTo>
                    <a:pt x="122" y="5"/>
                  </a:lnTo>
                  <a:lnTo>
                    <a:pt x="107" y="10"/>
                  </a:lnTo>
                  <a:lnTo>
                    <a:pt x="93" y="24"/>
                  </a:lnTo>
                  <a:lnTo>
                    <a:pt x="78" y="39"/>
                  </a:lnTo>
                  <a:lnTo>
                    <a:pt x="78" y="39"/>
                  </a:lnTo>
                  <a:lnTo>
                    <a:pt x="49" y="83"/>
                  </a:lnTo>
                  <a:lnTo>
                    <a:pt x="29" y="122"/>
                  </a:lnTo>
                  <a:lnTo>
                    <a:pt x="15" y="156"/>
                  </a:lnTo>
                  <a:lnTo>
                    <a:pt x="5" y="190"/>
                  </a:lnTo>
                  <a:lnTo>
                    <a:pt x="0" y="219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10" y="243"/>
                  </a:lnTo>
                  <a:lnTo>
                    <a:pt x="24" y="243"/>
                  </a:lnTo>
                  <a:lnTo>
                    <a:pt x="24" y="243"/>
                  </a:lnTo>
                  <a:lnTo>
                    <a:pt x="44" y="229"/>
                  </a:lnTo>
                  <a:lnTo>
                    <a:pt x="63" y="199"/>
                  </a:lnTo>
                  <a:lnTo>
                    <a:pt x="102" y="126"/>
                  </a:lnTo>
                  <a:lnTo>
                    <a:pt x="127" y="92"/>
                  </a:lnTo>
                  <a:lnTo>
                    <a:pt x="146" y="63"/>
                  </a:lnTo>
                  <a:lnTo>
                    <a:pt x="161" y="53"/>
                  </a:lnTo>
                  <a:lnTo>
                    <a:pt x="175" y="44"/>
                  </a:lnTo>
                  <a:lnTo>
                    <a:pt x="185" y="44"/>
                  </a:lnTo>
                  <a:lnTo>
                    <a:pt x="200" y="44"/>
                  </a:lnTo>
                  <a:lnTo>
                    <a:pt x="200" y="44"/>
                  </a:lnTo>
                  <a:lnTo>
                    <a:pt x="243" y="63"/>
                  </a:lnTo>
                  <a:lnTo>
                    <a:pt x="268" y="73"/>
                  </a:lnTo>
                  <a:lnTo>
                    <a:pt x="282" y="83"/>
                  </a:lnTo>
                  <a:lnTo>
                    <a:pt x="282" y="83"/>
                  </a:lnTo>
                  <a:close/>
                </a:path>
              </a:pathLst>
            </a:custGeom>
            <a:solidFill>
              <a:srgbClr val="de40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03120" y="1418400"/>
              <a:ext cx="318960" cy="531360"/>
            </a:xfrm>
            <a:custGeom>
              <a:avLst/>
              <a:gdLst/>
              <a:ahLst/>
              <a:rect l="l" t="t" r="r" b="b"/>
              <a:pathLst>
                <a:path w="380" h="550">
                  <a:moveTo>
                    <a:pt x="78" y="550"/>
                  </a:moveTo>
                  <a:lnTo>
                    <a:pt x="78" y="550"/>
                  </a:lnTo>
                  <a:lnTo>
                    <a:pt x="63" y="550"/>
                  </a:lnTo>
                  <a:lnTo>
                    <a:pt x="63" y="550"/>
                  </a:lnTo>
                  <a:lnTo>
                    <a:pt x="44" y="525"/>
                  </a:lnTo>
                  <a:lnTo>
                    <a:pt x="29" y="491"/>
                  </a:lnTo>
                  <a:lnTo>
                    <a:pt x="20" y="457"/>
                  </a:lnTo>
                  <a:lnTo>
                    <a:pt x="10" y="418"/>
                  </a:lnTo>
                  <a:lnTo>
                    <a:pt x="0" y="379"/>
                  </a:lnTo>
                  <a:lnTo>
                    <a:pt x="0" y="336"/>
                  </a:lnTo>
                  <a:lnTo>
                    <a:pt x="0" y="292"/>
                  </a:lnTo>
                  <a:lnTo>
                    <a:pt x="5" y="248"/>
                  </a:lnTo>
                  <a:lnTo>
                    <a:pt x="5" y="248"/>
                  </a:lnTo>
                  <a:lnTo>
                    <a:pt x="20" y="190"/>
                  </a:lnTo>
                  <a:lnTo>
                    <a:pt x="39" y="136"/>
                  </a:lnTo>
                  <a:lnTo>
                    <a:pt x="68" y="92"/>
                  </a:lnTo>
                  <a:lnTo>
                    <a:pt x="97" y="53"/>
                  </a:lnTo>
                  <a:lnTo>
                    <a:pt x="131" y="24"/>
                  </a:lnTo>
                  <a:lnTo>
                    <a:pt x="166" y="5"/>
                  </a:lnTo>
                  <a:lnTo>
                    <a:pt x="204" y="0"/>
                  </a:lnTo>
                  <a:lnTo>
                    <a:pt x="224" y="0"/>
                  </a:lnTo>
                  <a:lnTo>
                    <a:pt x="243" y="5"/>
                  </a:lnTo>
                  <a:lnTo>
                    <a:pt x="243" y="5"/>
                  </a:lnTo>
                  <a:lnTo>
                    <a:pt x="258" y="10"/>
                  </a:lnTo>
                  <a:lnTo>
                    <a:pt x="277" y="19"/>
                  </a:lnTo>
                  <a:lnTo>
                    <a:pt x="307" y="44"/>
                  </a:lnTo>
                  <a:lnTo>
                    <a:pt x="336" y="83"/>
                  </a:lnTo>
                  <a:lnTo>
                    <a:pt x="355" y="126"/>
                  </a:lnTo>
                  <a:lnTo>
                    <a:pt x="370" y="175"/>
                  </a:lnTo>
                  <a:lnTo>
                    <a:pt x="380" y="233"/>
                  </a:lnTo>
                  <a:lnTo>
                    <a:pt x="380" y="292"/>
                  </a:lnTo>
                  <a:lnTo>
                    <a:pt x="375" y="350"/>
                  </a:lnTo>
                  <a:lnTo>
                    <a:pt x="375" y="350"/>
                  </a:lnTo>
                  <a:lnTo>
                    <a:pt x="360" y="409"/>
                  </a:lnTo>
                  <a:lnTo>
                    <a:pt x="341" y="457"/>
                  </a:lnTo>
                  <a:lnTo>
                    <a:pt x="321" y="496"/>
                  </a:lnTo>
                  <a:lnTo>
                    <a:pt x="297" y="530"/>
                  </a:lnTo>
                  <a:lnTo>
                    <a:pt x="297" y="530"/>
                  </a:lnTo>
                  <a:lnTo>
                    <a:pt x="268" y="525"/>
                  </a:lnTo>
                  <a:lnTo>
                    <a:pt x="224" y="520"/>
                  </a:lnTo>
                  <a:lnTo>
                    <a:pt x="224" y="520"/>
                  </a:lnTo>
                  <a:lnTo>
                    <a:pt x="170" y="520"/>
                  </a:lnTo>
                  <a:lnTo>
                    <a:pt x="117" y="530"/>
                  </a:lnTo>
                  <a:lnTo>
                    <a:pt x="117" y="530"/>
                  </a:lnTo>
                  <a:lnTo>
                    <a:pt x="78" y="550"/>
                  </a:lnTo>
                  <a:lnTo>
                    <a:pt x="78" y="550"/>
                  </a:lnTo>
                  <a:close/>
                </a:path>
              </a:pathLst>
            </a:custGeom>
            <a:solidFill>
              <a:srgbClr val="ff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44160" y="1432080"/>
              <a:ext cx="293760" cy="512640"/>
            </a:xfrm>
            <a:custGeom>
              <a:avLst/>
              <a:gdLst/>
              <a:ahLst/>
              <a:rect l="l" t="t" r="r" b="b"/>
              <a:pathLst>
                <a:path w="350" h="531">
                  <a:moveTo>
                    <a:pt x="224" y="5"/>
                  </a:moveTo>
                  <a:lnTo>
                    <a:pt x="224" y="5"/>
                  </a:lnTo>
                  <a:lnTo>
                    <a:pt x="209" y="0"/>
                  </a:lnTo>
                  <a:lnTo>
                    <a:pt x="190" y="0"/>
                  </a:lnTo>
                  <a:lnTo>
                    <a:pt x="155" y="10"/>
                  </a:lnTo>
                  <a:lnTo>
                    <a:pt x="121" y="30"/>
                  </a:lnTo>
                  <a:lnTo>
                    <a:pt x="92" y="54"/>
                  </a:lnTo>
                  <a:lnTo>
                    <a:pt x="63" y="93"/>
                  </a:lnTo>
                  <a:lnTo>
                    <a:pt x="39" y="137"/>
                  </a:lnTo>
                  <a:lnTo>
                    <a:pt x="19" y="185"/>
                  </a:lnTo>
                  <a:lnTo>
                    <a:pt x="10" y="244"/>
                  </a:lnTo>
                  <a:lnTo>
                    <a:pt x="10" y="244"/>
                  </a:lnTo>
                  <a:lnTo>
                    <a:pt x="0" y="287"/>
                  </a:lnTo>
                  <a:lnTo>
                    <a:pt x="0" y="326"/>
                  </a:lnTo>
                  <a:lnTo>
                    <a:pt x="0" y="365"/>
                  </a:lnTo>
                  <a:lnTo>
                    <a:pt x="5" y="399"/>
                  </a:lnTo>
                  <a:lnTo>
                    <a:pt x="14" y="433"/>
                  </a:lnTo>
                  <a:lnTo>
                    <a:pt x="24" y="468"/>
                  </a:lnTo>
                  <a:lnTo>
                    <a:pt x="39" y="497"/>
                  </a:lnTo>
                  <a:lnTo>
                    <a:pt x="53" y="521"/>
                  </a:lnTo>
                  <a:lnTo>
                    <a:pt x="53" y="521"/>
                  </a:lnTo>
                  <a:lnTo>
                    <a:pt x="68" y="516"/>
                  </a:lnTo>
                  <a:lnTo>
                    <a:pt x="68" y="516"/>
                  </a:lnTo>
                  <a:lnTo>
                    <a:pt x="121" y="506"/>
                  </a:lnTo>
                  <a:lnTo>
                    <a:pt x="175" y="506"/>
                  </a:lnTo>
                  <a:lnTo>
                    <a:pt x="175" y="506"/>
                  </a:lnTo>
                  <a:lnTo>
                    <a:pt x="224" y="511"/>
                  </a:lnTo>
                  <a:lnTo>
                    <a:pt x="248" y="521"/>
                  </a:lnTo>
                  <a:lnTo>
                    <a:pt x="248" y="521"/>
                  </a:lnTo>
                  <a:lnTo>
                    <a:pt x="263" y="531"/>
                  </a:lnTo>
                  <a:lnTo>
                    <a:pt x="263" y="531"/>
                  </a:lnTo>
                  <a:lnTo>
                    <a:pt x="287" y="492"/>
                  </a:lnTo>
                  <a:lnTo>
                    <a:pt x="311" y="448"/>
                  </a:lnTo>
                  <a:lnTo>
                    <a:pt x="331" y="399"/>
                  </a:lnTo>
                  <a:lnTo>
                    <a:pt x="345" y="341"/>
                  </a:lnTo>
                  <a:lnTo>
                    <a:pt x="345" y="341"/>
                  </a:lnTo>
                  <a:lnTo>
                    <a:pt x="350" y="283"/>
                  </a:lnTo>
                  <a:lnTo>
                    <a:pt x="350" y="224"/>
                  </a:lnTo>
                  <a:lnTo>
                    <a:pt x="340" y="171"/>
                  </a:lnTo>
                  <a:lnTo>
                    <a:pt x="331" y="122"/>
                  </a:lnTo>
                  <a:lnTo>
                    <a:pt x="311" y="83"/>
                  </a:lnTo>
                  <a:lnTo>
                    <a:pt x="287" y="44"/>
                  </a:lnTo>
                  <a:lnTo>
                    <a:pt x="258" y="20"/>
                  </a:lnTo>
                  <a:lnTo>
                    <a:pt x="243" y="10"/>
                  </a:lnTo>
                  <a:lnTo>
                    <a:pt x="224" y="5"/>
                  </a:lnTo>
                  <a:lnTo>
                    <a:pt x="224" y="5"/>
                  </a:lnTo>
                  <a:close/>
                </a:path>
              </a:pathLst>
            </a:custGeom>
            <a:solidFill>
              <a:srgbClr val="ff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64320" y="1464840"/>
              <a:ext cx="257400" cy="465480"/>
            </a:xfrm>
            <a:custGeom>
              <a:avLst/>
              <a:gdLst/>
              <a:ahLst/>
              <a:rect l="l" t="t" r="r" b="b"/>
              <a:pathLst>
                <a:path w="307" h="482">
                  <a:moveTo>
                    <a:pt x="190" y="0"/>
                  </a:move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73"/>
                  </a:lnTo>
                  <a:lnTo>
                    <a:pt x="0" y="312"/>
                  </a:lnTo>
                  <a:lnTo>
                    <a:pt x="0" y="346"/>
                  </a:lnTo>
                  <a:lnTo>
                    <a:pt x="5" y="375"/>
                  </a:lnTo>
                  <a:lnTo>
                    <a:pt x="15" y="409"/>
                  </a:lnTo>
                  <a:lnTo>
                    <a:pt x="24" y="434"/>
                  </a:lnTo>
                  <a:lnTo>
                    <a:pt x="39" y="458"/>
                  </a:lnTo>
                  <a:lnTo>
                    <a:pt x="54" y="482"/>
                  </a:lnTo>
                  <a:lnTo>
                    <a:pt x="54" y="482"/>
                  </a:lnTo>
                  <a:lnTo>
                    <a:pt x="102" y="472"/>
                  </a:lnTo>
                  <a:lnTo>
                    <a:pt x="151" y="472"/>
                  </a:lnTo>
                  <a:lnTo>
                    <a:pt x="151" y="472"/>
                  </a:lnTo>
                  <a:lnTo>
                    <a:pt x="190" y="477"/>
                  </a:lnTo>
                  <a:lnTo>
                    <a:pt x="214" y="482"/>
                  </a:lnTo>
                  <a:lnTo>
                    <a:pt x="214" y="482"/>
                  </a:lnTo>
                  <a:lnTo>
                    <a:pt x="243" y="443"/>
                  </a:lnTo>
                  <a:lnTo>
                    <a:pt x="273" y="399"/>
                  </a:lnTo>
                  <a:lnTo>
                    <a:pt x="292" y="346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64320" y="1464840"/>
              <a:ext cx="257400" cy="306000"/>
            </a:xfrm>
            <a:custGeom>
              <a:avLst/>
              <a:gdLst/>
              <a:ahLst/>
              <a:rect l="l" t="t" r="r" b="b"/>
              <a:pathLst>
                <a:path w="307" h="317">
                  <a:moveTo>
                    <a:pt x="180" y="44"/>
                  </a:moveTo>
                  <a:lnTo>
                    <a:pt x="180" y="44"/>
                  </a:lnTo>
                  <a:lnTo>
                    <a:pt x="209" y="54"/>
                  </a:lnTo>
                  <a:lnTo>
                    <a:pt x="234" y="73"/>
                  </a:lnTo>
                  <a:lnTo>
                    <a:pt x="258" y="103"/>
                  </a:lnTo>
                  <a:lnTo>
                    <a:pt x="273" y="132"/>
                  </a:lnTo>
                  <a:lnTo>
                    <a:pt x="287" y="176"/>
                  </a:lnTo>
                  <a:lnTo>
                    <a:pt x="297" y="219"/>
                  </a:lnTo>
                  <a:lnTo>
                    <a:pt x="302" y="268"/>
                  </a:lnTo>
                  <a:lnTo>
                    <a:pt x="297" y="317"/>
                  </a:lnTo>
                  <a:lnTo>
                    <a:pt x="297" y="317"/>
                  </a:lnTo>
                  <a:lnTo>
                    <a:pt x="302" y="283"/>
                  </a:lnTo>
                  <a:lnTo>
                    <a:pt x="302" y="283"/>
                  </a:lnTo>
                  <a:lnTo>
                    <a:pt x="307" y="229"/>
                  </a:lnTo>
                  <a:lnTo>
                    <a:pt x="307" y="181"/>
                  </a:lnTo>
                  <a:lnTo>
                    <a:pt x="297" y="137"/>
                  </a:lnTo>
                  <a:lnTo>
                    <a:pt x="282" y="93"/>
                  </a:lnTo>
                  <a:lnTo>
                    <a:pt x="268" y="59"/>
                  </a:lnTo>
                  <a:lnTo>
                    <a:pt x="243" y="30"/>
                  </a:lnTo>
                  <a:lnTo>
                    <a:pt x="219" y="1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56" y="0"/>
                  </a:lnTo>
                  <a:lnTo>
                    <a:pt x="127" y="10"/>
                  </a:lnTo>
                  <a:lnTo>
                    <a:pt x="97" y="30"/>
                  </a:lnTo>
                  <a:lnTo>
                    <a:pt x="73" y="59"/>
                  </a:lnTo>
                  <a:lnTo>
                    <a:pt x="49" y="98"/>
                  </a:lnTo>
                  <a:lnTo>
                    <a:pt x="29" y="137"/>
                  </a:lnTo>
                  <a:lnTo>
                    <a:pt x="15" y="185"/>
                  </a:lnTo>
                  <a:lnTo>
                    <a:pt x="0" y="239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49"/>
                  </a:lnTo>
                  <a:lnTo>
                    <a:pt x="15" y="205"/>
                  </a:lnTo>
                  <a:lnTo>
                    <a:pt x="29" y="161"/>
                  </a:lnTo>
                  <a:lnTo>
                    <a:pt x="49" y="127"/>
                  </a:lnTo>
                  <a:lnTo>
                    <a:pt x="73" y="98"/>
                  </a:lnTo>
                  <a:lnTo>
                    <a:pt x="97" y="73"/>
                  </a:lnTo>
                  <a:lnTo>
                    <a:pt x="127" y="54"/>
                  </a:lnTo>
                  <a:lnTo>
                    <a:pt x="151" y="44"/>
                  </a:lnTo>
                  <a:lnTo>
                    <a:pt x="180" y="44"/>
                  </a:lnTo>
                  <a:lnTo>
                    <a:pt x="180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9680" y="1611000"/>
              <a:ext cx="183600" cy="277200"/>
            </a:xfrm>
            <a:custGeom>
              <a:avLst/>
              <a:gdLst/>
              <a:ahLst/>
              <a:rect l="l" t="t" r="r" b="b"/>
              <a:pathLst>
                <a:path w="219" h="287">
                  <a:moveTo>
                    <a:pt x="0" y="132"/>
                  </a:moveTo>
                  <a:lnTo>
                    <a:pt x="0" y="132"/>
                  </a:lnTo>
                  <a:lnTo>
                    <a:pt x="0" y="161"/>
                  </a:lnTo>
                  <a:lnTo>
                    <a:pt x="0" y="190"/>
                  </a:lnTo>
                  <a:lnTo>
                    <a:pt x="9" y="214"/>
                  </a:lnTo>
                  <a:lnTo>
                    <a:pt x="19" y="239"/>
                  </a:lnTo>
                  <a:lnTo>
                    <a:pt x="34" y="258"/>
                  </a:lnTo>
                  <a:lnTo>
                    <a:pt x="48" y="273"/>
                  </a:lnTo>
                  <a:lnTo>
                    <a:pt x="68" y="283"/>
                  </a:lnTo>
                  <a:lnTo>
                    <a:pt x="87" y="287"/>
                  </a:lnTo>
                  <a:lnTo>
                    <a:pt x="87" y="287"/>
                  </a:lnTo>
                  <a:lnTo>
                    <a:pt x="112" y="287"/>
                  </a:lnTo>
                  <a:lnTo>
                    <a:pt x="131" y="283"/>
                  </a:lnTo>
                  <a:lnTo>
                    <a:pt x="150" y="273"/>
                  </a:lnTo>
                  <a:lnTo>
                    <a:pt x="170" y="258"/>
                  </a:lnTo>
                  <a:lnTo>
                    <a:pt x="185" y="239"/>
                  </a:lnTo>
                  <a:lnTo>
                    <a:pt x="199" y="214"/>
                  </a:lnTo>
                  <a:lnTo>
                    <a:pt x="209" y="185"/>
                  </a:lnTo>
                  <a:lnTo>
                    <a:pt x="214" y="156"/>
                  </a:lnTo>
                  <a:lnTo>
                    <a:pt x="214" y="156"/>
                  </a:lnTo>
                  <a:lnTo>
                    <a:pt x="219" y="127"/>
                  </a:lnTo>
                  <a:lnTo>
                    <a:pt x="214" y="102"/>
                  </a:lnTo>
                  <a:lnTo>
                    <a:pt x="209" y="73"/>
                  </a:lnTo>
                  <a:lnTo>
                    <a:pt x="199" y="54"/>
                  </a:lnTo>
                  <a:lnTo>
                    <a:pt x="185" y="34"/>
                  </a:lnTo>
                  <a:lnTo>
                    <a:pt x="165" y="15"/>
                  </a:lnTo>
                  <a:lnTo>
                    <a:pt x="146" y="5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02" y="0"/>
                  </a:lnTo>
                  <a:lnTo>
                    <a:pt x="82" y="5"/>
                  </a:lnTo>
                  <a:lnTo>
                    <a:pt x="63" y="15"/>
                  </a:lnTo>
                  <a:lnTo>
                    <a:pt x="43" y="34"/>
                  </a:lnTo>
                  <a:lnTo>
                    <a:pt x="29" y="54"/>
                  </a:lnTo>
                  <a:lnTo>
                    <a:pt x="14" y="73"/>
                  </a:lnTo>
                  <a:lnTo>
                    <a:pt x="4" y="102"/>
                  </a:lnTo>
                  <a:lnTo>
                    <a:pt x="0" y="132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155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25520" y="1639800"/>
              <a:ext cx="146880" cy="219960"/>
            </a:xfrm>
            <a:custGeom>
              <a:avLst/>
              <a:gdLst/>
              <a:ahLst/>
              <a:rect l="l" t="t" r="r" b="b"/>
              <a:pathLst>
                <a:path w="175" h="228">
                  <a:moveTo>
                    <a:pt x="0" y="102"/>
                  </a:moveTo>
                  <a:lnTo>
                    <a:pt x="0" y="102"/>
                  </a:lnTo>
                  <a:lnTo>
                    <a:pt x="0" y="126"/>
                  </a:lnTo>
                  <a:lnTo>
                    <a:pt x="5" y="150"/>
                  </a:lnTo>
                  <a:lnTo>
                    <a:pt x="10" y="170"/>
                  </a:lnTo>
                  <a:lnTo>
                    <a:pt x="15" y="189"/>
                  </a:lnTo>
                  <a:lnTo>
                    <a:pt x="29" y="204"/>
                  </a:lnTo>
                  <a:lnTo>
                    <a:pt x="39" y="218"/>
                  </a:lnTo>
                  <a:lnTo>
                    <a:pt x="58" y="223"/>
                  </a:lnTo>
                  <a:lnTo>
                    <a:pt x="73" y="228"/>
                  </a:lnTo>
                  <a:lnTo>
                    <a:pt x="73" y="228"/>
                  </a:lnTo>
                  <a:lnTo>
                    <a:pt x="93" y="228"/>
                  </a:lnTo>
                  <a:lnTo>
                    <a:pt x="107" y="223"/>
                  </a:lnTo>
                  <a:lnTo>
                    <a:pt x="122" y="218"/>
                  </a:lnTo>
                  <a:lnTo>
                    <a:pt x="136" y="204"/>
                  </a:lnTo>
                  <a:lnTo>
                    <a:pt x="151" y="189"/>
                  </a:lnTo>
                  <a:lnTo>
                    <a:pt x="161" y="170"/>
                  </a:lnTo>
                  <a:lnTo>
                    <a:pt x="170" y="150"/>
                  </a:lnTo>
                  <a:lnTo>
                    <a:pt x="175" y="126"/>
                  </a:lnTo>
                  <a:lnTo>
                    <a:pt x="175" y="126"/>
                  </a:lnTo>
                  <a:lnTo>
                    <a:pt x="175" y="102"/>
                  </a:lnTo>
                  <a:lnTo>
                    <a:pt x="175" y="77"/>
                  </a:lnTo>
                  <a:lnTo>
                    <a:pt x="170" y="58"/>
                  </a:lnTo>
                  <a:lnTo>
                    <a:pt x="161" y="38"/>
                  </a:lnTo>
                  <a:lnTo>
                    <a:pt x="151" y="24"/>
                  </a:lnTo>
                  <a:lnTo>
                    <a:pt x="136" y="14"/>
                  </a:lnTo>
                  <a:lnTo>
                    <a:pt x="122" y="4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88" y="0"/>
                  </a:lnTo>
                  <a:lnTo>
                    <a:pt x="68" y="4"/>
                  </a:lnTo>
                  <a:lnTo>
                    <a:pt x="54" y="14"/>
                  </a:lnTo>
                  <a:lnTo>
                    <a:pt x="39" y="24"/>
                  </a:lnTo>
                  <a:lnTo>
                    <a:pt x="24" y="38"/>
                  </a:lnTo>
                  <a:lnTo>
                    <a:pt x="15" y="58"/>
                  </a:lnTo>
                  <a:lnTo>
                    <a:pt x="5" y="82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2ba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50000" y="1686240"/>
              <a:ext cx="97920" cy="136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63"/>
                  </a:moveTo>
                  <a:lnTo>
                    <a:pt x="0" y="63"/>
                  </a:lnTo>
                  <a:lnTo>
                    <a:pt x="5" y="93"/>
                  </a:lnTo>
                  <a:lnTo>
                    <a:pt x="10" y="117"/>
                  </a:lnTo>
                  <a:lnTo>
                    <a:pt x="29" y="136"/>
                  </a:lnTo>
                  <a:lnTo>
                    <a:pt x="39" y="141"/>
                  </a:lnTo>
                  <a:lnTo>
                    <a:pt x="49" y="141"/>
                  </a:lnTo>
                  <a:lnTo>
                    <a:pt x="49" y="141"/>
                  </a:lnTo>
                  <a:lnTo>
                    <a:pt x="59" y="141"/>
                  </a:lnTo>
                  <a:lnTo>
                    <a:pt x="73" y="141"/>
                  </a:lnTo>
                  <a:lnTo>
                    <a:pt x="93" y="127"/>
                  </a:lnTo>
                  <a:lnTo>
                    <a:pt x="107" y="107"/>
                  </a:lnTo>
                  <a:lnTo>
                    <a:pt x="117" y="78"/>
                  </a:lnTo>
                  <a:lnTo>
                    <a:pt x="117" y="78"/>
                  </a:lnTo>
                  <a:lnTo>
                    <a:pt x="112" y="49"/>
                  </a:lnTo>
                  <a:lnTo>
                    <a:pt x="107" y="24"/>
                  </a:lnTo>
                  <a:lnTo>
                    <a:pt x="88" y="1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5" y="15"/>
                  </a:lnTo>
                  <a:lnTo>
                    <a:pt x="10" y="34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06880" y="1686240"/>
              <a:ext cx="41040" cy="51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20"/>
                  </a:moveTo>
                  <a:lnTo>
                    <a:pt x="0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10" y="49"/>
                  </a:lnTo>
                  <a:lnTo>
                    <a:pt x="15" y="54"/>
                  </a:lnTo>
                  <a:lnTo>
                    <a:pt x="15" y="54"/>
                  </a:lnTo>
                  <a:lnTo>
                    <a:pt x="25" y="54"/>
                  </a:lnTo>
                  <a:lnTo>
                    <a:pt x="34" y="49"/>
                  </a:lnTo>
                  <a:lnTo>
                    <a:pt x="39" y="44"/>
                  </a:lnTo>
                  <a:lnTo>
                    <a:pt x="44" y="29"/>
                  </a:lnTo>
                  <a:lnTo>
                    <a:pt x="44" y="29"/>
                  </a:lnTo>
                  <a:lnTo>
                    <a:pt x="49" y="20"/>
                  </a:lnTo>
                  <a:lnTo>
                    <a:pt x="44" y="10"/>
                  </a:lnTo>
                  <a:lnTo>
                    <a:pt x="39" y="5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5" y="10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50000" y="1776240"/>
              <a:ext cx="20880" cy="2304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0" y="0"/>
                  </a:moveTo>
                  <a:lnTo>
                    <a:pt x="20" y="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14"/>
                  </a:lnTo>
                  <a:lnTo>
                    <a:pt x="10" y="24"/>
                  </a:lnTo>
                  <a:lnTo>
                    <a:pt x="10" y="24"/>
                  </a:lnTo>
                  <a:lnTo>
                    <a:pt x="20" y="24"/>
                  </a:lnTo>
                  <a:lnTo>
                    <a:pt x="25" y="14"/>
                  </a:lnTo>
                  <a:lnTo>
                    <a:pt x="25" y="14"/>
                  </a:lnTo>
                  <a:lnTo>
                    <a:pt x="25" y="4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48480" y="1907280"/>
              <a:ext cx="269280" cy="93600"/>
            </a:xfrm>
            <a:custGeom>
              <a:avLst/>
              <a:gdLst/>
              <a:ahLst/>
              <a:rect l="l" t="t" r="r" b="b"/>
              <a:pathLst>
                <a:path w="321" h="97">
                  <a:moveTo>
                    <a:pt x="0" y="53"/>
                  </a:moveTo>
                  <a:lnTo>
                    <a:pt x="0" y="53"/>
                  </a:lnTo>
                  <a:lnTo>
                    <a:pt x="29" y="34"/>
                  </a:lnTo>
                  <a:lnTo>
                    <a:pt x="63" y="19"/>
                  </a:lnTo>
                  <a:lnTo>
                    <a:pt x="107" y="5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80" y="5"/>
                  </a:lnTo>
                  <a:lnTo>
                    <a:pt x="209" y="10"/>
                  </a:lnTo>
                  <a:lnTo>
                    <a:pt x="238" y="24"/>
                  </a:lnTo>
                  <a:lnTo>
                    <a:pt x="262" y="39"/>
                  </a:lnTo>
                  <a:lnTo>
                    <a:pt x="292" y="68"/>
                  </a:lnTo>
                  <a:lnTo>
                    <a:pt x="321" y="97"/>
                  </a:lnTo>
                  <a:lnTo>
                    <a:pt x="321" y="97"/>
                  </a:lnTo>
                  <a:lnTo>
                    <a:pt x="301" y="78"/>
                  </a:lnTo>
                  <a:lnTo>
                    <a:pt x="272" y="58"/>
                  </a:lnTo>
                  <a:lnTo>
                    <a:pt x="238" y="44"/>
                  </a:lnTo>
                  <a:lnTo>
                    <a:pt x="194" y="29"/>
                  </a:lnTo>
                  <a:lnTo>
                    <a:pt x="170" y="24"/>
                  </a:lnTo>
                  <a:lnTo>
                    <a:pt x="141" y="24"/>
                  </a:lnTo>
                  <a:lnTo>
                    <a:pt x="107" y="24"/>
                  </a:lnTo>
                  <a:lnTo>
                    <a:pt x="73" y="29"/>
                  </a:lnTo>
                  <a:lnTo>
                    <a:pt x="39" y="39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a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85000" y="204840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0"/>
                  </a:move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5" y="24"/>
                  </a:lnTo>
                  <a:lnTo>
                    <a:pt x="14" y="29"/>
                  </a:lnTo>
                  <a:lnTo>
                    <a:pt x="14" y="29"/>
                  </a:lnTo>
                  <a:lnTo>
                    <a:pt x="24" y="24"/>
                  </a:lnTo>
                  <a:lnTo>
                    <a:pt x="29" y="14"/>
                  </a:lnTo>
                  <a:lnTo>
                    <a:pt x="29" y="14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043960" y="2010960"/>
              <a:ext cx="24120" cy="277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5" y="24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032080" y="2066760"/>
              <a:ext cx="24120" cy="2880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4" y="0"/>
                  </a:moveTo>
                  <a:lnTo>
                    <a:pt x="14" y="0"/>
                  </a:lnTo>
                  <a:lnTo>
                    <a:pt x="4" y="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25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24" y="25"/>
                  </a:lnTo>
                  <a:lnTo>
                    <a:pt x="29" y="15"/>
                  </a:lnTo>
                  <a:lnTo>
                    <a:pt x="29" y="15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60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50080" y="1108440"/>
              <a:ext cx="61200" cy="70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68" y="48"/>
                  </a:moveTo>
                  <a:lnTo>
                    <a:pt x="68" y="48"/>
                  </a:lnTo>
                  <a:lnTo>
                    <a:pt x="63" y="58"/>
                  </a:lnTo>
                  <a:lnTo>
                    <a:pt x="53" y="68"/>
                  </a:lnTo>
                  <a:lnTo>
                    <a:pt x="39" y="73"/>
                  </a:lnTo>
                  <a:lnTo>
                    <a:pt x="24" y="73"/>
                  </a:lnTo>
                  <a:lnTo>
                    <a:pt x="24" y="73"/>
                  </a:lnTo>
                  <a:lnTo>
                    <a:pt x="9" y="68"/>
                  </a:lnTo>
                  <a:lnTo>
                    <a:pt x="5" y="53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5" y="14"/>
                  </a:lnTo>
                  <a:lnTo>
                    <a:pt x="14" y="5"/>
                  </a:lnTo>
                  <a:lnTo>
                    <a:pt x="29" y="0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58" y="9"/>
                  </a:lnTo>
                  <a:lnTo>
                    <a:pt x="68" y="19"/>
                  </a:lnTo>
                  <a:lnTo>
                    <a:pt x="73" y="34"/>
                  </a:lnTo>
                  <a:lnTo>
                    <a:pt x="68" y="48"/>
                  </a:lnTo>
                  <a:lnTo>
                    <a:pt x="68" y="48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186080" y="120672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9"/>
                  </a:moveTo>
                  <a:lnTo>
                    <a:pt x="49" y="29"/>
                  </a:lnTo>
                  <a:lnTo>
                    <a:pt x="44" y="39"/>
                  </a:lnTo>
                  <a:lnTo>
                    <a:pt x="39" y="44"/>
                  </a:lnTo>
                  <a:lnTo>
                    <a:pt x="30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0" y="4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44" y="5"/>
                  </a:lnTo>
                  <a:lnTo>
                    <a:pt x="49" y="10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9" y="2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18840" y="128232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19"/>
                  </a:moveTo>
                  <a:lnTo>
                    <a:pt x="34" y="19"/>
                  </a:lnTo>
                  <a:lnTo>
                    <a:pt x="25" y="24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5" y="19"/>
                  </a:lnTo>
                  <a:lnTo>
                    <a:pt x="0" y="9"/>
                  </a:lnTo>
                  <a:lnTo>
                    <a:pt x="0" y="9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30" y="5"/>
                  </a:lnTo>
                  <a:lnTo>
                    <a:pt x="34" y="19"/>
                  </a:lnTo>
                  <a:lnTo>
                    <a:pt x="34" y="1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3029760" y="1744200"/>
              <a:ext cx="1050840" cy="1399320"/>
              <a:chOff x="3029760" y="1744200"/>
              <a:chExt cx="1050840" cy="1399320"/>
            </a:xfrm>
          </p:grpSpPr>
          <p:sp>
            <p:nvSpPr>
              <p:cNvPr id="479" name=""/>
              <p:cNvSpPr/>
              <p:nvPr/>
            </p:nvSpPr>
            <p:spPr>
              <a:xfrm flipH="1" rot="11716200">
                <a:off x="3602160" y="1786320"/>
                <a:ext cx="403200" cy="621360"/>
              </a:xfrm>
              <a:custGeom>
                <a:avLst/>
                <a:gdLst/>
                <a:ahLst/>
                <a:rect l="l" t="t" r="r" b="b"/>
                <a:pathLst>
                  <a:path w="550" h="628">
                    <a:moveTo>
                      <a:pt x="229" y="20"/>
                    </a:moveTo>
                    <a:lnTo>
                      <a:pt x="229" y="20"/>
                    </a:lnTo>
                    <a:lnTo>
                      <a:pt x="234" y="20"/>
                    </a:lnTo>
                    <a:lnTo>
                      <a:pt x="243" y="20"/>
                    </a:lnTo>
                    <a:lnTo>
                      <a:pt x="253" y="34"/>
                    </a:lnTo>
                    <a:lnTo>
                      <a:pt x="258" y="59"/>
                    </a:lnTo>
                    <a:lnTo>
                      <a:pt x="263" y="88"/>
                    </a:lnTo>
                    <a:lnTo>
                      <a:pt x="273" y="171"/>
                    </a:lnTo>
                    <a:lnTo>
                      <a:pt x="282" y="278"/>
                    </a:lnTo>
                    <a:lnTo>
                      <a:pt x="282" y="278"/>
                    </a:lnTo>
                    <a:lnTo>
                      <a:pt x="297" y="317"/>
                    </a:lnTo>
                    <a:lnTo>
                      <a:pt x="316" y="351"/>
                    </a:lnTo>
                    <a:lnTo>
                      <a:pt x="341" y="380"/>
                    </a:lnTo>
                    <a:lnTo>
                      <a:pt x="370" y="404"/>
                    </a:lnTo>
                    <a:lnTo>
                      <a:pt x="404" y="424"/>
                    </a:lnTo>
                    <a:lnTo>
                      <a:pt x="438" y="438"/>
                    </a:lnTo>
                    <a:lnTo>
                      <a:pt x="477" y="448"/>
                    </a:lnTo>
                    <a:lnTo>
                      <a:pt x="506" y="448"/>
                    </a:lnTo>
                    <a:lnTo>
                      <a:pt x="506" y="448"/>
                    </a:lnTo>
                    <a:lnTo>
                      <a:pt x="516" y="448"/>
                    </a:lnTo>
                    <a:lnTo>
                      <a:pt x="526" y="453"/>
                    </a:lnTo>
                    <a:lnTo>
                      <a:pt x="535" y="472"/>
                    </a:lnTo>
                    <a:lnTo>
                      <a:pt x="545" y="501"/>
                    </a:lnTo>
                    <a:lnTo>
                      <a:pt x="550" y="536"/>
                    </a:lnTo>
                    <a:lnTo>
                      <a:pt x="550" y="599"/>
                    </a:lnTo>
                    <a:lnTo>
                      <a:pt x="550" y="628"/>
                    </a:lnTo>
                    <a:lnTo>
                      <a:pt x="550" y="628"/>
                    </a:lnTo>
                    <a:lnTo>
                      <a:pt x="516" y="623"/>
                    </a:lnTo>
                    <a:lnTo>
                      <a:pt x="438" y="604"/>
                    </a:lnTo>
                    <a:lnTo>
                      <a:pt x="385" y="589"/>
                    </a:lnTo>
                    <a:lnTo>
                      <a:pt x="331" y="570"/>
                    </a:lnTo>
                    <a:lnTo>
                      <a:pt x="277" y="545"/>
                    </a:lnTo>
                    <a:lnTo>
                      <a:pt x="224" y="511"/>
                    </a:lnTo>
                    <a:lnTo>
                      <a:pt x="224" y="511"/>
                    </a:lnTo>
                    <a:lnTo>
                      <a:pt x="204" y="497"/>
                    </a:lnTo>
                    <a:lnTo>
                      <a:pt x="185" y="472"/>
                    </a:lnTo>
                    <a:lnTo>
                      <a:pt x="146" y="419"/>
                    </a:lnTo>
                    <a:lnTo>
                      <a:pt x="112" y="351"/>
                    </a:lnTo>
                    <a:lnTo>
                      <a:pt x="83" y="278"/>
                    </a:lnTo>
                    <a:lnTo>
                      <a:pt x="54" y="200"/>
                    </a:lnTo>
                    <a:lnTo>
                      <a:pt x="29" y="12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0"/>
                    </a:lnTo>
                    <a:lnTo>
                      <a:pt x="20" y="0"/>
                    </a:lnTo>
                    <a:lnTo>
                      <a:pt x="73" y="15"/>
                    </a:lnTo>
                    <a:lnTo>
                      <a:pt x="151" y="34"/>
                    </a:lnTo>
                    <a:lnTo>
                      <a:pt x="229" y="20"/>
                    </a:lnTo>
                    <a:lnTo>
                      <a:pt x="229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 rot="11716200">
                <a:off x="3526560" y="222156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 rot="11716200">
                <a:off x="3511440" y="2201400"/>
                <a:ext cx="246240" cy="216720"/>
              </a:xfrm>
              <a:custGeom>
                <a:avLst/>
                <a:gdLst/>
                <a:ahLst/>
                <a:rect l="l" t="t" r="r" b="b"/>
                <a:pathLst>
                  <a:path w="336" h="219">
                    <a:moveTo>
                      <a:pt x="141" y="9"/>
                    </a:moveTo>
                    <a:lnTo>
                      <a:pt x="141" y="9"/>
                    </a:lnTo>
                    <a:lnTo>
                      <a:pt x="141" y="9"/>
                    </a:lnTo>
                    <a:lnTo>
                      <a:pt x="98" y="24"/>
                    </a:lnTo>
                    <a:lnTo>
                      <a:pt x="63" y="43"/>
                    </a:lnTo>
                    <a:lnTo>
                      <a:pt x="34" y="63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5" y="107"/>
                    </a:lnTo>
                    <a:lnTo>
                      <a:pt x="0" y="121"/>
                    </a:lnTo>
                    <a:lnTo>
                      <a:pt x="0" y="136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10" y="170"/>
                    </a:lnTo>
                    <a:lnTo>
                      <a:pt x="25" y="189"/>
                    </a:lnTo>
                    <a:lnTo>
                      <a:pt x="44" y="199"/>
                    </a:lnTo>
                    <a:lnTo>
                      <a:pt x="68" y="209"/>
                    </a:lnTo>
                    <a:lnTo>
                      <a:pt x="98" y="219"/>
                    </a:lnTo>
                    <a:lnTo>
                      <a:pt x="127" y="219"/>
                    </a:lnTo>
                    <a:lnTo>
                      <a:pt x="161" y="219"/>
                    </a:lnTo>
                    <a:lnTo>
                      <a:pt x="195" y="209"/>
                    </a:lnTo>
                    <a:lnTo>
                      <a:pt x="195" y="209"/>
                    </a:lnTo>
                    <a:lnTo>
                      <a:pt x="234" y="199"/>
                    </a:lnTo>
                    <a:lnTo>
                      <a:pt x="273" y="180"/>
                    </a:lnTo>
                    <a:lnTo>
                      <a:pt x="302" y="155"/>
                    </a:lnTo>
                    <a:lnTo>
                      <a:pt x="321" y="126"/>
                    </a:lnTo>
                    <a:lnTo>
                      <a:pt x="321" y="126"/>
                    </a:lnTo>
                    <a:lnTo>
                      <a:pt x="331" y="112"/>
                    </a:lnTo>
                    <a:lnTo>
                      <a:pt x="331" y="97"/>
                    </a:lnTo>
                    <a:lnTo>
                      <a:pt x="336" y="82"/>
                    </a:lnTo>
                    <a:lnTo>
                      <a:pt x="331" y="68"/>
                    </a:lnTo>
                    <a:lnTo>
                      <a:pt x="331" y="68"/>
                    </a:lnTo>
                    <a:lnTo>
                      <a:pt x="321" y="48"/>
                    </a:lnTo>
                    <a:lnTo>
                      <a:pt x="307" y="34"/>
                    </a:lnTo>
                    <a:lnTo>
                      <a:pt x="287" y="19"/>
                    </a:lnTo>
                    <a:lnTo>
                      <a:pt x="263" y="9"/>
                    </a:lnTo>
                    <a:lnTo>
                      <a:pt x="239" y="4"/>
                    </a:lnTo>
                    <a:lnTo>
                      <a:pt x="205" y="0"/>
                    </a:lnTo>
                    <a:lnTo>
                      <a:pt x="175" y="4"/>
                    </a:lnTo>
                    <a:lnTo>
                      <a:pt x="141" y="9"/>
                    </a:lnTo>
                    <a:lnTo>
                      <a:pt x="141" y="9"/>
                    </a:lnTo>
                    <a:close/>
                    <a:moveTo>
                      <a:pt x="292" y="77"/>
                    </a:moveTo>
                    <a:lnTo>
                      <a:pt x="292" y="77"/>
                    </a:lnTo>
                    <a:lnTo>
                      <a:pt x="292" y="92"/>
                    </a:lnTo>
                    <a:lnTo>
                      <a:pt x="287" y="107"/>
                    </a:lnTo>
                    <a:lnTo>
                      <a:pt x="287" y="107"/>
                    </a:lnTo>
                    <a:lnTo>
                      <a:pt x="273" y="126"/>
                    </a:lnTo>
                    <a:lnTo>
                      <a:pt x="248" y="146"/>
                    </a:lnTo>
                    <a:lnTo>
                      <a:pt x="219" y="160"/>
                    </a:lnTo>
                    <a:lnTo>
                      <a:pt x="185" y="175"/>
                    </a:lnTo>
                    <a:lnTo>
                      <a:pt x="185" y="175"/>
                    </a:lnTo>
                    <a:lnTo>
                      <a:pt x="156" y="180"/>
                    </a:lnTo>
                    <a:lnTo>
                      <a:pt x="132" y="180"/>
                    </a:lnTo>
                    <a:lnTo>
                      <a:pt x="107" y="180"/>
                    </a:lnTo>
                    <a:lnTo>
                      <a:pt x="88" y="175"/>
                    </a:lnTo>
                    <a:lnTo>
                      <a:pt x="68" y="170"/>
                    </a:lnTo>
                    <a:lnTo>
                      <a:pt x="54" y="160"/>
                    </a:lnTo>
                    <a:lnTo>
                      <a:pt x="44" y="150"/>
                    </a:lnTo>
                    <a:lnTo>
                      <a:pt x="39" y="141"/>
                    </a:lnTo>
                    <a:lnTo>
                      <a:pt x="39" y="141"/>
                    </a:lnTo>
                    <a:lnTo>
                      <a:pt x="39" y="131"/>
                    </a:lnTo>
                    <a:lnTo>
                      <a:pt x="39" y="131"/>
                    </a:lnTo>
                    <a:lnTo>
                      <a:pt x="39" y="121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63" y="92"/>
                    </a:lnTo>
                    <a:lnTo>
                      <a:pt x="88" y="73"/>
                    </a:lnTo>
                    <a:lnTo>
                      <a:pt x="117" y="58"/>
                    </a:lnTo>
                    <a:lnTo>
                      <a:pt x="151" y="48"/>
                    </a:lnTo>
                    <a:lnTo>
                      <a:pt x="151" y="48"/>
                    </a:lnTo>
                    <a:lnTo>
                      <a:pt x="175" y="43"/>
                    </a:lnTo>
                    <a:lnTo>
                      <a:pt x="205" y="39"/>
                    </a:lnTo>
                    <a:lnTo>
                      <a:pt x="224" y="39"/>
                    </a:lnTo>
                    <a:lnTo>
                      <a:pt x="248" y="43"/>
                    </a:lnTo>
                    <a:lnTo>
                      <a:pt x="263" y="48"/>
                    </a:lnTo>
                    <a:lnTo>
                      <a:pt x="278" y="58"/>
                    </a:lnTo>
                    <a:lnTo>
                      <a:pt x="287" y="68"/>
                    </a:lnTo>
                    <a:lnTo>
                      <a:pt x="292" y="77"/>
                    </a:lnTo>
                    <a:lnTo>
                      <a:pt x="292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 rot="11716200">
                <a:off x="3526560" y="2221560"/>
                <a:ext cx="217080" cy="177840"/>
              </a:xfrm>
              <a:custGeom>
                <a:avLst/>
                <a:gdLst/>
                <a:ahLst/>
                <a:rect l="l" t="t" r="r" b="b"/>
                <a:pathLst>
                  <a:path w="296" h="180">
                    <a:moveTo>
                      <a:pt x="126" y="10"/>
                    </a:moveTo>
                    <a:lnTo>
                      <a:pt x="126" y="10"/>
                    </a:lnTo>
                    <a:lnTo>
                      <a:pt x="155" y="5"/>
                    </a:lnTo>
                    <a:lnTo>
                      <a:pt x="185" y="0"/>
                    </a:lnTo>
                    <a:lnTo>
                      <a:pt x="209" y="0"/>
                    </a:lnTo>
                    <a:lnTo>
                      <a:pt x="233" y="5"/>
                    </a:lnTo>
                    <a:lnTo>
                      <a:pt x="258" y="15"/>
                    </a:lnTo>
                    <a:lnTo>
                      <a:pt x="272" y="24"/>
                    </a:lnTo>
                    <a:lnTo>
                      <a:pt x="287" y="39"/>
                    </a:lnTo>
                    <a:lnTo>
                      <a:pt x="292" y="54"/>
                    </a:lnTo>
                    <a:lnTo>
                      <a:pt x="292" y="54"/>
                    </a:lnTo>
                    <a:lnTo>
                      <a:pt x="296" y="73"/>
                    </a:lnTo>
                    <a:lnTo>
                      <a:pt x="292" y="88"/>
                    </a:lnTo>
                    <a:lnTo>
                      <a:pt x="282" y="107"/>
                    </a:lnTo>
                    <a:lnTo>
                      <a:pt x="267" y="122"/>
                    </a:lnTo>
                    <a:lnTo>
                      <a:pt x="248" y="136"/>
                    </a:lnTo>
                    <a:lnTo>
                      <a:pt x="223" y="151"/>
                    </a:lnTo>
                    <a:lnTo>
                      <a:pt x="199" y="166"/>
                    </a:lnTo>
                    <a:lnTo>
                      <a:pt x="170" y="170"/>
                    </a:lnTo>
                    <a:lnTo>
                      <a:pt x="170" y="170"/>
                    </a:lnTo>
                    <a:lnTo>
                      <a:pt x="141" y="180"/>
                    </a:lnTo>
                    <a:lnTo>
                      <a:pt x="112" y="180"/>
                    </a:lnTo>
                    <a:lnTo>
                      <a:pt x="82" y="180"/>
                    </a:lnTo>
                    <a:lnTo>
                      <a:pt x="58" y="175"/>
                    </a:lnTo>
                    <a:lnTo>
                      <a:pt x="39" y="166"/>
                    </a:lnTo>
                    <a:lnTo>
                      <a:pt x="19" y="156"/>
                    </a:lnTo>
                    <a:lnTo>
                      <a:pt x="9" y="141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2"/>
                    </a:lnTo>
                    <a:lnTo>
                      <a:pt x="5" y="93"/>
                    </a:lnTo>
                    <a:lnTo>
                      <a:pt x="14" y="73"/>
                    </a:lnTo>
                    <a:lnTo>
                      <a:pt x="29" y="58"/>
                    </a:lnTo>
                    <a:lnTo>
                      <a:pt x="48" y="44"/>
                    </a:lnTo>
                    <a:lnTo>
                      <a:pt x="68" y="29"/>
                    </a:lnTo>
                    <a:lnTo>
                      <a:pt x="97" y="20"/>
                    </a:lnTo>
                    <a:lnTo>
                      <a:pt x="126" y="10"/>
                    </a:lnTo>
                    <a:lnTo>
                      <a:pt x="126" y="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 rot="11716200">
                <a:off x="3148560" y="223776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 rot="11716200">
                <a:off x="3134520" y="2219760"/>
                <a:ext cx="524160" cy="870120"/>
              </a:xfrm>
              <a:custGeom>
                <a:avLst/>
                <a:gdLst/>
                <a:ahLst/>
                <a:rect l="l" t="t" r="r" b="b"/>
                <a:pathLst>
                  <a:path w="715" h="880">
                    <a:moveTo>
                      <a:pt x="413" y="112"/>
                    </a:moveTo>
                    <a:lnTo>
                      <a:pt x="413" y="112"/>
                    </a:lnTo>
                    <a:lnTo>
                      <a:pt x="394" y="160"/>
                    </a:lnTo>
                    <a:lnTo>
                      <a:pt x="389" y="194"/>
                    </a:lnTo>
                    <a:lnTo>
                      <a:pt x="389" y="224"/>
                    </a:lnTo>
                    <a:lnTo>
                      <a:pt x="399" y="248"/>
                    </a:lnTo>
                    <a:lnTo>
                      <a:pt x="399" y="262"/>
                    </a:lnTo>
                    <a:lnTo>
                      <a:pt x="399" y="262"/>
                    </a:lnTo>
                    <a:lnTo>
                      <a:pt x="399" y="277"/>
                    </a:lnTo>
                    <a:lnTo>
                      <a:pt x="399" y="277"/>
                    </a:lnTo>
                    <a:lnTo>
                      <a:pt x="389" y="282"/>
                    </a:lnTo>
                    <a:lnTo>
                      <a:pt x="379" y="282"/>
                    </a:lnTo>
                    <a:lnTo>
                      <a:pt x="360" y="282"/>
                    </a:lnTo>
                    <a:lnTo>
                      <a:pt x="345" y="282"/>
                    </a:lnTo>
                    <a:lnTo>
                      <a:pt x="345" y="282"/>
                    </a:lnTo>
                    <a:lnTo>
                      <a:pt x="306" y="277"/>
                    </a:lnTo>
                    <a:lnTo>
                      <a:pt x="277" y="277"/>
                    </a:lnTo>
                    <a:lnTo>
                      <a:pt x="228" y="282"/>
                    </a:lnTo>
                    <a:lnTo>
                      <a:pt x="228" y="282"/>
                    </a:lnTo>
                    <a:lnTo>
                      <a:pt x="155" y="292"/>
                    </a:lnTo>
                    <a:lnTo>
                      <a:pt x="121" y="301"/>
                    </a:lnTo>
                    <a:lnTo>
                      <a:pt x="87" y="311"/>
                    </a:lnTo>
                    <a:lnTo>
                      <a:pt x="87" y="311"/>
                    </a:lnTo>
                    <a:lnTo>
                      <a:pt x="68" y="321"/>
                    </a:lnTo>
                    <a:lnTo>
                      <a:pt x="39" y="340"/>
                    </a:lnTo>
                    <a:lnTo>
                      <a:pt x="19" y="360"/>
                    </a:lnTo>
                    <a:lnTo>
                      <a:pt x="14" y="374"/>
                    </a:lnTo>
                    <a:lnTo>
                      <a:pt x="9" y="389"/>
                    </a:lnTo>
                    <a:lnTo>
                      <a:pt x="9" y="389"/>
                    </a:lnTo>
                    <a:lnTo>
                      <a:pt x="14" y="408"/>
                    </a:lnTo>
                    <a:lnTo>
                      <a:pt x="14" y="408"/>
                    </a:lnTo>
                    <a:lnTo>
                      <a:pt x="24" y="428"/>
                    </a:lnTo>
                    <a:lnTo>
                      <a:pt x="29" y="438"/>
                    </a:lnTo>
                    <a:lnTo>
                      <a:pt x="29" y="438"/>
                    </a:lnTo>
                    <a:lnTo>
                      <a:pt x="9" y="472"/>
                    </a:lnTo>
                    <a:lnTo>
                      <a:pt x="5" y="491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5" y="535"/>
                    </a:lnTo>
                    <a:lnTo>
                      <a:pt x="9" y="554"/>
                    </a:lnTo>
                    <a:lnTo>
                      <a:pt x="19" y="569"/>
                    </a:lnTo>
                    <a:lnTo>
                      <a:pt x="34" y="579"/>
                    </a:lnTo>
                    <a:lnTo>
                      <a:pt x="34" y="579"/>
                    </a:lnTo>
                    <a:lnTo>
                      <a:pt x="19" y="59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4" y="618"/>
                    </a:lnTo>
                    <a:lnTo>
                      <a:pt x="19" y="642"/>
                    </a:lnTo>
                    <a:lnTo>
                      <a:pt x="29" y="671"/>
                    </a:lnTo>
                    <a:lnTo>
                      <a:pt x="44" y="691"/>
                    </a:lnTo>
                    <a:lnTo>
                      <a:pt x="53" y="700"/>
                    </a:lnTo>
                    <a:lnTo>
                      <a:pt x="63" y="705"/>
                    </a:lnTo>
                    <a:lnTo>
                      <a:pt x="63" y="705"/>
                    </a:lnTo>
                    <a:lnTo>
                      <a:pt x="68" y="705"/>
                    </a:lnTo>
                    <a:lnTo>
                      <a:pt x="68" y="705"/>
                    </a:lnTo>
                    <a:lnTo>
                      <a:pt x="68" y="710"/>
                    </a:lnTo>
                    <a:lnTo>
                      <a:pt x="68" y="710"/>
                    </a:lnTo>
                    <a:lnTo>
                      <a:pt x="68" y="725"/>
                    </a:lnTo>
                    <a:lnTo>
                      <a:pt x="78" y="739"/>
                    </a:lnTo>
                    <a:lnTo>
                      <a:pt x="87" y="759"/>
                    </a:lnTo>
                    <a:lnTo>
                      <a:pt x="102" y="778"/>
                    </a:lnTo>
                    <a:lnTo>
                      <a:pt x="102" y="778"/>
                    </a:lnTo>
                    <a:lnTo>
                      <a:pt x="126" y="793"/>
                    </a:lnTo>
                    <a:lnTo>
                      <a:pt x="146" y="807"/>
                    </a:lnTo>
                    <a:lnTo>
                      <a:pt x="204" y="827"/>
                    </a:lnTo>
                    <a:lnTo>
                      <a:pt x="258" y="837"/>
                    </a:lnTo>
                    <a:lnTo>
                      <a:pt x="306" y="846"/>
                    </a:lnTo>
                    <a:lnTo>
                      <a:pt x="306" y="846"/>
                    </a:lnTo>
                    <a:lnTo>
                      <a:pt x="394" y="856"/>
                    </a:lnTo>
                    <a:lnTo>
                      <a:pt x="394" y="856"/>
                    </a:lnTo>
                    <a:lnTo>
                      <a:pt x="428" y="866"/>
                    </a:lnTo>
                    <a:lnTo>
                      <a:pt x="428" y="866"/>
                    </a:lnTo>
                    <a:lnTo>
                      <a:pt x="462" y="876"/>
                    </a:lnTo>
                    <a:lnTo>
                      <a:pt x="462" y="876"/>
                    </a:lnTo>
                    <a:lnTo>
                      <a:pt x="491" y="880"/>
                    </a:lnTo>
                    <a:lnTo>
                      <a:pt x="520" y="876"/>
                    </a:lnTo>
                    <a:lnTo>
                      <a:pt x="584" y="866"/>
                    </a:lnTo>
                    <a:lnTo>
                      <a:pt x="603" y="861"/>
                    </a:lnTo>
                    <a:lnTo>
                      <a:pt x="603" y="861"/>
                    </a:lnTo>
                    <a:lnTo>
                      <a:pt x="622" y="851"/>
                    </a:lnTo>
                    <a:lnTo>
                      <a:pt x="642" y="842"/>
                    </a:lnTo>
                    <a:lnTo>
                      <a:pt x="657" y="827"/>
                    </a:lnTo>
                    <a:lnTo>
                      <a:pt x="666" y="812"/>
                    </a:lnTo>
                    <a:lnTo>
                      <a:pt x="681" y="778"/>
                    </a:lnTo>
                    <a:lnTo>
                      <a:pt x="686" y="744"/>
                    </a:lnTo>
                    <a:lnTo>
                      <a:pt x="686" y="744"/>
                    </a:lnTo>
                    <a:lnTo>
                      <a:pt x="705" y="652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15" y="589"/>
                    </a:lnTo>
                    <a:lnTo>
                      <a:pt x="700" y="506"/>
                    </a:lnTo>
                    <a:lnTo>
                      <a:pt x="691" y="477"/>
                    </a:lnTo>
                    <a:lnTo>
                      <a:pt x="681" y="443"/>
                    </a:lnTo>
                    <a:lnTo>
                      <a:pt x="652" y="384"/>
                    </a:lnTo>
                    <a:lnTo>
                      <a:pt x="608" y="321"/>
                    </a:lnTo>
                    <a:lnTo>
                      <a:pt x="608" y="321"/>
                    </a:lnTo>
                    <a:lnTo>
                      <a:pt x="598" y="301"/>
                    </a:lnTo>
                    <a:lnTo>
                      <a:pt x="588" y="277"/>
                    </a:lnTo>
                    <a:lnTo>
                      <a:pt x="584" y="258"/>
                    </a:lnTo>
                    <a:lnTo>
                      <a:pt x="584" y="233"/>
                    </a:lnTo>
                    <a:lnTo>
                      <a:pt x="584" y="233"/>
                    </a:lnTo>
                    <a:lnTo>
                      <a:pt x="588" y="185"/>
                    </a:lnTo>
                    <a:lnTo>
                      <a:pt x="603" y="131"/>
                    </a:lnTo>
                    <a:lnTo>
                      <a:pt x="603" y="131"/>
                    </a:lnTo>
                    <a:lnTo>
                      <a:pt x="618" y="92"/>
                    </a:lnTo>
                    <a:lnTo>
                      <a:pt x="622" y="58"/>
                    </a:lnTo>
                    <a:lnTo>
                      <a:pt x="622" y="58"/>
                    </a:lnTo>
                    <a:lnTo>
                      <a:pt x="618" y="34"/>
                    </a:lnTo>
                    <a:lnTo>
                      <a:pt x="618" y="34"/>
                    </a:lnTo>
                    <a:lnTo>
                      <a:pt x="608" y="19"/>
                    </a:lnTo>
                    <a:lnTo>
                      <a:pt x="598" y="14"/>
                    </a:lnTo>
                    <a:lnTo>
                      <a:pt x="579" y="5"/>
                    </a:lnTo>
                    <a:lnTo>
                      <a:pt x="579" y="5"/>
                    </a:lnTo>
                    <a:lnTo>
                      <a:pt x="559" y="0"/>
                    </a:lnTo>
                    <a:lnTo>
                      <a:pt x="540" y="0"/>
                    </a:lnTo>
                    <a:lnTo>
                      <a:pt x="520" y="9"/>
                    </a:lnTo>
                    <a:lnTo>
                      <a:pt x="496" y="19"/>
                    </a:lnTo>
                    <a:lnTo>
                      <a:pt x="472" y="39"/>
                    </a:lnTo>
                    <a:lnTo>
                      <a:pt x="452" y="58"/>
                    </a:lnTo>
                    <a:lnTo>
                      <a:pt x="433" y="82"/>
                    </a:lnTo>
                    <a:lnTo>
                      <a:pt x="413" y="112"/>
                    </a:lnTo>
                    <a:lnTo>
                      <a:pt x="413" y="112"/>
                    </a:lnTo>
                    <a:close/>
                    <a:moveTo>
                      <a:pt x="428" y="306"/>
                    </a:moveTo>
                    <a:lnTo>
                      <a:pt x="428" y="306"/>
                    </a:lnTo>
                    <a:lnTo>
                      <a:pt x="438" y="287"/>
                    </a:lnTo>
                    <a:lnTo>
                      <a:pt x="438" y="262"/>
                    </a:lnTo>
                    <a:lnTo>
                      <a:pt x="433" y="238"/>
                    </a:lnTo>
                    <a:lnTo>
                      <a:pt x="433" y="238"/>
                    </a:lnTo>
                    <a:lnTo>
                      <a:pt x="428" y="219"/>
                    </a:lnTo>
                    <a:lnTo>
                      <a:pt x="428" y="194"/>
                    </a:lnTo>
                    <a:lnTo>
                      <a:pt x="433" y="165"/>
                    </a:lnTo>
                    <a:lnTo>
                      <a:pt x="447" y="131"/>
                    </a:lnTo>
                    <a:lnTo>
                      <a:pt x="447" y="131"/>
                    </a:lnTo>
                    <a:lnTo>
                      <a:pt x="462" y="107"/>
                    </a:lnTo>
                    <a:lnTo>
                      <a:pt x="481" y="87"/>
                    </a:lnTo>
                    <a:lnTo>
                      <a:pt x="496" y="68"/>
                    </a:lnTo>
                    <a:lnTo>
                      <a:pt x="515" y="53"/>
                    </a:lnTo>
                    <a:lnTo>
                      <a:pt x="545" y="39"/>
                    </a:lnTo>
                    <a:lnTo>
                      <a:pt x="554" y="39"/>
                    </a:lnTo>
                    <a:lnTo>
                      <a:pt x="564" y="39"/>
                    </a:lnTo>
                    <a:lnTo>
                      <a:pt x="564" y="39"/>
                    </a:lnTo>
                    <a:lnTo>
                      <a:pt x="579" y="44"/>
                    </a:lnTo>
                    <a:lnTo>
                      <a:pt x="584" y="48"/>
                    </a:lnTo>
                    <a:lnTo>
                      <a:pt x="584" y="48"/>
                    </a:lnTo>
                    <a:lnTo>
                      <a:pt x="584" y="58"/>
                    </a:lnTo>
                    <a:lnTo>
                      <a:pt x="584" y="58"/>
                    </a:lnTo>
                    <a:lnTo>
                      <a:pt x="579" y="82"/>
                    </a:lnTo>
                    <a:lnTo>
                      <a:pt x="569" y="117"/>
                    </a:lnTo>
                    <a:lnTo>
                      <a:pt x="569" y="117"/>
                    </a:lnTo>
                    <a:lnTo>
                      <a:pt x="550" y="175"/>
                    </a:lnTo>
                    <a:lnTo>
                      <a:pt x="545" y="233"/>
                    </a:lnTo>
                    <a:lnTo>
                      <a:pt x="545" y="233"/>
                    </a:lnTo>
                    <a:lnTo>
                      <a:pt x="545" y="262"/>
                    </a:lnTo>
                    <a:lnTo>
                      <a:pt x="550" y="292"/>
                    </a:lnTo>
                    <a:lnTo>
                      <a:pt x="559" y="316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574" y="340"/>
                    </a:lnTo>
                    <a:lnTo>
                      <a:pt x="618" y="404"/>
                    </a:lnTo>
                    <a:lnTo>
                      <a:pt x="647" y="457"/>
                    </a:lnTo>
                    <a:lnTo>
                      <a:pt x="661" y="516"/>
                    </a:lnTo>
                    <a:lnTo>
                      <a:pt x="671" y="589"/>
                    </a:lnTo>
                    <a:lnTo>
                      <a:pt x="671" y="589"/>
                    </a:lnTo>
                    <a:lnTo>
                      <a:pt x="666" y="652"/>
                    </a:lnTo>
                    <a:lnTo>
                      <a:pt x="652" y="739"/>
                    </a:lnTo>
                    <a:lnTo>
                      <a:pt x="652" y="739"/>
                    </a:lnTo>
                    <a:lnTo>
                      <a:pt x="642" y="769"/>
                    </a:lnTo>
                    <a:lnTo>
                      <a:pt x="632" y="793"/>
                    </a:lnTo>
                    <a:lnTo>
                      <a:pt x="618" y="812"/>
                    </a:lnTo>
                    <a:lnTo>
                      <a:pt x="593" y="822"/>
                    </a:lnTo>
                    <a:lnTo>
                      <a:pt x="574" y="827"/>
                    </a:lnTo>
                    <a:lnTo>
                      <a:pt x="574" y="827"/>
                    </a:lnTo>
                    <a:lnTo>
                      <a:pt x="515" y="837"/>
                    </a:lnTo>
                    <a:lnTo>
                      <a:pt x="491" y="842"/>
                    </a:lnTo>
                    <a:lnTo>
                      <a:pt x="467" y="837"/>
                    </a:lnTo>
                    <a:lnTo>
                      <a:pt x="467" y="837"/>
                    </a:lnTo>
                    <a:lnTo>
                      <a:pt x="442" y="832"/>
                    </a:lnTo>
                    <a:lnTo>
                      <a:pt x="442" y="832"/>
                    </a:lnTo>
                    <a:lnTo>
                      <a:pt x="418" y="822"/>
                    </a:lnTo>
                    <a:lnTo>
                      <a:pt x="399" y="817"/>
                    </a:lnTo>
                    <a:lnTo>
                      <a:pt x="399" y="817"/>
                    </a:lnTo>
                    <a:lnTo>
                      <a:pt x="311" y="807"/>
                    </a:lnTo>
                    <a:lnTo>
                      <a:pt x="311" y="807"/>
                    </a:lnTo>
                    <a:lnTo>
                      <a:pt x="272" y="803"/>
                    </a:lnTo>
                    <a:lnTo>
                      <a:pt x="219" y="793"/>
                    </a:lnTo>
                    <a:lnTo>
                      <a:pt x="170" y="773"/>
                    </a:lnTo>
                    <a:lnTo>
                      <a:pt x="151" y="764"/>
                    </a:lnTo>
                    <a:lnTo>
                      <a:pt x="131" y="749"/>
                    </a:lnTo>
                    <a:lnTo>
                      <a:pt x="131" y="749"/>
                    </a:lnTo>
                    <a:lnTo>
                      <a:pt x="116" y="739"/>
                    </a:lnTo>
                    <a:lnTo>
                      <a:pt x="112" y="725"/>
                    </a:lnTo>
                    <a:lnTo>
                      <a:pt x="107" y="710"/>
                    </a:lnTo>
                    <a:lnTo>
                      <a:pt x="107" y="710"/>
                    </a:lnTo>
                    <a:lnTo>
                      <a:pt x="107" y="700"/>
                    </a:lnTo>
                    <a:lnTo>
                      <a:pt x="121" y="681"/>
                    </a:lnTo>
                    <a:lnTo>
                      <a:pt x="97" y="676"/>
                    </a:lnTo>
                    <a:lnTo>
                      <a:pt x="97" y="676"/>
                    </a:lnTo>
                    <a:lnTo>
                      <a:pt x="73" y="666"/>
                    </a:lnTo>
                    <a:lnTo>
                      <a:pt x="73" y="666"/>
                    </a:lnTo>
                    <a:lnTo>
                      <a:pt x="63" y="647"/>
                    </a:lnTo>
                    <a:lnTo>
                      <a:pt x="58" y="632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3" y="618"/>
                    </a:lnTo>
                    <a:lnTo>
                      <a:pt x="58" y="613"/>
                    </a:lnTo>
                    <a:lnTo>
                      <a:pt x="63" y="603"/>
                    </a:lnTo>
                    <a:lnTo>
                      <a:pt x="78" y="593"/>
                    </a:lnTo>
                    <a:lnTo>
                      <a:pt x="82" y="584"/>
                    </a:lnTo>
                    <a:lnTo>
                      <a:pt x="82" y="574"/>
                    </a:lnTo>
                    <a:lnTo>
                      <a:pt x="82" y="574"/>
                    </a:lnTo>
                    <a:lnTo>
                      <a:pt x="82" y="564"/>
                    </a:lnTo>
                    <a:lnTo>
                      <a:pt x="78" y="559"/>
                    </a:lnTo>
                    <a:lnTo>
                      <a:pt x="68" y="554"/>
                    </a:lnTo>
                    <a:lnTo>
                      <a:pt x="58" y="550"/>
                    </a:lnTo>
                    <a:lnTo>
                      <a:pt x="58" y="550"/>
                    </a:lnTo>
                    <a:lnTo>
                      <a:pt x="48" y="540"/>
                    </a:lnTo>
                    <a:lnTo>
                      <a:pt x="44" y="530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39" y="516"/>
                    </a:lnTo>
                    <a:lnTo>
                      <a:pt x="44" y="501"/>
                    </a:lnTo>
                    <a:lnTo>
                      <a:pt x="53" y="481"/>
                    </a:lnTo>
                    <a:lnTo>
                      <a:pt x="73" y="447"/>
                    </a:lnTo>
                    <a:lnTo>
                      <a:pt x="82" y="433"/>
                    </a:lnTo>
                    <a:lnTo>
                      <a:pt x="68" y="423"/>
                    </a:lnTo>
                    <a:lnTo>
                      <a:pt x="68" y="423"/>
                    </a:lnTo>
                    <a:lnTo>
                      <a:pt x="63" y="413"/>
                    </a:lnTo>
                    <a:lnTo>
                      <a:pt x="48" y="394"/>
                    </a:lnTo>
                    <a:lnTo>
                      <a:pt x="48" y="394"/>
                    </a:lnTo>
                    <a:lnTo>
                      <a:pt x="48" y="389"/>
                    </a:lnTo>
                    <a:lnTo>
                      <a:pt x="48" y="389"/>
                    </a:lnTo>
                    <a:lnTo>
                      <a:pt x="53" y="384"/>
                    </a:lnTo>
                    <a:lnTo>
                      <a:pt x="58" y="374"/>
                    </a:lnTo>
                    <a:lnTo>
                      <a:pt x="78" y="360"/>
                    </a:lnTo>
                    <a:lnTo>
                      <a:pt x="102" y="345"/>
                    </a:lnTo>
                    <a:lnTo>
                      <a:pt x="102" y="345"/>
                    </a:lnTo>
                    <a:lnTo>
                      <a:pt x="131" y="335"/>
                    </a:lnTo>
                    <a:lnTo>
                      <a:pt x="165" y="331"/>
                    </a:lnTo>
                    <a:lnTo>
                      <a:pt x="228" y="321"/>
                    </a:lnTo>
                    <a:lnTo>
                      <a:pt x="282" y="316"/>
                    </a:lnTo>
                    <a:lnTo>
                      <a:pt x="282" y="316"/>
                    </a:lnTo>
                    <a:lnTo>
                      <a:pt x="306" y="316"/>
                    </a:lnTo>
                    <a:lnTo>
                      <a:pt x="345" y="321"/>
                    </a:lnTo>
                    <a:lnTo>
                      <a:pt x="355" y="321"/>
                    </a:lnTo>
                    <a:lnTo>
                      <a:pt x="355" y="321"/>
                    </a:lnTo>
                    <a:lnTo>
                      <a:pt x="389" y="321"/>
                    </a:lnTo>
                    <a:lnTo>
                      <a:pt x="408" y="316"/>
                    </a:lnTo>
                    <a:lnTo>
                      <a:pt x="428" y="306"/>
                    </a:lnTo>
                    <a:lnTo>
                      <a:pt x="428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rot="11716200">
                <a:off x="3148560" y="2237760"/>
                <a:ext cx="495720" cy="833400"/>
              </a:xfrm>
              <a:custGeom>
                <a:avLst/>
                <a:gdLst/>
                <a:ahLst/>
                <a:rect l="l" t="t" r="r" b="b"/>
                <a:pathLst>
                  <a:path w="676" h="842">
                    <a:moveTo>
                      <a:pt x="676" y="570"/>
                    </a:moveTo>
                    <a:lnTo>
                      <a:pt x="676" y="570"/>
                    </a:lnTo>
                    <a:lnTo>
                      <a:pt x="662" y="492"/>
                    </a:lnTo>
                    <a:lnTo>
                      <a:pt x="652" y="458"/>
                    </a:lnTo>
                    <a:lnTo>
                      <a:pt x="642" y="428"/>
                    </a:lnTo>
                    <a:lnTo>
                      <a:pt x="613" y="375"/>
                    </a:lnTo>
                    <a:lnTo>
                      <a:pt x="569" y="312"/>
                    </a:lnTo>
                    <a:lnTo>
                      <a:pt x="569" y="312"/>
                    </a:lnTo>
                    <a:lnTo>
                      <a:pt x="560" y="292"/>
                    </a:lnTo>
                    <a:lnTo>
                      <a:pt x="550" y="268"/>
                    </a:lnTo>
                    <a:lnTo>
                      <a:pt x="545" y="243"/>
                    </a:lnTo>
                    <a:lnTo>
                      <a:pt x="545" y="214"/>
                    </a:lnTo>
                    <a:lnTo>
                      <a:pt x="550" y="161"/>
                    </a:lnTo>
                    <a:lnTo>
                      <a:pt x="565" y="107"/>
                    </a:lnTo>
                    <a:lnTo>
                      <a:pt x="565" y="107"/>
                    </a:lnTo>
                    <a:lnTo>
                      <a:pt x="579" y="59"/>
                    </a:lnTo>
                    <a:lnTo>
                      <a:pt x="584" y="44"/>
                    </a:lnTo>
                    <a:lnTo>
                      <a:pt x="584" y="29"/>
                    </a:lnTo>
                    <a:lnTo>
                      <a:pt x="579" y="20"/>
                    </a:lnTo>
                    <a:lnTo>
                      <a:pt x="574" y="15"/>
                    </a:lnTo>
                    <a:lnTo>
                      <a:pt x="555" y="0"/>
                    </a:lnTo>
                    <a:lnTo>
                      <a:pt x="555" y="0"/>
                    </a:lnTo>
                    <a:lnTo>
                      <a:pt x="540" y="0"/>
                    </a:lnTo>
                    <a:lnTo>
                      <a:pt x="526" y="0"/>
                    </a:lnTo>
                    <a:lnTo>
                      <a:pt x="506" y="10"/>
                    </a:lnTo>
                    <a:lnTo>
                      <a:pt x="487" y="20"/>
                    </a:lnTo>
                    <a:lnTo>
                      <a:pt x="467" y="34"/>
                    </a:lnTo>
                    <a:lnTo>
                      <a:pt x="448" y="54"/>
                    </a:lnTo>
                    <a:lnTo>
                      <a:pt x="428" y="73"/>
                    </a:lnTo>
                    <a:lnTo>
                      <a:pt x="409" y="102"/>
                    </a:lnTo>
                    <a:lnTo>
                      <a:pt x="409" y="102"/>
                    </a:lnTo>
                    <a:lnTo>
                      <a:pt x="399" y="132"/>
                    </a:lnTo>
                    <a:lnTo>
                      <a:pt x="389" y="156"/>
                    </a:lnTo>
                    <a:lnTo>
                      <a:pt x="389" y="175"/>
                    </a:lnTo>
                    <a:lnTo>
                      <a:pt x="389" y="195"/>
                    </a:lnTo>
                    <a:lnTo>
                      <a:pt x="394" y="219"/>
                    </a:lnTo>
                    <a:lnTo>
                      <a:pt x="399" y="243"/>
                    </a:lnTo>
                    <a:lnTo>
                      <a:pt x="399" y="243"/>
                    </a:lnTo>
                    <a:lnTo>
                      <a:pt x="399" y="258"/>
                    </a:lnTo>
                    <a:lnTo>
                      <a:pt x="399" y="268"/>
                    </a:lnTo>
                    <a:lnTo>
                      <a:pt x="389" y="278"/>
                    </a:lnTo>
                    <a:lnTo>
                      <a:pt x="385" y="282"/>
                    </a:lnTo>
                    <a:lnTo>
                      <a:pt x="360" y="282"/>
                    </a:lnTo>
                    <a:lnTo>
                      <a:pt x="336" y="282"/>
                    </a:lnTo>
                    <a:lnTo>
                      <a:pt x="336" y="282"/>
                    </a:lnTo>
                    <a:lnTo>
                      <a:pt x="292" y="278"/>
                    </a:lnTo>
                    <a:lnTo>
                      <a:pt x="258" y="278"/>
                    </a:lnTo>
                    <a:lnTo>
                      <a:pt x="258" y="278"/>
                    </a:lnTo>
                    <a:lnTo>
                      <a:pt x="161" y="287"/>
                    </a:lnTo>
                    <a:lnTo>
                      <a:pt x="117" y="297"/>
                    </a:lnTo>
                    <a:lnTo>
                      <a:pt x="78" y="312"/>
                    </a:lnTo>
                    <a:lnTo>
                      <a:pt x="78" y="312"/>
                    </a:lnTo>
                    <a:lnTo>
                      <a:pt x="44" y="326"/>
                    </a:lnTo>
                    <a:lnTo>
                      <a:pt x="20" y="346"/>
                    </a:lnTo>
                    <a:lnTo>
                      <a:pt x="10" y="360"/>
                    </a:lnTo>
                    <a:lnTo>
                      <a:pt x="15" y="380"/>
                    </a:lnTo>
                    <a:lnTo>
                      <a:pt x="15" y="380"/>
                    </a:lnTo>
                    <a:lnTo>
                      <a:pt x="20" y="399"/>
                    </a:lnTo>
                    <a:lnTo>
                      <a:pt x="29" y="409"/>
                    </a:lnTo>
                    <a:lnTo>
                      <a:pt x="34" y="419"/>
                    </a:lnTo>
                    <a:lnTo>
                      <a:pt x="34" y="419"/>
                    </a:lnTo>
                    <a:lnTo>
                      <a:pt x="20" y="443"/>
                    </a:lnTo>
                    <a:lnTo>
                      <a:pt x="5" y="467"/>
                    </a:lnTo>
                    <a:lnTo>
                      <a:pt x="0" y="497"/>
                    </a:lnTo>
                    <a:lnTo>
                      <a:pt x="0" y="497"/>
                    </a:lnTo>
                    <a:lnTo>
                      <a:pt x="5" y="516"/>
                    </a:lnTo>
                    <a:lnTo>
                      <a:pt x="15" y="535"/>
                    </a:lnTo>
                    <a:lnTo>
                      <a:pt x="25" y="545"/>
                    </a:lnTo>
                    <a:lnTo>
                      <a:pt x="34" y="550"/>
                    </a:lnTo>
                    <a:lnTo>
                      <a:pt x="34" y="550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44" y="555"/>
                    </a:lnTo>
                    <a:lnTo>
                      <a:pt x="29" y="570"/>
                    </a:lnTo>
                    <a:lnTo>
                      <a:pt x="20" y="584"/>
                    </a:lnTo>
                    <a:lnTo>
                      <a:pt x="15" y="599"/>
                    </a:lnTo>
                    <a:lnTo>
                      <a:pt x="15" y="599"/>
                    </a:lnTo>
                    <a:lnTo>
                      <a:pt x="20" y="623"/>
                    </a:lnTo>
                    <a:lnTo>
                      <a:pt x="25" y="643"/>
                    </a:lnTo>
                    <a:lnTo>
                      <a:pt x="34" y="657"/>
                    </a:lnTo>
                    <a:lnTo>
                      <a:pt x="49" y="667"/>
                    </a:lnTo>
                    <a:lnTo>
                      <a:pt x="49" y="667"/>
                    </a:lnTo>
                    <a:lnTo>
                      <a:pt x="73" y="672"/>
                    </a:lnTo>
                    <a:lnTo>
                      <a:pt x="73" y="672"/>
                    </a:lnTo>
                    <a:lnTo>
                      <a:pt x="68" y="677"/>
                    </a:lnTo>
                    <a:lnTo>
                      <a:pt x="68" y="696"/>
                    </a:lnTo>
                    <a:lnTo>
                      <a:pt x="78" y="715"/>
                    </a:lnTo>
                    <a:lnTo>
                      <a:pt x="83" y="730"/>
                    </a:lnTo>
                    <a:lnTo>
                      <a:pt x="97" y="745"/>
                    </a:lnTo>
                    <a:lnTo>
                      <a:pt x="97" y="745"/>
                    </a:lnTo>
                    <a:lnTo>
                      <a:pt x="117" y="759"/>
                    </a:lnTo>
                    <a:lnTo>
                      <a:pt x="141" y="769"/>
                    </a:lnTo>
                    <a:lnTo>
                      <a:pt x="190" y="788"/>
                    </a:lnTo>
                    <a:lnTo>
                      <a:pt x="243" y="803"/>
                    </a:lnTo>
                    <a:lnTo>
                      <a:pt x="287" y="808"/>
                    </a:lnTo>
                    <a:lnTo>
                      <a:pt x="287" y="808"/>
                    </a:lnTo>
                    <a:lnTo>
                      <a:pt x="375" y="818"/>
                    </a:lnTo>
                    <a:lnTo>
                      <a:pt x="375" y="818"/>
                    </a:lnTo>
                    <a:lnTo>
                      <a:pt x="389" y="818"/>
                    </a:lnTo>
                    <a:lnTo>
                      <a:pt x="409" y="827"/>
                    </a:lnTo>
                    <a:lnTo>
                      <a:pt x="443" y="837"/>
                    </a:lnTo>
                    <a:lnTo>
                      <a:pt x="443" y="837"/>
                    </a:lnTo>
                    <a:lnTo>
                      <a:pt x="477" y="842"/>
                    </a:lnTo>
                    <a:lnTo>
                      <a:pt x="506" y="837"/>
                    </a:lnTo>
                    <a:lnTo>
                      <a:pt x="579" y="823"/>
                    </a:lnTo>
                    <a:lnTo>
                      <a:pt x="579" y="823"/>
                    </a:lnTo>
                    <a:lnTo>
                      <a:pt x="594" y="813"/>
                    </a:lnTo>
                    <a:lnTo>
                      <a:pt x="608" y="808"/>
                    </a:lnTo>
                    <a:lnTo>
                      <a:pt x="623" y="798"/>
                    </a:lnTo>
                    <a:lnTo>
                      <a:pt x="628" y="784"/>
                    </a:lnTo>
                    <a:lnTo>
                      <a:pt x="642" y="754"/>
                    </a:lnTo>
                    <a:lnTo>
                      <a:pt x="647" y="725"/>
                    </a:lnTo>
                    <a:lnTo>
                      <a:pt x="647" y="725"/>
                    </a:lnTo>
                    <a:lnTo>
                      <a:pt x="667" y="628"/>
                    </a:lnTo>
                    <a:lnTo>
                      <a:pt x="676" y="570"/>
                    </a:lnTo>
                    <a:lnTo>
                      <a:pt x="676" y="5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 rot="11716200">
                <a:off x="3148920" y="2576880"/>
                <a:ext cx="249840" cy="144360"/>
              </a:xfrm>
              <a:custGeom>
                <a:avLst/>
                <a:gdLst/>
                <a:ahLst/>
                <a:rect l="l" t="t" r="r" b="b"/>
                <a:pathLst>
                  <a:path w="341" h="146">
                    <a:moveTo>
                      <a:pt x="5" y="39"/>
                    </a:moveTo>
                    <a:lnTo>
                      <a:pt x="5" y="39"/>
                    </a:lnTo>
                    <a:lnTo>
                      <a:pt x="5" y="49"/>
                    </a:lnTo>
                    <a:lnTo>
                      <a:pt x="5" y="68"/>
                    </a:lnTo>
                    <a:lnTo>
                      <a:pt x="15" y="78"/>
                    </a:lnTo>
                    <a:lnTo>
                      <a:pt x="24" y="93"/>
                    </a:lnTo>
                    <a:lnTo>
                      <a:pt x="44" y="103"/>
                    </a:lnTo>
                    <a:lnTo>
                      <a:pt x="68" y="112"/>
                    </a:lnTo>
                    <a:lnTo>
                      <a:pt x="68" y="112"/>
                    </a:lnTo>
                    <a:lnTo>
                      <a:pt x="127" y="127"/>
                    </a:lnTo>
                    <a:lnTo>
                      <a:pt x="180" y="137"/>
                    </a:lnTo>
                    <a:lnTo>
                      <a:pt x="234" y="137"/>
                    </a:lnTo>
                    <a:lnTo>
                      <a:pt x="258" y="132"/>
                    </a:lnTo>
                    <a:lnTo>
                      <a:pt x="277" y="122"/>
                    </a:lnTo>
                    <a:lnTo>
                      <a:pt x="277" y="122"/>
                    </a:lnTo>
                    <a:lnTo>
                      <a:pt x="297" y="112"/>
                    </a:lnTo>
                    <a:lnTo>
                      <a:pt x="311" y="103"/>
                    </a:lnTo>
                    <a:lnTo>
                      <a:pt x="316" y="88"/>
                    </a:lnTo>
                    <a:lnTo>
                      <a:pt x="321" y="73"/>
                    </a:lnTo>
                    <a:lnTo>
                      <a:pt x="316" y="64"/>
                    </a:lnTo>
                    <a:lnTo>
                      <a:pt x="311" y="49"/>
                    </a:lnTo>
                    <a:lnTo>
                      <a:pt x="302" y="39"/>
                    </a:lnTo>
                    <a:lnTo>
                      <a:pt x="292" y="34"/>
                    </a:lnTo>
                    <a:lnTo>
                      <a:pt x="292" y="34"/>
                    </a:lnTo>
                    <a:lnTo>
                      <a:pt x="214" y="15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80" y="0"/>
                    </a:lnTo>
                    <a:lnTo>
                      <a:pt x="224" y="5"/>
                    </a:lnTo>
                    <a:lnTo>
                      <a:pt x="248" y="10"/>
                    </a:lnTo>
                    <a:lnTo>
                      <a:pt x="273" y="20"/>
                    </a:lnTo>
                    <a:lnTo>
                      <a:pt x="297" y="30"/>
                    </a:lnTo>
                    <a:lnTo>
                      <a:pt x="316" y="44"/>
                    </a:lnTo>
                    <a:lnTo>
                      <a:pt x="316" y="44"/>
                    </a:lnTo>
                    <a:lnTo>
                      <a:pt x="336" y="64"/>
                    </a:lnTo>
                    <a:lnTo>
                      <a:pt x="341" y="78"/>
                    </a:lnTo>
                    <a:lnTo>
                      <a:pt x="341" y="93"/>
                    </a:lnTo>
                    <a:lnTo>
                      <a:pt x="336" y="107"/>
                    </a:lnTo>
                    <a:lnTo>
                      <a:pt x="321" y="122"/>
                    </a:lnTo>
                    <a:lnTo>
                      <a:pt x="297" y="132"/>
                    </a:lnTo>
                    <a:lnTo>
                      <a:pt x="268" y="137"/>
                    </a:lnTo>
                    <a:lnTo>
                      <a:pt x="229" y="146"/>
                    </a:lnTo>
                    <a:lnTo>
                      <a:pt x="229" y="146"/>
                    </a:lnTo>
                    <a:lnTo>
                      <a:pt x="165" y="146"/>
                    </a:lnTo>
                    <a:lnTo>
                      <a:pt x="122" y="137"/>
                    </a:lnTo>
                    <a:lnTo>
                      <a:pt x="88" y="127"/>
                    </a:lnTo>
                    <a:lnTo>
                      <a:pt x="54" y="112"/>
                    </a:lnTo>
                    <a:lnTo>
                      <a:pt x="54" y="112"/>
                    </a:lnTo>
                    <a:lnTo>
                      <a:pt x="24" y="98"/>
                    </a:lnTo>
                    <a:lnTo>
                      <a:pt x="10" y="83"/>
                    </a:lnTo>
                    <a:lnTo>
                      <a:pt x="0" y="78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0" y="49"/>
                    </a:lnTo>
                    <a:lnTo>
                      <a:pt x="5" y="39"/>
                    </a:lnTo>
                    <a:lnTo>
                      <a:pt x="5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rot="11716200">
                <a:off x="3213000" y="2461320"/>
                <a:ext cx="235080" cy="125640"/>
              </a:xfrm>
              <a:custGeom>
                <a:avLst/>
                <a:gdLst/>
                <a:ahLst/>
                <a:rect l="l" t="t" r="r" b="b"/>
                <a:pathLst>
                  <a:path w="321" h="127">
                    <a:moveTo>
                      <a:pt x="0" y="83"/>
                    </a:moveTo>
                    <a:lnTo>
                      <a:pt x="0" y="83"/>
                    </a:lnTo>
                    <a:lnTo>
                      <a:pt x="24" y="88"/>
                    </a:lnTo>
                    <a:lnTo>
                      <a:pt x="88" y="103"/>
                    </a:lnTo>
                    <a:lnTo>
                      <a:pt x="170" y="117"/>
                    </a:lnTo>
                    <a:lnTo>
                      <a:pt x="209" y="117"/>
                    </a:lnTo>
                    <a:lnTo>
                      <a:pt x="238" y="112"/>
                    </a:lnTo>
                    <a:lnTo>
                      <a:pt x="238" y="112"/>
                    </a:lnTo>
                    <a:lnTo>
                      <a:pt x="268" y="103"/>
                    </a:lnTo>
                    <a:lnTo>
                      <a:pt x="287" y="93"/>
                    </a:lnTo>
                    <a:lnTo>
                      <a:pt x="297" y="78"/>
                    </a:lnTo>
                    <a:lnTo>
                      <a:pt x="306" y="64"/>
                    </a:lnTo>
                    <a:lnTo>
                      <a:pt x="306" y="54"/>
                    </a:lnTo>
                    <a:lnTo>
                      <a:pt x="306" y="39"/>
                    </a:lnTo>
                    <a:lnTo>
                      <a:pt x="297" y="30"/>
                    </a:lnTo>
                    <a:lnTo>
                      <a:pt x="287" y="20"/>
                    </a:lnTo>
                    <a:lnTo>
                      <a:pt x="287" y="2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68" y="5"/>
                    </a:lnTo>
                    <a:lnTo>
                      <a:pt x="292" y="20"/>
                    </a:lnTo>
                    <a:lnTo>
                      <a:pt x="306" y="30"/>
                    </a:lnTo>
                    <a:lnTo>
                      <a:pt x="316" y="39"/>
                    </a:lnTo>
                    <a:lnTo>
                      <a:pt x="321" y="54"/>
                    </a:lnTo>
                    <a:lnTo>
                      <a:pt x="321" y="68"/>
                    </a:lnTo>
                    <a:lnTo>
                      <a:pt x="321" y="68"/>
                    </a:lnTo>
                    <a:lnTo>
                      <a:pt x="302" y="93"/>
                    </a:lnTo>
                    <a:lnTo>
                      <a:pt x="282" y="107"/>
                    </a:lnTo>
                    <a:lnTo>
                      <a:pt x="253" y="122"/>
                    </a:lnTo>
                    <a:lnTo>
                      <a:pt x="209" y="127"/>
                    </a:lnTo>
                    <a:lnTo>
                      <a:pt x="209" y="127"/>
                    </a:lnTo>
                    <a:lnTo>
                      <a:pt x="195" y="127"/>
                    </a:lnTo>
                    <a:lnTo>
                      <a:pt x="165" y="127"/>
                    </a:lnTo>
                    <a:lnTo>
                      <a:pt x="97" y="117"/>
                    </a:lnTo>
                    <a:lnTo>
                      <a:pt x="29" y="98"/>
                    </a:lnTo>
                    <a:lnTo>
                      <a:pt x="10" y="88"/>
                    </a:lnTo>
                    <a:lnTo>
                      <a:pt x="0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 rot="11716200">
                <a:off x="3231720" y="2348280"/>
                <a:ext cx="246240" cy="130320"/>
              </a:xfrm>
              <a:custGeom>
                <a:avLst/>
                <a:gdLst/>
                <a:ahLst/>
                <a:rect l="l" t="t" r="r" b="b"/>
                <a:pathLst>
                  <a:path w="336" h="132">
                    <a:moveTo>
                      <a:pt x="312" y="0"/>
                    </a:moveTo>
                    <a:lnTo>
                      <a:pt x="312" y="0"/>
                    </a:lnTo>
                    <a:lnTo>
                      <a:pt x="317" y="5"/>
                    </a:lnTo>
                    <a:lnTo>
                      <a:pt x="326" y="20"/>
                    </a:lnTo>
                    <a:lnTo>
                      <a:pt x="326" y="29"/>
                    </a:lnTo>
                    <a:lnTo>
                      <a:pt x="321" y="39"/>
                    </a:lnTo>
                    <a:lnTo>
                      <a:pt x="317" y="54"/>
                    </a:lnTo>
                    <a:lnTo>
                      <a:pt x="307" y="68"/>
                    </a:lnTo>
                    <a:lnTo>
                      <a:pt x="307" y="68"/>
                    </a:lnTo>
                    <a:lnTo>
                      <a:pt x="273" y="88"/>
                    </a:lnTo>
                    <a:lnTo>
                      <a:pt x="239" y="98"/>
                    </a:lnTo>
                    <a:lnTo>
                      <a:pt x="210" y="107"/>
                    </a:lnTo>
                    <a:lnTo>
                      <a:pt x="180" y="112"/>
                    </a:lnTo>
                    <a:lnTo>
                      <a:pt x="127" y="117"/>
                    </a:lnTo>
                    <a:lnTo>
                      <a:pt x="78" y="107"/>
                    </a:lnTo>
                    <a:lnTo>
                      <a:pt x="39" y="98"/>
                    </a:lnTo>
                    <a:lnTo>
                      <a:pt x="15" y="88"/>
                    </a:lnTo>
                    <a:lnTo>
                      <a:pt x="0" y="78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5" y="88"/>
                    </a:lnTo>
                    <a:lnTo>
                      <a:pt x="20" y="98"/>
                    </a:lnTo>
                    <a:lnTo>
                      <a:pt x="39" y="107"/>
                    </a:lnTo>
                    <a:lnTo>
                      <a:pt x="68" y="122"/>
                    </a:lnTo>
                    <a:lnTo>
                      <a:pt x="107" y="127"/>
                    </a:lnTo>
                    <a:lnTo>
                      <a:pt x="151" y="132"/>
                    </a:lnTo>
                    <a:lnTo>
                      <a:pt x="195" y="127"/>
                    </a:lnTo>
                    <a:lnTo>
                      <a:pt x="249" y="112"/>
                    </a:lnTo>
                    <a:lnTo>
                      <a:pt x="249" y="112"/>
                    </a:lnTo>
                    <a:lnTo>
                      <a:pt x="287" y="93"/>
                    </a:lnTo>
                    <a:lnTo>
                      <a:pt x="317" y="73"/>
                    </a:lnTo>
                    <a:lnTo>
                      <a:pt x="331" y="49"/>
                    </a:lnTo>
                    <a:lnTo>
                      <a:pt x="336" y="39"/>
                    </a:lnTo>
                    <a:lnTo>
                      <a:pt x="336" y="25"/>
                    </a:lnTo>
                    <a:lnTo>
                      <a:pt x="336" y="25"/>
                    </a:lnTo>
                    <a:lnTo>
                      <a:pt x="326" y="10"/>
                    </a:lnTo>
                    <a:lnTo>
                      <a:pt x="321" y="0"/>
                    </a:lnTo>
                    <a:lnTo>
                      <a:pt x="312" y="0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 rot="11716200">
                <a:off x="3380760" y="2286360"/>
                <a:ext cx="146520" cy="153360"/>
              </a:xfrm>
              <a:custGeom>
                <a:avLst/>
                <a:gdLst/>
                <a:ahLst/>
                <a:rect l="l" t="t" r="r" b="b"/>
                <a:pathLst>
                  <a:path w="200" h="155">
                    <a:moveTo>
                      <a:pt x="146" y="9"/>
                    </a:moveTo>
                    <a:lnTo>
                      <a:pt x="146" y="9"/>
                    </a:lnTo>
                    <a:lnTo>
                      <a:pt x="151" y="9"/>
                    </a:lnTo>
                    <a:lnTo>
                      <a:pt x="166" y="9"/>
                    </a:lnTo>
                    <a:lnTo>
                      <a:pt x="176" y="14"/>
                    </a:lnTo>
                    <a:lnTo>
                      <a:pt x="185" y="19"/>
                    </a:lnTo>
                    <a:lnTo>
                      <a:pt x="185" y="29"/>
                    </a:lnTo>
                    <a:lnTo>
                      <a:pt x="185" y="29"/>
                    </a:lnTo>
                    <a:lnTo>
                      <a:pt x="190" y="43"/>
                    </a:lnTo>
                    <a:lnTo>
                      <a:pt x="185" y="58"/>
                    </a:lnTo>
                    <a:lnTo>
                      <a:pt x="171" y="82"/>
                    </a:lnTo>
                    <a:lnTo>
                      <a:pt x="151" y="107"/>
                    </a:lnTo>
                    <a:lnTo>
                      <a:pt x="132" y="126"/>
                    </a:lnTo>
                    <a:lnTo>
                      <a:pt x="132" y="126"/>
                    </a:lnTo>
                    <a:lnTo>
                      <a:pt x="103" y="141"/>
                    </a:lnTo>
                    <a:lnTo>
                      <a:pt x="69" y="150"/>
                    </a:lnTo>
                    <a:lnTo>
                      <a:pt x="34" y="155"/>
                    </a:lnTo>
                    <a:lnTo>
                      <a:pt x="5" y="155"/>
                    </a:lnTo>
                    <a:lnTo>
                      <a:pt x="5" y="155"/>
                    </a:lnTo>
                    <a:lnTo>
                      <a:pt x="0" y="155"/>
                    </a:lnTo>
                    <a:lnTo>
                      <a:pt x="15" y="155"/>
                    </a:lnTo>
                    <a:lnTo>
                      <a:pt x="44" y="155"/>
                    </a:lnTo>
                    <a:lnTo>
                      <a:pt x="78" y="155"/>
                    </a:lnTo>
                    <a:lnTo>
                      <a:pt x="78" y="155"/>
                    </a:lnTo>
                    <a:lnTo>
                      <a:pt x="112" y="145"/>
                    </a:lnTo>
                    <a:lnTo>
                      <a:pt x="141" y="131"/>
                    </a:lnTo>
                    <a:lnTo>
                      <a:pt x="171" y="107"/>
                    </a:lnTo>
                    <a:lnTo>
                      <a:pt x="180" y="92"/>
                    </a:lnTo>
                    <a:lnTo>
                      <a:pt x="190" y="72"/>
                    </a:lnTo>
                    <a:lnTo>
                      <a:pt x="190" y="72"/>
                    </a:lnTo>
                    <a:lnTo>
                      <a:pt x="200" y="53"/>
                    </a:lnTo>
                    <a:lnTo>
                      <a:pt x="200" y="38"/>
                    </a:lnTo>
                    <a:lnTo>
                      <a:pt x="200" y="29"/>
                    </a:lnTo>
                    <a:lnTo>
                      <a:pt x="195" y="19"/>
                    </a:lnTo>
                    <a:lnTo>
                      <a:pt x="185" y="4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6" y="0"/>
                    </a:lnTo>
                    <a:lnTo>
                      <a:pt x="151" y="4"/>
                    </a:lnTo>
                    <a:lnTo>
                      <a:pt x="146" y="9"/>
                    </a:lnTo>
                    <a:lnTo>
                      <a:pt x="14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rot="11716200">
                <a:off x="3391920" y="2653200"/>
                <a:ext cx="32040" cy="158400"/>
              </a:xfrm>
              <a:custGeom>
                <a:avLst/>
                <a:gdLst/>
                <a:ahLst/>
                <a:rect l="l" t="t" r="r" b="b"/>
                <a:pathLst>
                  <a:path w="44" h="160">
                    <a:moveTo>
                      <a:pt x="34" y="0"/>
                    </a:moveTo>
                    <a:lnTo>
                      <a:pt x="34" y="0"/>
                    </a:lnTo>
                    <a:lnTo>
                      <a:pt x="29" y="10"/>
                    </a:lnTo>
                    <a:lnTo>
                      <a:pt x="20" y="34"/>
                    </a:lnTo>
                    <a:lnTo>
                      <a:pt x="15" y="73"/>
                    </a:lnTo>
                    <a:lnTo>
                      <a:pt x="15" y="9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39" y="156"/>
                    </a:lnTo>
                    <a:lnTo>
                      <a:pt x="44" y="160"/>
                    </a:lnTo>
                    <a:lnTo>
                      <a:pt x="44" y="160"/>
                    </a:lnTo>
                    <a:lnTo>
                      <a:pt x="34" y="156"/>
                    </a:lnTo>
                    <a:lnTo>
                      <a:pt x="20" y="136"/>
                    </a:lnTo>
                    <a:lnTo>
                      <a:pt x="5" y="107"/>
                    </a:lnTo>
                    <a:lnTo>
                      <a:pt x="0" y="87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34"/>
                    </a:lnTo>
                    <a:lnTo>
                      <a:pt x="20" y="1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rot="11716200">
                <a:off x="3409920" y="2641680"/>
                <a:ext cx="35640" cy="53280"/>
              </a:xfrm>
              <a:custGeom>
                <a:avLst/>
                <a:gdLst/>
                <a:ahLst/>
                <a:rect l="l" t="t" r="r" b="b"/>
                <a:pathLst>
                  <a:path w="49" h="54">
                    <a:moveTo>
                      <a:pt x="0" y="0"/>
                    </a:moveTo>
                    <a:lnTo>
                      <a:pt x="0" y="0"/>
                    </a:lnTo>
                    <a:lnTo>
                      <a:pt x="15" y="20"/>
                    </a:lnTo>
                    <a:lnTo>
                      <a:pt x="29" y="39"/>
                    </a:lnTo>
                    <a:lnTo>
                      <a:pt x="44" y="49"/>
                    </a:lnTo>
                    <a:lnTo>
                      <a:pt x="44" y="49"/>
                    </a:lnTo>
                    <a:lnTo>
                      <a:pt x="49" y="54"/>
                    </a:lnTo>
                    <a:lnTo>
                      <a:pt x="39" y="54"/>
                    </a:lnTo>
                    <a:lnTo>
                      <a:pt x="25" y="44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5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rot="11716200">
                <a:off x="3689640" y="283104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68" y="19"/>
                    </a:moveTo>
                    <a:lnTo>
                      <a:pt x="68" y="19"/>
                    </a:lnTo>
                    <a:lnTo>
                      <a:pt x="73" y="29"/>
                    </a:lnTo>
                    <a:lnTo>
                      <a:pt x="73" y="44"/>
                    </a:lnTo>
                    <a:lnTo>
                      <a:pt x="63" y="58"/>
                    </a:lnTo>
                    <a:lnTo>
                      <a:pt x="54" y="68"/>
                    </a:lnTo>
                    <a:lnTo>
                      <a:pt x="54" y="68"/>
                    </a:lnTo>
                    <a:lnTo>
                      <a:pt x="39" y="73"/>
                    </a:lnTo>
                    <a:lnTo>
                      <a:pt x="24" y="73"/>
                    </a:lnTo>
                    <a:lnTo>
                      <a:pt x="15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39"/>
                    </a:lnTo>
                    <a:lnTo>
                      <a:pt x="0" y="24"/>
                    </a:lnTo>
                    <a:lnTo>
                      <a:pt x="5" y="1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9" y="0"/>
                    </a:lnTo>
                    <a:lnTo>
                      <a:pt x="44" y="0"/>
                    </a:lnTo>
                    <a:lnTo>
                      <a:pt x="58" y="5"/>
                    </a:lnTo>
                    <a:lnTo>
                      <a:pt x="68" y="19"/>
                    </a:lnTo>
                    <a:lnTo>
                      <a:pt x="68" y="19"/>
                    </a:lnTo>
                    <a:close/>
                  </a:path>
                </a:pathLst>
              </a:custGeom>
              <a:solidFill>
                <a:srgbClr val="17a7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4096440" y="1319760"/>
              <a:ext cx="41040" cy="4644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9"/>
                  </a:moveTo>
                  <a:lnTo>
                    <a:pt x="49" y="9"/>
                  </a:lnTo>
                  <a:lnTo>
                    <a:pt x="49" y="19"/>
                  </a:lnTo>
                  <a:lnTo>
                    <a:pt x="49" y="29"/>
                  </a:lnTo>
                  <a:lnTo>
                    <a:pt x="44" y="39"/>
                  </a:lnTo>
                  <a:lnTo>
                    <a:pt x="39" y="43"/>
                  </a:lnTo>
                  <a:lnTo>
                    <a:pt x="39" y="43"/>
                  </a:lnTo>
                  <a:lnTo>
                    <a:pt x="30" y="48"/>
                  </a:lnTo>
                  <a:lnTo>
                    <a:pt x="20" y="43"/>
                  </a:lnTo>
                  <a:lnTo>
                    <a:pt x="10" y="43"/>
                  </a:lnTo>
                  <a:lnTo>
                    <a:pt x="5" y="34"/>
                  </a:lnTo>
                  <a:lnTo>
                    <a:pt x="5" y="34"/>
                  </a:lnTo>
                  <a:lnTo>
                    <a:pt x="0" y="24"/>
                  </a:lnTo>
                  <a:lnTo>
                    <a:pt x="0" y="14"/>
                  </a:lnTo>
                  <a:lnTo>
                    <a:pt x="5" y="9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9" y="4"/>
                  </a:lnTo>
                  <a:lnTo>
                    <a:pt x="49" y="9"/>
                  </a:lnTo>
                  <a:lnTo>
                    <a:pt x="49" y="9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61960" y="1352880"/>
              <a:ext cx="28440" cy="277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9" y="5"/>
                  </a:moveTo>
                  <a:lnTo>
                    <a:pt x="29" y="5"/>
                  </a:lnTo>
                  <a:lnTo>
                    <a:pt x="34" y="1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15" y="29"/>
                  </a:lnTo>
                  <a:lnTo>
                    <a:pt x="5" y="24"/>
                  </a:lnTo>
                  <a:lnTo>
                    <a:pt x="5" y="24"/>
                  </a:lnTo>
                  <a:lnTo>
                    <a:pt x="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17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ate 2 times that you would use the formal in Germa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f Wiedersehen, Tschüs, Bis dann, 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bist du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John is talking to Tyler, formal or informal…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/ 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- 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 and goodby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l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hr gut, Super, Fantastisch, Toll, Prima, Wunderb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lecht, sehr schlecht, miserabel, nicht gu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f you are talking to Queen Elizabeth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kay, so la la, fein, gut, es geht, nicht schle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chlech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ima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a child is talking to an adult, talking to a boss, the president or queen, authority figures, your elder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 (Answer needed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Thomas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Or 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ist die Liese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ist da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Taylor Swift is talking to Barack Obam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445320" y="2712960"/>
            <a:ext cx="825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ke, gut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geht’s or Wie geht es Ihnen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Casey is talking to her mom,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-bye.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o are you?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udsd</cp:lastModifiedBy>
  <dcterms:modified xsi:type="dcterms:W3CDTF">2010-12-13T20:23:04Z</dcterms:modified>
  <cp:revision>35</cp:revision>
  <dc:subject/>
  <dc:title>PowerPoint Presentation</dc:title>
</cp:coreProperties>
</file>